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48.jpeg" ContentType="image/jpeg"/>
  <Override PartName="/ppt/media/image12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6500" cy="10691813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262-9839-4356-8EFE-0147A617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52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4C3-4453-4DDF-8C1E-85D24980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5A4-6EDB-49B4-A433-00D8F1F8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017-7657-4F00-AAAC-B9B8E3F5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00D-7154-4385-83AE-91033C01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E6AD-4DB3-48CB-B70D-253FADE7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D48-2966-4500-9BE5-3D06213E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7B27-912F-41CC-8AB6-6D536699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960"/>
            <a:ext cx="6806880" cy="79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9CB-3741-4D61-9464-ADC82CA3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B82-36CB-4A2B-9E17-A7487B21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E3CC-E0AF-4DC5-8680-BE6CDD99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1C1-B588-4D53-88FF-A7BCC2DC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71840" y="9944280"/>
            <a:ext cx="24192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7640" y="994428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44640" y="994428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4F0B-A6E1-4E55-9DD9-EA632E2BADCD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jpeg"/><Relationship Id="rId24" Type="http://schemas.openxmlformats.org/officeDocument/2006/relationships/image" Target="../media/image20.jpe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25.png"/><Relationship Id="rId30" Type="http://schemas.openxmlformats.org/officeDocument/2006/relationships/image" Target="../media/image26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31.png"/><Relationship Id="rId36" Type="http://schemas.openxmlformats.org/officeDocument/2006/relationships/image" Target="../media/image21.png"/><Relationship Id="rId37" Type="http://schemas.openxmlformats.org/officeDocument/2006/relationships/image" Target="../media/image32.png"/><Relationship Id="rId38" Type="http://schemas.openxmlformats.org/officeDocument/2006/relationships/image" Target="../media/image33.png"/><Relationship Id="rId39" Type="http://schemas.openxmlformats.org/officeDocument/2006/relationships/image" Target="../media/image34.png"/><Relationship Id="rId40" Type="http://schemas.openxmlformats.org/officeDocument/2006/relationships/image" Target="../media/image21.png"/><Relationship Id="rId41" Type="http://schemas.openxmlformats.org/officeDocument/2006/relationships/image" Target="../media/image35.png"/><Relationship Id="rId42" Type="http://schemas.openxmlformats.org/officeDocument/2006/relationships/image" Target="../media/image36.png"/><Relationship Id="rId43" Type="http://schemas.openxmlformats.org/officeDocument/2006/relationships/image" Target="../media/image37.png"/><Relationship Id="rId44" Type="http://schemas.openxmlformats.org/officeDocument/2006/relationships/image" Target="../media/image38.png"/><Relationship Id="rId45" Type="http://schemas.openxmlformats.org/officeDocument/2006/relationships/image" Target="../media/image39.png"/><Relationship Id="rId46" Type="http://schemas.openxmlformats.org/officeDocument/2006/relationships/image" Target="../media/image40.png"/><Relationship Id="rId47" Type="http://schemas.openxmlformats.org/officeDocument/2006/relationships/image" Target="../media/image41.png"/><Relationship Id="rId48" Type="http://schemas.openxmlformats.org/officeDocument/2006/relationships/image" Target="../media/image42.jpeg"/><Relationship Id="rId49" Type="http://schemas.openxmlformats.org/officeDocument/2006/relationships/image" Target="../media/image43.jpeg"/><Relationship Id="rId50" Type="http://schemas.openxmlformats.org/officeDocument/2006/relationships/image" Target="../media/image44.jpeg"/><Relationship Id="rId51" Type="http://schemas.openxmlformats.org/officeDocument/2006/relationships/image" Target="../media/image45.jpeg"/><Relationship Id="rId52" Type="http://schemas.openxmlformats.org/officeDocument/2006/relationships/image" Target="../media/image46.jpeg"/><Relationship Id="rId53" Type="http://schemas.openxmlformats.org/officeDocument/2006/relationships/image" Target="../media/image47.jpeg"/><Relationship Id="rId54" Type="http://schemas.openxmlformats.org/officeDocument/2006/relationships/image" Target="../media/image48.jpeg"/><Relationship Id="rId55" Type="http://schemas.openxmlformats.org/officeDocument/2006/relationships/image" Target="../media/image49.jpeg"/><Relationship Id="rId5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128"/>
          <p:cNvGrpSpPr/>
          <p:nvPr/>
        </p:nvGrpSpPr>
        <p:grpSpPr>
          <a:xfrm>
            <a:off x="0" y="0"/>
            <a:ext cx="7559640" cy="10691640"/>
            <a:chOff x="0" y="0"/>
            <a:chExt cx="7559640" cy="10691640"/>
          </a:xfrm>
        </p:grpSpPr>
        <p:sp>
          <p:nvSpPr>
            <p:cNvPr id="42" name="object 2"/>
            <p:cNvSpPr/>
            <p:nvPr/>
          </p:nvSpPr>
          <p:spPr>
            <a:xfrm>
              <a:off x="0" y="0"/>
              <a:ext cx="7559640" cy="106560"/>
            </a:xfrm>
            <a:custGeom>
              <a:avLst/>
              <a:gdLst/>
              <a:ahLst/>
              <a:rect l="l" t="t" r="r" b="b"/>
              <a:pathLst>
                <a:path w="7560309" h="106680">
                  <a:moveTo>
                    <a:pt x="0" y="106667"/>
                  </a:moveTo>
                  <a:lnTo>
                    <a:pt x="7559992" y="106667"/>
                  </a:lnTo>
                  <a:lnTo>
                    <a:pt x="7559992" y="0"/>
                  </a:lnTo>
                  <a:lnTo>
                    <a:pt x="0" y="0"/>
                  </a:lnTo>
                  <a:lnTo>
                    <a:pt x="0" y="106667"/>
                  </a:ln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bject 3"/>
            <p:cNvSpPr/>
            <p:nvPr/>
          </p:nvSpPr>
          <p:spPr>
            <a:xfrm>
              <a:off x="0" y="1078560"/>
              <a:ext cx="7559640" cy="9613080"/>
            </a:xfrm>
            <a:custGeom>
              <a:avLst/>
              <a:gdLst/>
              <a:ahLst/>
              <a:rect l="l" t="t" r="r" b="b"/>
              <a:pathLst>
                <a:path w="7560309" h="9613900">
                  <a:moveTo>
                    <a:pt x="0" y="9613328"/>
                  </a:moveTo>
                  <a:lnTo>
                    <a:pt x="7559992" y="9613328"/>
                  </a:lnTo>
                  <a:lnTo>
                    <a:pt x="7559992" y="0"/>
                  </a:lnTo>
                  <a:lnTo>
                    <a:pt x="0" y="0"/>
                  </a:lnTo>
                  <a:lnTo>
                    <a:pt x="0" y="9613328"/>
                  </a:ln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bject 4"/>
            <p:cNvSpPr/>
            <p:nvPr/>
          </p:nvSpPr>
          <p:spPr>
            <a:xfrm>
              <a:off x="0" y="106560"/>
              <a:ext cx="7559640" cy="972000"/>
            </a:xfrm>
            <a:custGeom>
              <a:avLst/>
              <a:gdLst/>
              <a:ahLst/>
              <a:rect l="l" t="t" r="r" b="b"/>
              <a:pathLst>
                <a:path w="7560309" h="972185">
                  <a:moveTo>
                    <a:pt x="7559992" y="0"/>
                  </a:moveTo>
                  <a:lnTo>
                    <a:pt x="0" y="0"/>
                  </a:lnTo>
                  <a:lnTo>
                    <a:pt x="0" y="972007"/>
                  </a:lnTo>
                  <a:lnTo>
                    <a:pt x="7559992" y="972007"/>
                  </a:lnTo>
                  <a:lnTo>
                    <a:pt x="7559992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bject 5"/>
            <p:cNvSpPr/>
            <p:nvPr/>
          </p:nvSpPr>
          <p:spPr>
            <a:xfrm>
              <a:off x="180000" y="4937760"/>
              <a:ext cx="7199640" cy="827640"/>
            </a:xfrm>
            <a:custGeom>
              <a:avLst/>
              <a:gdLst/>
              <a:ahLst/>
              <a:rect l="l" t="t" r="r" b="b"/>
              <a:pathLst>
                <a:path w="7200265" h="828039">
                  <a:moveTo>
                    <a:pt x="7199998" y="0"/>
                  </a:moveTo>
                  <a:lnTo>
                    <a:pt x="0" y="0"/>
                  </a:lnTo>
                  <a:lnTo>
                    <a:pt x="0" y="828001"/>
                  </a:lnTo>
                  <a:lnTo>
                    <a:pt x="7199998" y="828001"/>
                  </a:lnTo>
                  <a:lnTo>
                    <a:pt x="7199998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bject 6"/>
            <p:cNvSpPr/>
            <p:nvPr/>
          </p:nvSpPr>
          <p:spPr>
            <a:xfrm>
              <a:off x="179640" y="5765040"/>
              <a:ext cx="7199640" cy="1188360"/>
            </a:xfrm>
            <a:custGeom>
              <a:avLst/>
              <a:gdLst/>
              <a:ahLst/>
              <a:rect l="l" t="t" r="r" b="b"/>
              <a:pathLst>
                <a:path w="7200265" h="1188720">
                  <a:moveTo>
                    <a:pt x="7200011" y="0"/>
                  </a:moveTo>
                  <a:lnTo>
                    <a:pt x="0" y="0"/>
                  </a:lnTo>
                  <a:lnTo>
                    <a:pt x="0" y="5080"/>
                  </a:lnTo>
                  <a:lnTo>
                    <a:pt x="0" y="1183640"/>
                  </a:lnTo>
                  <a:lnTo>
                    <a:pt x="0" y="1188720"/>
                  </a:lnTo>
                  <a:lnTo>
                    <a:pt x="7200011" y="1188720"/>
                  </a:lnTo>
                  <a:lnTo>
                    <a:pt x="7200011" y="1183970"/>
                  </a:lnTo>
                  <a:lnTo>
                    <a:pt x="7200011" y="1183640"/>
                  </a:lnTo>
                  <a:lnTo>
                    <a:pt x="7200011" y="5105"/>
                  </a:lnTo>
                  <a:lnTo>
                    <a:pt x="7195439" y="5105"/>
                  </a:lnTo>
                  <a:lnTo>
                    <a:pt x="7195439" y="1183640"/>
                  </a:lnTo>
                  <a:lnTo>
                    <a:pt x="4572" y="1183640"/>
                  </a:lnTo>
                  <a:lnTo>
                    <a:pt x="4572" y="5080"/>
                  </a:lnTo>
                  <a:lnTo>
                    <a:pt x="7200011" y="508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bject 7"/>
            <p:cNvSpPr/>
            <p:nvPr/>
          </p:nvSpPr>
          <p:spPr>
            <a:xfrm>
              <a:off x="179640" y="6953760"/>
              <a:ext cx="7199640" cy="1187280"/>
            </a:xfrm>
            <a:custGeom>
              <a:avLst/>
              <a:gdLst/>
              <a:ahLst/>
              <a:rect l="l" t="t" r="r" b="b"/>
              <a:pathLst>
                <a:path w="7200265" h="1187450">
                  <a:moveTo>
                    <a:pt x="7200011" y="4381"/>
                  </a:moveTo>
                  <a:lnTo>
                    <a:pt x="7195439" y="4381"/>
                  </a:lnTo>
                  <a:lnTo>
                    <a:pt x="7195439" y="1183246"/>
                  </a:lnTo>
                  <a:lnTo>
                    <a:pt x="7200011" y="1183246"/>
                  </a:lnTo>
                  <a:lnTo>
                    <a:pt x="7200011" y="4381"/>
                  </a:lnTo>
                  <a:close/>
                </a:path>
                <a:path w="7200265" h="1187450">
                  <a:moveTo>
                    <a:pt x="7200011" y="0"/>
                  </a:moveTo>
                  <a:lnTo>
                    <a:pt x="0" y="0"/>
                  </a:lnTo>
                  <a:lnTo>
                    <a:pt x="0" y="3810"/>
                  </a:lnTo>
                  <a:lnTo>
                    <a:pt x="0" y="1183640"/>
                  </a:lnTo>
                  <a:lnTo>
                    <a:pt x="0" y="1187450"/>
                  </a:lnTo>
                  <a:lnTo>
                    <a:pt x="7200011" y="1187450"/>
                  </a:lnTo>
                  <a:lnTo>
                    <a:pt x="7200011" y="1183640"/>
                  </a:lnTo>
                  <a:lnTo>
                    <a:pt x="4572" y="1183640"/>
                  </a:lnTo>
                  <a:lnTo>
                    <a:pt x="4572" y="3810"/>
                  </a:lnTo>
                  <a:lnTo>
                    <a:pt x="7200011" y="381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bject 8"/>
            <p:cNvSpPr/>
            <p:nvPr/>
          </p:nvSpPr>
          <p:spPr>
            <a:xfrm>
              <a:off x="179640" y="8141400"/>
              <a:ext cx="7199640" cy="1188360"/>
            </a:xfrm>
            <a:custGeom>
              <a:avLst/>
              <a:gdLst/>
              <a:ahLst/>
              <a:rect l="l" t="t" r="r" b="b"/>
              <a:pathLst>
                <a:path w="7200265" h="1188720">
                  <a:moveTo>
                    <a:pt x="7200011" y="0"/>
                  </a:moveTo>
                  <a:lnTo>
                    <a:pt x="7195439" y="0"/>
                  </a:lnTo>
                  <a:lnTo>
                    <a:pt x="7195439" y="5080"/>
                  </a:lnTo>
                  <a:lnTo>
                    <a:pt x="7195439" y="1183640"/>
                  </a:lnTo>
                  <a:lnTo>
                    <a:pt x="4572" y="1183640"/>
                  </a:lnTo>
                  <a:lnTo>
                    <a:pt x="4572" y="5080"/>
                  </a:lnTo>
                  <a:lnTo>
                    <a:pt x="7195439" y="5080"/>
                  </a:lnTo>
                  <a:lnTo>
                    <a:pt x="7195439" y="0"/>
                  </a:lnTo>
                  <a:lnTo>
                    <a:pt x="0" y="0"/>
                  </a:lnTo>
                  <a:lnTo>
                    <a:pt x="0" y="5080"/>
                  </a:lnTo>
                  <a:lnTo>
                    <a:pt x="0" y="1183640"/>
                  </a:lnTo>
                  <a:lnTo>
                    <a:pt x="0" y="1188720"/>
                  </a:lnTo>
                  <a:lnTo>
                    <a:pt x="7200011" y="1188720"/>
                  </a:lnTo>
                  <a:lnTo>
                    <a:pt x="7200011" y="1183792"/>
                  </a:lnTo>
                  <a:lnTo>
                    <a:pt x="7200011" y="1183640"/>
                  </a:lnTo>
                  <a:lnTo>
                    <a:pt x="7200011" y="5080"/>
                  </a:lnTo>
                  <a:lnTo>
                    <a:pt x="7200011" y="494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bject 9"/>
            <p:cNvSpPr/>
            <p:nvPr/>
          </p:nvSpPr>
          <p:spPr>
            <a:xfrm>
              <a:off x="179640" y="9329760"/>
              <a:ext cx="7199640" cy="1187280"/>
            </a:xfrm>
            <a:custGeom>
              <a:avLst/>
              <a:gdLst/>
              <a:ahLst/>
              <a:rect l="l" t="t" r="r" b="b"/>
              <a:pathLst>
                <a:path w="7200265" h="1187450">
                  <a:moveTo>
                    <a:pt x="7200011" y="4229"/>
                  </a:moveTo>
                  <a:lnTo>
                    <a:pt x="7195426" y="4216"/>
                  </a:lnTo>
                  <a:lnTo>
                    <a:pt x="7195426" y="1183068"/>
                  </a:lnTo>
                  <a:lnTo>
                    <a:pt x="7200011" y="1183068"/>
                  </a:lnTo>
                  <a:lnTo>
                    <a:pt x="7200011" y="4229"/>
                  </a:lnTo>
                  <a:close/>
                </a:path>
                <a:path w="7200265" h="1187450">
                  <a:moveTo>
                    <a:pt x="7200011" y="0"/>
                  </a:moveTo>
                  <a:lnTo>
                    <a:pt x="0" y="0"/>
                  </a:lnTo>
                  <a:lnTo>
                    <a:pt x="0" y="3810"/>
                  </a:lnTo>
                  <a:lnTo>
                    <a:pt x="0" y="1183640"/>
                  </a:lnTo>
                  <a:lnTo>
                    <a:pt x="0" y="1187450"/>
                  </a:lnTo>
                  <a:lnTo>
                    <a:pt x="7200011" y="1187450"/>
                  </a:lnTo>
                  <a:lnTo>
                    <a:pt x="7200011" y="1183640"/>
                  </a:lnTo>
                  <a:lnTo>
                    <a:pt x="4572" y="1183640"/>
                  </a:lnTo>
                  <a:lnTo>
                    <a:pt x="4572" y="3810"/>
                  </a:lnTo>
                  <a:lnTo>
                    <a:pt x="7200011" y="381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object 10" descr=""/>
            <p:cNvPicPr/>
            <p:nvPr/>
          </p:nvPicPr>
          <p:blipFill>
            <a:blip r:embed="rId1"/>
            <a:stretch/>
          </p:blipFill>
          <p:spPr>
            <a:xfrm>
              <a:off x="394560" y="5495400"/>
              <a:ext cx="162720" cy="1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object 11"/>
            <p:cNvSpPr/>
            <p:nvPr/>
          </p:nvSpPr>
          <p:spPr>
            <a:xfrm>
              <a:off x="640800" y="5602320"/>
              <a:ext cx="27720" cy="28440"/>
            </a:xfrm>
            <a:custGeom>
              <a:avLst/>
              <a:gdLst/>
              <a:ahLst/>
              <a:rect l="l" t="t" r="r" b="b"/>
              <a:pathLst>
                <a:path w="27940" h="28575">
                  <a:moveTo>
                    <a:pt x="27355" y="0"/>
                  </a:moveTo>
                  <a:lnTo>
                    <a:pt x="0" y="0"/>
                  </a:lnTo>
                  <a:lnTo>
                    <a:pt x="0" y="28257"/>
                  </a:lnTo>
                  <a:lnTo>
                    <a:pt x="27355" y="28257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bject 12"/>
            <p:cNvSpPr/>
            <p:nvPr/>
          </p:nvSpPr>
          <p:spPr>
            <a:xfrm>
              <a:off x="640800" y="5527080"/>
              <a:ext cx="27720" cy="28440"/>
            </a:xfrm>
            <a:custGeom>
              <a:avLst/>
              <a:gdLst/>
              <a:ahLst/>
              <a:rect l="l" t="t" r="r" b="b"/>
              <a:pathLst>
                <a:path w="27940" h="28575">
                  <a:moveTo>
                    <a:pt x="27355" y="0"/>
                  </a:moveTo>
                  <a:lnTo>
                    <a:pt x="0" y="0"/>
                  </a:lnTo>
                  <a:lnTo>
                    <a:pt x="0" y="28282"/>
                  </a:lnTo>
                  <a:lnTo>
                    <a:pt x="27355" y="28282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object 13"/>
            <p:cNvGrpSpPr/>
            <p:nvPr/>
          </p:nvGrpSpPr>
          <p:grpSpPr>
            <a:xfrm>
              <a:off x="752400" y="5501520"/>
              <a:ext cx="753480" cy="145800"/>
              <a:chOff x="752400" y="5501520"/>
              <a:chExt cx="753480" cy="145800"/>
            </a:xfrm>
          </p:grpSpPr>
          <p:pic>
            <p:nvPicPr>
              <p:cNvPr id="54" name="object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752400" y="5501520"/>
                <a:ext cx="256320" cy="14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object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102888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object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9880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object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89600" y="5518080"/>
                <a:ext cx="116280" cy="116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object 18"/>
            <p:cNvGrpSpPr/>
            <p:nvPr/>
          </p:nvGrpSpPr>
          <p:grpSpPr>
            <a:xfrm>
              <a:off x="1589760" y="5494680"/>
              <a:ext cx="331920" cy="166680"/>
              <a:chOff x="1589760" y="5494680"/>
              <a:chExt cx="331920" cy="166680"/>
            </a:xfrm>
          </p:grpSpPr>
          <p:pic>
            <p:nvPicPr>
              <p:cNvPr id="59" name="object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1589760" y="5494680"/>
                <a:ext cx="16488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object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1779480" y="5496480"/>
                <a:ext cx="142200" cy="16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object 21"/>
            <p:cNvGrpSpPr/>
            <p:nvPr/>
          </p:nvGrpSpPr>
          <p:grpSpPr>
            <a:xfrm>
              <a:off x="1995480" y="5501160"/>
              <a:ext cx="217080" cy="149760"/>
              <a:chOff x="1995480" y="5501160"/>
              <a:chExt cx="217080" cy="149760"/>
            </a:xfrm>
          </p:grpSpPr>
          <p:pic>
            <p:nvPicPr>
              <p:cNvPr id="62" name="object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1995480" y="5501160"/>
                <a:ext cx="118440" cy="14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object 23"/>
              <p:cNvSpPr/>
              <p:nvPr/>
            </p:nvSpPr>
            <p:spPr>
              <a:xfrm>
                <a:off x="2154960" y="5505120"/>
                <a:ext cx="57600" cy="142200"/>
              </a:xfrm>
              <a:custGeom>
                <a:avLst/>
                <a:gdLst/>
                <a:ahLst/>
                <a:rect l="l" t="t" r="r" b="b"/>
                <a:pathLst>
                  <a:path w="57785" h="142239">
                    <a:moveTo>
                      <a:pt x="57251" y="0"/>
                    </a:moveTo>
                    <a:lnTo>
                      <a:pt x="35826" y="0"/>
                    </a:lnTo>
                    <a:lnTo>
                      <a:pt x="29698" y="14032"/>
                    </a:lnTo>
                    <a:lnTo>
                      <a:pt x="21223" y="21788"/>
                    </a:lnTo>
                    <a:lnTo>
                      <a:pt x="11093" y="25222"/>
                    </a:lnTo>
                    <a:lnTo>
                      <a:pt x="0" y="26289"/>
                    </a:lnTo>
                    <a:lnTo>
                      <a:pt x="0" y="46088"/>
                    </a:lnTo>
                    <a:lnTo>
                      <a:pt x="30251" y="46088"/>
                    </a:lnTo>
                    <a:lnTo>
                      <a:pt x="30251" y="141859"/>
                    </a:lnTo>
                    <a:lnTo>
                      <a:pt x="57251" y="141859"/>
                    </a:lnTo>
                    <a:lnTo>
                      <a:pt x="572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object 24"/>
            <p:cNvGrpSpPr/>
            <p:nvPr/>
          </p:nvGrpSpPr>
          <p:grpSpPr>
            <a:xfrm>
              <a:off x="2271600" y="5540040"/>
              <a:ext cx="317880" cy="107280"/>
              <a:chOff x="2271600" y="5540040"/>
              <a:chExt cx="317880" cy="107280"/>
            </a:xfrm>
          </p:grpSpPr>
          <p:pic>
            <p:nvPicPr>
              <p:cNvPr id="65" name="object 25" descr=""/>
              <p:cNvPicPr/>
              <p:nvPr/>
            </p:nvPicPr>
            <p:blipFill>
              <a:blip r:embed="rId9"/>
              <a:stretch/>
            </p:blipFill>
            <p:spPr>
              <a:xfrm>
                <a:off x="227160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4188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object 27"/>
            <p:cNvSpPr/>
            <p:nvPr/>
          </p:nvSpPr>
          <p:spPr>
            <a:xfrm>
              <a:off x="2721960" y="5492520"/>
              <a:ext cx="837360" cy="172440"/>
            </a:xfrm>
            <a:custGeom>
              <a:avLst/>
              <a:gdLst/>
              <a:ahLst/>
              <a:rect l="l" t="t" r="r" b="b"/>
              <a:pathLst>
                <a:path w="837564" h="172720">
                  <a:moveTo>
                    <a:pt x="48793" y="12065"/>
                  </a:moveTo>
                  <a:lnTo>
                    <a:pt x="6578" y="45808"/>
                  </a:lnTo>
                  <a:lnTo>
                    <a:pt x="0" y="86055"/>
                  </a:lnTo>
                  <a:lnTo>
                    <a:pt x="1358" y="104800"/>
                  </a:lnTo>
                  <a:lnTo>
                    <a:pt x="6578" y="126326"/>
                  </a:lnTo>
                  <a:lnTo>
                    <a:pt x="17373" y="149237"/>
                  </a:lnTo>
                  <a:lnTo>
                    <a:pt x="35458" y="172123"/>
                  </a:lnTo>
                  <a:lnTo>
                    <a:pt x="48793" y="160045"/>
                  </a:lnTo>
                  <a:lnTo>
                    <a:pt x="40284" y="150418"/>
                  </a:lnTo>
                  <a:lnTo>
                    <a:pt x="30175" y="135216"/>
                  </a:lnTo>
                  <a:lnTo>
                    <a:pt x="21717" y="113931"/>
                  </a:lnTo>
                  <a:lnTo>
                    <a:pt x="18186" y="86055"/>
                  </a:lnTo>
                  <a:lnTo>
                    <a:pt x="21717" y="58204"/>
                  </a:lnTo>
                  <a:lnTo>
                    <a:pt x="30175" y="36918"/>
                  </a:lnTo>
                  <a:lnTo>
                    <a:pt x="40284" y="21704"/>
                  </a:lnTo>
                  <a:lnTo>
                    <a:pt x="48793" y="12065"/>
                  </a:lnTo>
                  <a:close/>
                </a:path>
                <a:path w="837564" h="172720">
                  <a:moveTo>
                    <a:pt x="125806" y="120637"/>
                  </a:moveTo>
                  <a:lnTo>
                    <a:pt x="124917" y="119913"/>
                  </a:lnTo>
                  <a:lnTo>
                    <a:pt x="124015" y="119367"/>
                  </a:lnTo>
                  <a:lnTo>
                    <a:pt x="104203" y="108927"/>
                  </a:lnTo>
                  <a:lnTo>
                    <a:pt x="98564" y="118325"/>
                  </a:lnTo>
                  <a:lnTo>
                    <a:pt x="91528" y="127990"/>
                  </a:lnTo>
                  <a:lnTo>
                    <a:pt x="82511" y="138176"/>
                  </a:lnTo>
                  <a:lnTo>
                    <a:pt x="70904" y="149072"/>
                  </a:lnTo>
                  <a:lnTo>
                    <a:pt x="75577" y="151231"/>
                  </a:lnTo>
                  <a:lnTo>
                    <a:pt x="84226" y="156451"/>
                  </a:lnTo>
                  <a:lnTo>
                    <a:pt x="89801" y="161671"/>
                  </a:lnTo>
                  <a:lnTo>
                    <a:pt x="100101" y="151853"/>
                  </a:lnTo>
                  <a:lnTo>
                    <a:pt x="108775" y="141846"/>
                  </a:lnTo>
                  <a:lnTo>
                    <a:pt x="115646" y="132486"/>
                  </a:lnTo>
                  <a:lnTo>
                    <a:pt x="120586" y="124587"/>
                  </a:lnTo>
                  <a:lnTo>
                    <a:pt x="122034" y="124777"/>
                  </a:lnTo>
                  <a:lnTo>
                    <a:pt x="125806" y="125120"/>
                  </a:lnTo>
                  <a:lnTo>
                    <a:pt x="125806" y="124587"/>
                  </a:lnTo>
                  <a:lnTo>
                    <a:pt x="125806" y="120637"/>
                  </a:lnTo>
                  <a:close/>
                </a:path>
                <a:path w="837564" h="172720">
                  <a:moveTo>
                    <a:pt x="226631" y="150876"/>
                  </a:moveTo>
                  <a:lnTo>
                    <a:pt x="220103" y="141719"/>
                  </a:lnTo>
                  <a:lnTo>
                    <a:pt x="210439" y="129971"/>
                  </a:lnTo>
                  <a:lnTo>
                    <a:pt x="199301" y="118300"/>
                  </a:lnTo>
                  <a:lnTo>
                    <a:pt x="188468" y="109474"/>
                  </a:lnTo>
                  <a:lnTo>
                    <a:pt x="171729" y="122250"/>
                  </a:lnTo>
                  <a:lnTo>
                    <a:pt x="181635" y="131203"/>
                  </a:lnTo>
                  <a:lnTo>
                    <a:pt x="191376" y="141846"/>
                  </a:lnTo>
                  <a:lnTo>
                    <a:pt x="199986" y="152806"/>
                  </a:lnTo>
                  <a:lnTo>
                    <a:pt x="207187" y="163474"/>
                  </a:lnTo>
                  <a:lnTo>
                    <a:pt x="211505" y="159512"/>
                  </a:lnTo>
                  <a:lnTo>
                    <a:pt x="220332" y="153581"/>
                  </a:lnTo>
                  <a:lnTo>
                    <a:pt x="226631" y="150876"/>
                  </a:lnTo>
                  <a:close/>
                </a:path>
                <a:path w="837564" h="172720">
                  <a:moveTo>
                    <a:pt x="235280" y="50063"/>
                  </a:moveTo>
                  <a:lnTo>
                    <a:pt x="207238" y="39878"/>
                  </a:lnTo>
                  <a:lnTo>
                    <a:pt x="189001" y="30162"/>
                  </a:lnTo>
                  <a:lnTo>
                    <a:pt x="189001" y="53289"/>
                  </a:lnTo>
                  <a:lnTo>
                    <a:pt x="108889" y="53289"/>
                  </a:lnTo>
                  <a:lnTo>
                    <a:pt x="118237" y="47028"/>
                  </a:lnTo>
                  <a:lnTo>
                    <a:pt x="129400" y="38811"/>
                  </a:lnTo>
                  <a:lnTo>
                    <a:pt x="140169" y="29908"/>
                  </a:lnTo>
                  <a:lnTo>
                    <a:pt x="148323" y="21615"/>
                  </a:lnTo>
                  <a:lnTo>
                    <a:pt x="159791" y="33350"/>
                  </a:lnTo>
                  <a:lnTo>
                    <a:pt x="171767" y="42722"/>
                  </a:lnTo>
                  <a:lnTo>
                    <a:pt x="182181" y="49466"/>
                  </a:lnTo>
                  <a:lnTo>
                    <a:pt x="189001" y="53289"/>
                  </a:lnTo>
                  <a:lnTo>
                    <a:pt x="189001" y="30162"/>
                  </a:lnTo>
                  <a:lnTo>
                    <a:pt x="184962" y="28003"/>
                  </a:lnTo>
                  <a:lnTo>
                    <a:pt x="176098" y="21615"/>
                  </a:lnTo>
                  <a:lnTo>
                    <a:pt x="169621" y="16941"/>
                  </a:lnTo>
                  <a:lnTo>
                    <a:pt x="162356" y="9194"/>
                  </a:lnTo>
                  <a:lnTo>
                    <a:pt x="163436" y="8128"/>
                  </a:lnTo>
                  <a:lnTo>
                    <a:pt x="165049" y="6667"/>
                  </a:lnTo>
                  <a:lnTo>
                    <a:pt x="165049" y="4699"/>
                  </a:lnTo>
                  <a:lnTo>
                    <a:pt x="163436" y="3797"/>
                  </a:lnTo>
                  <a:lnTo>
                    <a:pt x="161099" y="3606"/>
                  </a:lnTo>
                  <a:lnTo>
                    <a:pt x="138772" y="1270"/>
                  </a:lnTo>
                  <a:lnTo>
                    <a:pt x="130606" y="10579"/>
                  </a:lnTo>
                  <a:lnTo>
                    <a:pt x="115544" y="24003"/>
                  </a:lnTo>
                  <a:lnTo>
                    <a:pt x="92798" y="39255"/>
                  </a:lnTo>
                  <a:lnTo>
                    <a:pt x="61544" y="54025"/>
                  </a:lnTo>
                  <a:lnTo>
                    <a:pt x="65138" y="57264"/>
                  </a:lnTo>
                  <a:lnTo>
                    <a:pt x="72339" y="64998"/>
                  </a:lnTo>
                  <a:lnTo>
                    <a:pt x="75768" y="71297"/>
                  </a:lnTo>
                  <a:lnTo>
                    <a:pt x="80479" y="69113"/>
                  </a:lnTo>
                  <a:lnTo>
                    <a:pt x="86563" y="66103"/>
                  </a:lnTo>
                  <a:lnTo>
                    <a:pt x="94399" y="61912"/>
                  </a:lnTo>
                  <a:lnTo>
                    <a:pt x="104394" y="56184"/>
                  </a:lnTo>
                  <a:lnTo>
                    <a:pt x="104394" y="72732"/>
                  </a:lnTo>
                  <a:lnTo>
                    <a:pt x="138417" y="72732"/>
                  </a:lnTo>
                  <a:lnTo>
                    <a:pt x="138417" y="87147"/>
                  </a:lnTo>
                  <a:lnTo>
                    <a:pt x="75946" y="87147"/>
                  </a:lnTo>
                  <a:lnTo>
                    <a:pt x="75946" y="107124"/>
                  </a:lnTo>
                  <a:lnTo>
                    <a:pt x="138417" y="107124"/>
                  </a:lnTo>
                  <a:lnTo>
                    <a:pt x="138417" y="147993"/>
                  </a:lnTo>
                  <a:lnTo>
                    <a:pt x="135178" y="148361"/>
                  </a:lnTo>
                  <a:lnTo>
                    <a:pt x="128333" y="148361"/>
                  </a:lnTo>
                  <a:lnTo>
                    <a:pt x="120053" y="147637"/>
                  </a:lnTo>
                  <a:lnTo>
                    <a:pt x="117348" y="147447"/>
                  </a:lnTo>
                  <a:lnTo>
                    <a:pt x="122580" y="153936"/>
                  </a:lnTo>
                  <a:lnTo>
                    <a:pt x="126174" y="164020"/>
                  </a:lnTo>
                  <a:lnTo>
                    <a:pt x="127254" y="169430"/>
                  </a:lnTo>
                  <a:lnTo>
                    <a:pt x="136525" y="169202"/>
                  </a:lnTo>
                  <a:lnTo>
                    <a:pt x="147447" y="166941"/>
                  </a:lnTo>
                  <a:lnTo>
                    <a:pt x="156565" y="161112"/>
                  </a:lnTo>
                  <a:lnTo>
                    <a:pt x="160375" y="150152"/>
                  </a:lnTo>
                  <a:lnTo>
                    <a:pt x="160375" y="148361"/>
                  </a:lnTo>
                  <a:lnTo>
                    <a:pt x="160375" y="107124"/>
                  </a:lnTo>
                  <a:lnTo>
                    <a:pt x="220332" y="107124"/>
                  </a:lnTo>
                  <a:lnTo>
                    <a:pt x="220332" y="87147"/>
                  </a:lnTo>
                  <a:lnTo>
                    <a:pt x="160375" y="87147"/>
                  </a:lnTo>
                  <a:lnTo>
                    <a:pt x="160375" y="72732"/>
                  </a:lnTo>
                  <a:lnTo>
                    <a:pt x="193141" y="72732"/>
                  </a:lnTo>
                  <a:lnTo>
                    <a:pt x="193141" y="56184"/>
                  </a:lnTo>
                  <a:lnTo>
                    <a:pt x="193141" y="55460"/>
                  </a:lnTo>
                  <a:lnTo>
                    <a:pt x="198589" y="58280"/>
                  </a:lnTo>
                  <a:lnTo>
                    <a:pt x="205422" y="61506"/>
                  </a:lnTo>
                  <a:lnTo>
                    <a:pt x="213537" y="65049"/>
                  </a:lnTo>
                  <a:lnTo>
                    <a:pt x="222846" y="68783"/>
                  </a:lnTo>
                  <a:lnTo>
                    <a:pt x="225552" y="61950"/>
                  </a:lnTo>
                  <a:lnTo>
                    <a:pt x="226987" y="60325"/>
                  </a:lnTo>
                  <a:lnTo>
                    <a:pt x="230911" y="55460"/>
                  </a:lnTo>
                  <a:lnTo>
                    <a:pt x="232664" y="53289"/>
                  </a:lnTo>
                  <a:lnTo>
                    <a:pt x="235280" y="50063"/>
                  </a:lnTo>
                  <a:close/>
                </a:path>
                <a:path w="837564" h="172720">
                  <a:moveTo>
                    <a:pt x="404114" y="27368"/>
                  </a:moveTo>
                  <a:lnTo>
                    <a:pt x="380339" y="27368"/>
                  </a:lnTo>
                  <a:lnTo>
                    <a:pt x="380339" y="47536"/>
                  </a:lnTo>
                  <a:lnTo>
                    <a:pt x="380339" y="81381"/>
                  </a:lnTo>
                  <a:lnTo>
                    <a:pt x="380339" y="101015"/>
                  </a:lnTo>
                  <a:lnTo>
                    <a:pt x="380339" y="137198"/>
                  </a:lnTo>
                  <a:lnTo>
                    <a:pt x="277368" y="137198"/>
                  </a:lnTo>
                  <a:lnTo>
                    <a:pt x="277368" y="101015"/>
                  </a:lnTo>
                  <a:lnTo>
                    <a:pt x="380339" y="101015"/>
                  </a:lnTo>
                  <a:lnTo>
                    <a:pt x="380339" y="81381"/>
                  </a:lnTo>
                  <a:lnTo>
                    <a:pt x="277368" y="81381"/>
                  </a:lnTo>
                  <a:lnTo>
                    <a:pt x="277368" y="47536"/>
                  </a:lnTo>
                  <a:lnTo>
                    <a:pt x="380339" y="47536"/>
                  </a:lnTo>
                  <a:lnTo>
                    <a:pt x="380339" y="27368"/>
                  </a:lnTo>
                  <a:lnTo>
                    <a:pt x="326694" y="27368"/>
                  </a:lnTo>
                  <a:lnTo>
                    <a:pt x="329031" y="23050"/>
                  </a:lnTo>
                  <a:lnTo>
                    <a:pt x="331914" y="16916"/>
                  </a:lnTo>
                  <a:lnTo>
                    <a:pt x="334810" y="10274"/>
                  </a:lnTo>
                  <a:lnTo>
                    <a:pt x="338213" y="9182"/>
                  </a:lnTo>
                  <a:lnTo>
                    <a:pt x="340017" y="8648"/>
                  </a:lnTo>
                  <a:lnTo>
                    <a:pt x="340017" y="5041"/>
                  </a:lnTo>
                  <a:lnTo>
                    <a:pt x="338759" y="4864"/>
                  </a:lnTo>
                  <a:lnTo>
                    <a:pt x="336778" y="4699"/>
                  </a:lnTo>
                  <a:lnTo>
                    <a:pt x="309943" y="1270"/>
                  </a:lnTo>
                  <a:lnTo>
                    <a:pt x="309054" y="4699"/>
                  </a:lnTo>
                  <a:lnTo>
                    <a:pt x="307428" y="9804"/>
                  </a:lnTo>
                  <a:lnTo>
                    <a:pt x="304571" y="17145"/>
                  </a:lnTo>
                  <a:lnTo>
                    <a:pt x="300050" y="27368"/>
                  </a:lnTo>
                  <a:lnTo>
                    <a:pt x="253250" y="27368"/>
                  </a:lnTo>
                  <a:lnTo>
                    <a:pt x="253250" y="165455"/>
                  </a:lnTo>
                  <a:lnTo>
                    <a:pt x="277368" y="165455"/>
                  </a:lnTo>
                  <a:lnTo>
                    <a:pt x="277368" y="157353"/>
                  </a:lnTo>
                  <a:lnTo>
                    <a:pt x="380339" y="157353"/>
                  </a:lnTo>
                  <a:lnTo>
                    <a:pt x="380339" y="165455"/>
                  </a:lnTo>
                  <a:lnTo>
                    <a:pt x="404114" y="165455"/>
                  </a:lnTo>
                  <a:lnTo>
                    <a:pt x="404114" y="157353"/>
                  </a:lnTo>
                  <a:lnTo>
                    <a:pt x="404114" y="137198"/>
                  </a:lnTo>
                  <a:lnTo>
                    <a:pt x="404114" y="101015"/>
                  </a:lnTo>
                  <a:lnTo>
                    <a:pt x="404114" y="81381"/>
                  </a:lnTo>
                  <a:lnTo>
                    <a:pt x="404114" y="47536"/>
                  </a:lnTo>
                  <a:lnTo>
                    <a:pt x="404114" y="27368"/>
                  </a:lnTo>
                  <a:close/>
                </a:path>
                <a:path w="837564" h="172720">
                  <a:moveTo>
                    <a:pt x="474827" y="30797"/>
                  </a:moveTo>
                  <a:lnTo>
                    <a:pt x="468147" y="24358"/>
                  </a:lnTo>
                  <a:lnTo>
                    <a:pt x="459879" y="17246"/>
                  </a:lnTo>
                  <a:lnTo>
                    <a:pt x="451078" y="10337"/>
                  </a:lnTo>
                  <a:lnTo>
                    <a:pt x="442785" y="4521"/>
                  </a:lnTo>
                  <a:lnTo>
                    <a:pt x="426580" y="19824"/>
                  </a:lnTo>
                  <a:lnTo>
                    <a:pt x="435686" y="26212"/>
                  </a:lnTo>
                  <a:lnTo>
                    <a:pt x="443928" y="32715"/>
                  </a:lnTo>
                  <a:lnTo>
                    <a:pt x="451459" y="39382"/>
                  </a:lnTo>
                  <a:lnTo>
                    <a:pt x="458444" y="46278"/>
                  </a:lnTo>
                  <a:lnTo>
                    <a:pt x="460616" y="43942"/>
                  </a:lnTo>
                  <a:lnTo>
                    <a:pt x="472135" y="33324"/>
                  </a:lnTo>
                  <a:lnTo>
                    <a:pt x="474827" y="30797"/>
                  </a:lnTo>
                  <a:close/>
                </a:path>
                <a:path w="837564" h="172720">
                  <a:moveTo>
                    <a:pt x="590765" y="121361"/>
                  </a:moveTo>
                  <a:lnTo>
                    <a:pt x="555612" y="78498"/>
                  </a:lnTo>
                  <a:lnTo>
                    <a:pt x="547979" y="44665"/>
                  </a:lnTo>
                  <a:lnTo>
                    <a:pt x="546671" y="26212"/>
                  </a:lnTo>
                  <a:lnTo>
                    <a:pt x="546658" y="14427"/>
                  </a:lnTo>
                  <a:lnTo>
                    <a:pt x="548093" y="7213"/>
                  </a:lnTo>
                  <a:lnTo>
                    <a:pt x="496620" y="7213"/>
                  </a:lnTo>
                  <a:lnTo>
                    <a:pt x="496620" y="29718"/>
                  </a:lnTo>
                  <a:lnTo>
                    <a:pt x="524522" y="29718"/>
                  </a:lnTo>
                  <a:lnTo>
                    <a:pt x="524522" y="36563"/>
                  </a:lnTo>
                  <a:lnTo>
                    <a:pt x="525056" y="44665"/>
                  </a:lnTo>
                  <a:lnTo>
                    <a:pt x="515327" y="42684"/>
                  </a:lnTo>
                  <a:lnTo>
                    <a:pt x="507707" y="72453"/>
                  </a:lnTo>
                  <a:lnTo>
                    <a:pt x="495592" y="95338"/>
                  </a:lnTo>
                  <a:lnTo>
                    <a:pt x="482498" y="111340"/>
                  </a:lnTo>
                  <a:lnTo>
                    <a:pt x="471944" y="120459"/>
                  </a:lnTo>
                  <a:lnTo>
                    <a:pt x="476808" y="122085"/>
                  </a:lnTo>
                  <a:lnTo>
                    <a:pt x="485101" y="126403"/>
                  </a:lnTo>
                  <a:lnTo>
                    <a:pt x="490486" y="135940"/>
                  </a:lnTo>
                  <a:lnTo>
                    <a:pt x="496392" y="130683"/>
                  </a:lnTo>
                  <a:lnTo>
                    <a:pt x="506260" y="119265"/>
                  </a:lnTo>
                  <a:lnTo>
                    <a:pt x="518058" y="100520"/>
                  </a:lnTo>
                  <a:lnTo>
                    <a:pt x="529742" y="73291"/>
                  </a:lnTo>
                  <a:lnTo>
                    <a:pt x="536651" y="92062"/>
                  </a:lnTo>
                  <a:lnTo>
                    <a:pt x="547420" y="110248"/>
                  </a:lnTo>
                  <a:lnTo>
                    <a:pt x="560412" y="126123"/>
                  </a:lnTo>
                  <a:lnTo>
                    <a:pt x="574027" y="137922"/>
                  </a:lnTo>
                  <a:lnTo>
                    <a:pt x="579424" y="130543"/>
                  </a:lnTo>
                  <a:lnTo>
                    <a:pt x="581774" y="128549"/>
                  </a:lnTo>
                  <a:lnTo>
                    <a:pt x="590765" y="121361"/>
                  </a:lnTo>
                  <a:close/>
                </a:path>
                <a:path w="837564" h="172720">
                  <a:moveTo>
                    <a:pt x="594728" y="141160"/>
                  </a:moveTo>
                  <a:lnTo>
                    <a:pt x="578662" y="142379"/>
                  </a:lnTo>
                  <a:lnTo>
                    <a:pt x="559981" y="143471"/>
                  </a:lnTo>
                  <a:lnTo>
                    <a:pt x="541566" y="144272"/>
                  </a:lnTo>
                  <a:lnTo>
                    <a:pt x="526326" y="144576"/>
                  </a:lnTo>
                  <a:lnTo>
                    <a:pt x="516331" y="144500"/>
                  </a:lnTo>
                  <a:lnTo>
                    <a:pt x="503453" y="144145"/>
                  </a:lnTo>
                  <a:lnTo>
                    <a:pt x="490969" y="143294"/>
                  </a:lnTo>
                  <a:lnTo>
                    <a:pt x="482219" y="141706"/>
                  </a:lnTo>
                  <a:lnTo>
                    <a:pt x="471779" y="138099"/>
                  </a:lnTo>
                  <a:lnTo>
                    <a:pt x="471779" y="70231"/>
                  </a:lnTo>
                  <a:lnTo>
                    <a:pt x="426935" y="70231"/>
                  </a:lnTo>
                  <a:lnTo>
                    <a:pt x="426935" y="91833"/>
                  </a:lnTo>
                  <a:lnTo>
                    <a:pt x="448017" y="91833"/>
                  </a:lnTo>
                  <a:lnTo>
                    <a:pt x="448017" y="129997"/>
                  </a:lnTo>
                  <a:lnTo>
                    <a:pt x="444360" y="132524"/>
                  </a:lnTo>
                  <a:lnTo>
                    <a:pt x="438277" y="136309"/>
                  </a:lnTo>
                  <a:lnTo>
                    <a:pt x="430174" y="140550"/>
                  </a:lnTo>
                  <a:lnTo>
                    <a:pt x="420471" y="144411"/>
                  </a:lnTo>
                  <a:lnTo>
                    <a:pt x="428929" y="165633"/>
                  </a:lnTo>
                  <a:lnTo>
                    <a:pt x="429463" y="167081"/>
                  </a:lnTo>
                  <a:lnTo>
                    <a:pt x="430187" y="169252"/>
                  </a:lnTo>
                  <a:lnTo>
                    <a:pt x="433959" y="169252"/>
                  </a:lnTo>
                  <a:lnTo>
                    <a:pt x="434860" y="163118"/>
                  </a:lnTo>
                  <a:lnTo>
                    <a:pt x="440753" y="159600"/>
                  </a:lnTo>
                  <a:lnTo>
                    <a:pt x="446493" y="155956"/>
                  </a:lnTo>
                  <a:lnTo>
                    <a:pt x="452399" y="151980"/>
                  </a:lnTo>
                  <a:lnTo>
                    <a:pt x="458812" y="147459"/>
                  </a:lnTo>
                  <a:lnTo>
                    <a:pt x="463626" y="154038"/>
                  </a:lnTo>
                  <a:lnTo>
                    <a:pt x="471678" y="159740"/>
                  </a:lnTo>
                  <a:lnTo>
                    <a:pt x="484733" y="163766"/>
                  </a:lnTo>
                  <a:lnTo>
                    <a:pt x="504532" y="165290"/>
                  </a:lnTo>
                  <a:lnTo>
                    <a:pt x="586447" y="165290"/>
                  </a:lnTo>
                  <a:lnTo>
                    <a:pt x="587730" y="158242"/>
                  </a:lnTo>
                  <a:lnTo>
                    <a:pt x="589902" y="151523"/>
                  </a:lnTo>
                  <a:lnTo>
                    <a:pt x="591642" y="147459"/>
                  </a:lnTo>
                  <a:lnTo>
                    <a:pt x="592416" y="145656"/>
                  </a:lnTo>
                  <a:lnTo>
                    <a:pt x="592963" y="144576"/>
                  </a:lnTo>
                  <a:lnTo>
                    <a:pt x="594728" y="141160"/>
                  </a:lnTo>
                  <a:close/>
                </a:path>
                <a:path w="837564" h="172720">
                  <a:moveTo>
                    <a:pt x="774725" y="113969"/>
                  </a:moveTo>
                  <a:lnTo>
                    <a:pt x="767969" y="108153"/>
                  </a:lnTo>
                  <a:lnTo>
                    <a:pt x="760603" y="102920"/>
                  </a:lnTo>
                  <a:lnTo>
                    <a:pt x="753364" y="98399"/>
                  </a:lnTo>
                  <a:lnTo>
                    <a:pt x="747001" y="94716"/>
                  </a:lnTo>
                  <a:lnTo>
                    <a:pt x="747115" y="94348"/>
                  </a:lnTo>
                  <a:lnTo>
                    <a:pt x="749960" y="84810"/>
                  </a:lnTo>
                  <a:lnTo>
                    <a:pt x="750404" y="83350"/>
                  </a:lnTo>
                  <a:lnTo>
                    <a:pt x="752690" y="74295"/>
                  </a:lnTo>
                  <a:lnTo>
                    <a:pt x="754151" y="66636"/>
                  </a:lnTo>
                  <a:lnTo>
                    <a:pt x="755116" y="59423"/>
                  </a:lnTo>
                  <a:lnTo>
                    <a:pt x="756551" y="59423"/>
                  </a:lnTo>
                  <a:lnTo>
                    <a:pt x="759066" y="59245"/>
                  </a:lnTo>
                  <a:lnTo>
                    <a:pt x="759066" y="55473"/>
                  </a:lnTo>
                  <a:lnTo>
                    <a:pt x="757796" y="55105"/>
                  </a:lnTo>
                  <a:lnTo>
                    <a:pt x="756551" y="54559"/>
                  </a:lnTo>
                  <a:lnTo>
                    <a:pt x="730618" y="45389"/>
                  </a:lnTo>
                  <a:lnTo>
                    <a:pt x="730542" y="51358"/>
                  </a:lnTo>
                  <a:lnTo>
                    <a:pt x="729970" y="60159"/>
                  </a:lnTo>
                  <a:lnTo>
                    <a:pt x="728421" y="71424"/>
                  </a:lnTo>
                  <a:lnTo>
                    <a:pt x="725411" y="84810"/>
                  </a:lnTo>
                  <a:lnTo>
                    <a:pt x="719404" y="82410"/>
                  </a:lnTo>
                  <a:lnTo>
                    <a:pt x="710971" y="79362"/>
                  </a:lnTo>
                  <a:lnTo>
                    <a:pt x="700773" y="76250"/>
                  </a:lnTo>
                  <a:lnTo>
                    <a:pt x="689394" y="73647"/>
                  </a:lnTo>
                  <a:lnTo>
                    <a:pt x="692975" y="64401"/>
                  </a:lnTo>
                  <a:lnTo>
                    <a:pt x="699427" y="49987"/>
                  </a:lnTo>
                  <a:lnTo>
                    <a:pt x="706513" y="36207"/>
                  </a:lnTo>
                  <a:lnTo>
                    <a:pt x="707567" y="34124"/>
                  </a:lnTo>
                  <a:lnTo>
                    <a:pt x="716216" y="20548"/>
                  </a:lnTo>
                  <a:lnTo>
                    <a:pt x="700557" y="7391"/>
                  </a:lnTo>
                  <a:lnTo>
                    <a:pt x="689076" y="11607"/>
                  </a:lnTo>
                  <a:lnTo>
                    <a:pt x="673620" y="15113"/>
                  </a:lnTo>
                  <a:lnTo>
                    <a:pt x="655167" y="17487"/>
                  </a:lnTo>
                  <a:lnTo>
                    <a:pt x="634669" y="18376"/>
                  </a:lnTo>
                  <a:lnTo>
                    <a:pt x="639889" y="43942"/>
                  </a:lnTo>
                  <a:lnTo>
                    <a:pt x="646722" y="43040"/>
                  </a:lnTo>
                  <a:lnTo>
                    <a:pt x="656272" y="41554"/>
                  </a:lnTo>
                  <a:lnTo>
                    <a:pt x="667994" y="39331"/>
                  </a:lnTo>
                  <a:lnTo>
                    <a:pt x="681291" y="36207"/>
                  </a:lnTo>
                  <a:lnTo>
                    <a:pt x="678434" y="43192"/>
                  </a:lnTo>
                  <a:lnTo>
                    <a:pt x="666711" y="72567"/>
                  </a:lnTo>
                  <a:lnTo>
                    <a:pt x="656640" y="74256"/>
                  </a:lnTo>
                  <a:lnTo>
                    <a:pt x="656640" y="95072"/>
                  </a:lnTo>
                  <a:lnTo>
                    <a:pt x="652856" y="103301"/>
                  </a:lnTo>
                  <a:lnTo>
                    <a:pt x="646912" y="114223"/>
                  </a:lnTo>
                  <a:lnTo>
                    <a:pt x="640435" y="123748"/>
                  </a:lnTo>
                  <a:lnTo>
                    <a:pt x="635025" y="127838"/>
                  </a:lnTo>
                  <a:lnTo>
                    <a:pt x="634669" y="127838"/>
                  </a:lnTo>
                  <a:lnTo>
                    <a:pt x="630529" y="127660"/>
                  </a:lnTo>
                  <a:lnTo>
                    <a:pt x="630529" y="121361"/>
                  </a:lnTo>
                  <a:lnTo>
                    <a:pt x="633069" y="109855"/>
                  </a:lnTo>
                  <a:lnTo>
                    <a:pt x="639457" y="101600"/>
                  </a:lnTo>
                  <a:lnTo>
                    <a:pt x="647928" y="96647"/>
                  </a:lnTo>
                  <a:lnTo>
                    <a:pt x="656640" y="95072"/>
                  </a:lnTo>
                  <a:lnTo>
                    <a:pt x="656640" y="74256"/>
                  </a:lnTo>
                  <a:lnTo>
                    <a:pt x="641921" y="76695"/>
                  </a:lnTo>
                  <a:lnTo>
                    <a:pt x="624065" y="88315"/>
                  </a:lnTo>
                  <a:lnTo>
                    <a:pt x="613270" y="104267"/>
                  </a:lnTo>
                  <a:lnTo>
                    <a:pt x="609638" y="121361"/>
                  </a:lnTo>
                  <a:lnTo>
                    <a:pt x="611924" y="133197"/>
                  </a:lnTo>
                  <a:lnTo>
                    <a:pt x="617969" y="142214"/>
                  </a:lnTo>
                  <a:lnTo>
                    <a:pt x="626503" y="147967"/>
                  </a:lnTo>
                  <a:lnTo>
                    <a:pt x="636282" y="149987"/>
                  </a:lnTo>
                  <a:lnTo>
                    <a:pt x="647788" y="146862"/>
                  </a:lnTo>
                  <a:lnTo>
                    <a:pt x="680212" y="95072"/>
                  </a:lnTo>
                  <a:lnTo>
                    <a:pt x="680567" y="94348"/>
                  </a:lnTo>
                  <a:lnTo>
                    <a:pt x="691299" y="97104"/>
                  </a:lnTo>
                  <a:lnTo>
                    <a:pt x="700214" y="99898"/>
                  </a:lnTo>
                  <a:lnTo>
                    <a:pt x="708494" y="103073"/>
                  </a:lnTo>
                  <a:lnTo>
                    <a:pt x="717296" y="106946"/>
                  </a:lnTo>
                  <a:lnTo>
                    <a:pt x="710374" y="118833"/>
                  </a:lnTo>
                  <a:lnTo>
                    <a:pt x="700874" y="131178"/>
                  </a:lnTo>
                  <a:lnTo>
                    <a:pt x="689546" y="142214"/>
                  </a:lnTo>
                  <a:lnTo>
                    <a:pt x="677151" y="150164"/>
                  </a:lnTo>
                  <a:lnTo>
                    <a:pt x="683158" y="154038"/>
                  </a:lnTo>
                  <a:lnTo>
                    <a:pt x="688073" y="157670"/>
                  </a:lnTo>
                  <a:lnTo>
                    <a:pt x="692467" y="161658"/>
                  </a:lnTo>
                  <a:lnTo>
                    <a:pt x="696950" y="166547"/>
                  </a:lnTo>
                  <a:lnTo>
                    <a:pt x="711796" y="154393"/>
                  </a:lnTo>
                  <a:lnTo>
                    <a:pt x="723582" y="140957"/>
                  </a:lnTo>
                  <a:lnTo>
                    <a:pt x="732231" y="128282"/>
                  </a:lnTo>
                  <a:lnTo>
                    <a:pt x="737654" y="118478"/>
                  </a:lnTo>
                  <a:lnTo>
                    <a:pt x="745642" y="123837"/>
                  </a:lnTo>
                  <a:lnTo>
                    <a:pt x="751636" y="128422"/>
                  </a:lnTo>
                  <a:lnTo>
                    <a:pt x="756221" y="132397"/>
                  </a:lnTo>
                  <a:lnTo>
                    <a:pt x="759968" y="135940"/>
                  </a:lnTo>
                  <a:lnTo>
                    <a:pt x="763841" y="129667"/>
                  </a:lnTo>
                  <a:lnTo>
                    <a:pt x="766813" y="125082"/>
                  </a:lnTo>
                  <a:lnTo>
                    <a:pt x="770039" y="120434"/>
                  </a:lnTo>
                  <a:lnTo>
                    <a:pt x="771461" y="118478"/>
                  </a:lnTo>
                  <a:lnTo>
                    <a:pt x="774725" y="113969"/>
                  </a:lnTo>
                  <a:close/>
                </a:path>
                <a:path w="837564" h="172720">
                  <a:moveTo>
                    <a:pt x="836993" y="86055"/>
                  </a:moveTo>
                  <a:lnTo>
                    <a:pt x="835634" y="67322"/>
                  </a:lnTo>
                  <a:lnTo>
                    <a:pt x="830402" y="45808"/>
                  </a:lnTo>
                  <a:lnTo>
                    <a:pt x="819594" y="22898"/>
                  </a:lnTo>
                  <a:lnTo>
                    <a:pt x="801522" y="0"/>
                  </a:lnTo>
                  <a:lnTo>
                    <a:pt x="788200" y="12065"/>
                  </a:lnTo>
                  <a:lnTo>
                    <a:pt x="796696" y="21717"/>
                  </a:lnTo>
                  <a:lnTo>
                    <a:pt x="806805" y="36918"/>
                  </a:lnTo>
                  <a:lnTo>
                    <a:pt x="815251" y="58204"/>
                  </a:lnTo>
                  <a:lnTo>
                    <a:pt x="818794" y="86055"/>
                  </a:lnTo>
                  <a:lnTo>
                    <a:pt x="815251" y="113931"/>
                  </a:lnTo>
                  <a:lnTo>
                    <a:pt x="806805" y="135216"/>
                  </a:lnTo>
                  <a:lnTo>
                    <a:pt x="796696" y="150418"/>
                  </a:lnTo>
                  <a:lnTo>
                    <a:pt x="788200" y="160045"/>
                  </a:lnTo>
                  <a:lnTo>
                    <a:pt x="801522" y="172110"/>
                  </a:lnTo>
                  <a:lnTo>
                    <a:pt x="819594" y="149237"/>
                  </a:lnTo>
                  <a:lnTo>
                    <a:pt x="830402" y="126326"/>
                  </a:lnTo>
                  <a:lnTo>
                    <a:pt x="835634" y="104800"/>
                  </a:lnTo>
                  <a:lnTo>
                    <a:pt x="836993" y="860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bject 28"/>
            <p:cNvSpPr/>
            <p:nvPr/>
          </p:nvSpPr>
          <p:spPr>
            <a:xfrm>
              <a:off x="605880" y="618660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12" y="0"/>
                  </a:moveTo>
                  <a:lnTo>
                    <a:pt x="125467" y="6016"/>
                  </a:lnTo>
                  <a:lnTo>
                    <a:pt x="84764" y="23045"/>
                  </a:lnTo>
                  <a:lnTo>
                    <a:pt x="50182" y="49556"/>
                  </a:lnTo>
                  <a:lnTo>
                    <a:pt x="23402" y="84019"/>
                  </a:lnTo>
                  <a:lnTo>
                    <a:pt x="6102" y="124902"/>
                  </a:lnTo>
                  <a:lnTo>
                    <a:pt x="26" y="170196"/>
                  </a:lnTo>
                  <a:lnTo>
                    <a:pt x="0" y="170956"/>
                  </a:lnTo>
                  <a:lnTo>
                    <a:pt x="6051" y="216067"/>
                  </a:lnTo>
                  <a:lnTo>
                    <a:pt x="23241" y="256842"/>
                  </a:lnTo>
                  <a:lnTo>
                    <a:pt x="49911" y="291377"/>
                  </a:lnTo>
                  <a:lnTo>
                    <a:pt x="84442" y="318052"/>
                  </a:lnTo>
                  <a:lnTo>
                    <a:pt x="125215" y="335246"/>
                  </a:lnTo>
                  <a:lnTo>
                    <a:pt x="170612" y="341337"/>
                  </a:lnTo>
                  <a:lnTo>
                    <a:pt x="216013" y="335246"/>
                  </a:lnTo>
                  <a:lnTo>
                    <a:pt x="231445" y="328739"/>
                  </a:lnTo>
                  <a:lnTo>
                    <a:pt x="170612" y="328739"/>
                  </a:lnTo>
                  <a:lnTo>
                    <a:pt x="120715" y="320664"/>
                  </a:lnTo>
                  <a:lnTo>
                    <a:pt x="77335" y="298192"/>
                  </a:lnTo>
                  <a:lnTo>
                    <a:pt x="43099" y="263950"/>
                  </a:lnTo>
                  <a:lnTo>
                    <a:pt x="20633" y="220568"/>
                  </a:lnTo>
                  <a:lnTo>
                    <a:pt x="12606" y="170956"/>
                  </a:lnTo>
                  <a:lnTo>
                    <a:pt x="12638" y="170196"/>
                  </a:lnTo>
                  <a:lnTo>
                    <a:pt x="20702" y="120356"/>
                  </a:lnTo>
                  <a:lnTo>
                    <a:pt x="43308" y="76918"/>
                  </a:lnTo>
                  <a:lnTo>
                    <a:pt x="77648" y="42832"/>
                  </a:lnTo>
                  <a:lnTo>
                    <a:pt x="120993" y="20568"/>
                  </a:lnTo>
                  <a:lnTo>
                    <a:pt x="170612" y="12598"/>
                  </a:lnTo>
                  <a:lnTo>
                    <a:pt x="231490" y="12598"/>
                  </a:lnTo>
                  <a:lnTo>
                    <a:pt x="215757" y="6016"/>
                  </a:lnTo>
                  <a:lnTo>
                    <a:pt x="170612" y="0"/>
                  </a:lnTo>
                  <a:close/>
                </a:path>
                <a:path w="341630" h="341629">
                  <a:moveTo>
                    <a:pt x="231490" y="12598"/>
                  </a:moveTo>
                  <a:lnTo>
                    <a:pt x="170612" y="12598"/>
                  </a:lnTo>
                  <a:lnTo>
                    <a:pt x="220237" y="20568"/>
                  </a:lnTo>
                  <a:lnTo>
                    <a:pt x="263585" y="42832"/>
                  </a:lnTo>
                  <a:lnTo>
                    <a:pt x="297927" y="76918"/>
                  </a:lnTo>
                  <a:lnTo>
                    <a:pt x="320540" y="120391"/>
                  </a:lnTo>
                  <a:lnTo>
                    <a:pt x="328598" y="170196"/>
                  </a:lnTo>
                  <a:lnTo>
                    <a:pt x="328630" y="170956"/>
                  </a:lnTo>
                  <a:lnTo>
                    <a:pt x="320636" y="220568"/>
                  </a:lnTo>
                  <a:lnTo>
                    <a:pt x="298234" y="263950"/>
                  </a:lnTo>
                  <a:lnTo>
                    <a:pt x="264046" y="298192"/>
                  </a:lnTo>
                  <a:lnTo>
                    <a:pt x="220647" y="320664"/>
                  </a:lnTo>
                  <a:lnTo>
                    <a:pt x="170612" y="328739"/>
                  </a:lnTo>
                  <a:lnTo>
                    <a:pt x="231445" y="328739"/>
                  </a:lnTo>
                  <a:lnTo>
                    <a:pt x="291324" y="291377"/>
                  </a:lnTo>
                  <a:lnTo>
                    <a:pt x="317995" y="256842"/>
                  </a:lnTo>
                  <a:lnTo>
                    <a:pt x="335185" y="216067"/>
                  </a:lnTo>
                  <a:lnTo>
                    <a:pt x="341236" y="170956"/>
                  </a:lnTo>
                  <a:lnTo>
                    <a:pt x="341210" y="170196"/>
                  </a:lnTo>
                  <a:lnTo>
                    <a:pt x="335133" y="124902"/>
                  </a:lnTo>
                  <a:lnTo>
                    <a:pt x="317831" y="84019"/>
                  </a:lnTo>
                  <a:lnTo>
                    <a:pt x="291047" y="49556"/>
                  </a:lnTo>
                  <a:lnTo>
                    <a:pt x="256463" y="23045"/>
                  </a:lnTo>
                  <a:lnTo>
                    <a:pt x="231490" y="12598"/>
                  </a:lnTo>
                  <a:close/>
                </a:path>
                <a:path w="341630" h="341629">
                  <a:moveTo>
                    <a:pt x="149009" y="222516"/>
                  </a:moveTo>
                  <a:lnTo>
                    <a:pt x="115532" y="222516"/>
                  </a:lnTo>
                  <a:lnTo>
                    <a:pt x="117706" y="235559"/>
                  </a:lnTo>
                  <a:lnTo>
                    <a:pt x="124841" y="254779"/>
                  </a:lnTo>
                  <a:lnTo>
                    <a:pt x="140281" y="272178"/>
                  </a:lnTo>
                  <a:lnTo>
                    <a:pt x="167373" y="279755"/>
                  </a:lnTo>
                  <a:lnTo>
                    <a:pt x="196018" y="270284"/>
                  </a:lnTo>
                  <a:lnTo>
                    <a:pt x="212432" y="248450"/>
                  </a:lnTo>
                  <a:lnTo>
                    <a:pt x="167373" y="248450"/>
                  </a:lnTo>
                  <a:lnTo>
                    <a:pt x="159742" y="246423"/>
                  </a:lnTo>
                  <a:lnTo>
                    <a:pt x="154410" y="240884"/>
                  </a:lnTo>
                  <a:lnTo>
                    <a:pt x="150968" y="232644"/>
                  </a:lnTo>
                  <a:lnTo>
                    <a:pt x="149009" y="222516"/>
                  </a:lnTo>
                  <a:close/>
                </a:path>
                <a:path w="341630" h="341629">
                  <a:moveTo>
                    <a:pt x="227194" y="182549"/>
                  </a:moveTo>
                  <a:lnTo>
                    <a:pt x="195097" y="182549"/>
                  </a:lnTo>
                  <a:lnTo>
                    <a:pt x="194210" y="198467"/>
                  </a:lnTo>
                  <a:lnTo>
                    <a:pt x="190689" y="220495"/>
                  </a:lnTo>
                  <a:lnTo>
                    <a:pt x="182440" y="240026"/>
                  </a:lnTo>
                  <a:lnTo>
                    <a:pt x="167373" y="248450"/>
                  </a:lnTo>
                  <a:lnTo>
                    <a:pt x="212432" y="248450"/>
                  </a:lnTo>
                  <a:lnTo>
                    <a:pt x="214808" y="245289"/>
                  </a:lnTo>
                  <a:lnTo>
                    <a:pt x="225091" y="209895"/>
                  </a:lnTo>
                  <a:lnTo>
                    <a:pt x="227194" y="182549"/>
                  </a:lnTo>
                  <a:close/>
                </a:path>
                <a:path w="341630" h="341629">
                  <a:moveTo>
                    <a:pt x="167741" y="61569"/>
                  </a:moveTo>
                  <a:lnTo>
                    <a:pt x="143231" y="67939"/>
                  </a:lnTo>
                  <a:lnTo>
                    <a:pt x="126184" y="84707"/>
                  </a:lnTo>
                  <a:lnTo>
                    <a:pt x="116228" y="108359"/>
                  </a:lnTo>
                  <a:lnTo>
                    <a:pt x="112992" y="135382"/>
                  </a:lnTo>
                  <a:lnTo>
                    <a:pt x="117563" y="166463"/>
                  </a:lnTo>
                  <a:lnTo>
                    <a:pt x="129295" y="187453"/>
                  </a:lnTo>
                  <a:lnTo>
                    <a:pt x="145214" y="199331"/>
                  </a:lnTo>
                  <a:lnTo>
                    <a:pt x="162344" y="203073"/>
                  </a:lnTo>
                  <a:lnTo>
                    <a:pt x="176018" y="200930"/>
                  </a:lnTo>
                  <a:lnTo>
                    <a:pt x="185336" y="195649"/>
                  </a:lnTo>
                  <a:lnTo>
                    <a:pt x="191346" y="188949"/>
                  </a:lnTo>
                  <a:lnTo>
                    <a:pt x="195097" y="182549"/>
                  </a:lnTo>
                  <a:lnTo>
                    <a:pt x="227194" y="182549"/>
                  </a:lnTo>
                  <a:lnTo>
                    <a:pt x="227831" y="174269"/>
                  </a:lnTo>
                  <a:lnTo>
                    <a:pt x="169177" y="174269"/>
                  </a:lnTo>
                  <a:lnTo>
                    <a:pt x="157791" y="170196"/>
                  </a:lnTo>
                  <a:lnTo>
                    <a:pt x="150993" y="160046"/>
                  </a:lnTo>
                  <a:lnTo>
                    <a:pt x="147706" y="146928"/>
                  </a:lnTo>
                  <a:lnTo>
                    <a:pt x="146850" y="133946"/>
                  </a:lnTo>
                  <a:lnTo>
                    <a:pt x="148217" y="117658"/>
                  </a:lnTo>
                  <a:lnTo>
                    <a:pt x="152386" y="104646"/>
                  </a:lnTo>
                  <a:lnTo>
                    <a:pt x="159457" y="96022"/>
                  </a:lnTo>
                  <a:lnTo>
                    <a:pt x="169532" y="92900"/>
                  </a:lnTo>
                  <a:lnTo>
                    <a:pt x="212368" y="92900"/>
                  </a:lnTo>
                  <a:lnTo>
                    <a:pt x="201189" y="74288"/>
                  </a:lnTo>
                  <a:lnTo>
                    <a:pt x="167741" y="61569"/>
                  </a:lnTo>
                  <a:close/>
                </a:path>
                <a:path w="341630" h="341629">
                  <a:moveTo>
                    <a:pt x="212368" y="92900"/>
                  </a:moveTo>
                  <a:lnTo>
                    <a:pt x="169532" y="92900"/>
                  </a:lnTo>
                  <a:lnTo>
                    <a:pt x="180881" y="96933"/>
                  </a:lnTo>
                  <a:lnTo>
                    <a:pt x="187944" y="107075"/>
                  </a:lnTo>
                  <a:lnTo>
                    <a:pt x="191563" y="120391"/>
                  </a:lnTo>
                  <a:lnTo>
                    <a:pt x="192583" y="133946"/>
                  </a:lnTo>
                  <a:lnTo>
                    <a:pt x="191306" y="149210"/>
                  </a:lnTo>
                  <a:lnTo>
                    <a:pt x="187228" y="162075"/>
                  </a:lnTo>
                  <a:lnTo>
                    <a:pt x="179976" y="170956"/>
                  </a:lnTo>
                  <a:lnTo>
                    <a:pt x="169177" y="174269"/>
                  </a:lnTo>
                  <a:lnTo>
                    <a:pt x="227831" y="174269"/>
                  </a:lnTo>
                  <a:lnTo>
                    <a:pt x="228219" y="169227"/>
                  </a:lnTo>
                  <a:lnTo>
                    <a:pt x="226768" y="140099"/>
                  </a:lnTo>
                  <a:lnTo>
                    <a:pt x="219311" y="104459"/>
                  </a:lnTo>
                  <a:lnTo>
                    <a:pt x="212368" y="9290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bject 29"/>
            <p:cNvSpPr/>
            <p:nvPr/>
          </p:nvSpPr>
          <p:spPr>
            <a:xfrm>
              <a:off x="605880" y="737568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49" y="0"/>
                  </a:moveTo>
                  <a:lnTo>
                    <a:pt x="125505" y="6014"/>
                  </a:lnTo>
                  <a:lnTo>
                    <a:pt x="84802" y="23039"/>
                  </a:lnTo>
                  <a:lnTo>
                    <a:pt x="50220" y="49544"/>
                  </a:lnTo>
                  <a:lnTo>
                    <a:pt x="23439" y="84000"/>
                  </a:lnTo>
                  <a:lnTo>
                    <a:pt x="6139" y="124878"/>
                  </a:lnTo>
                  <a:lnTo>
                    <a:pt x="0" y="170649"/>
                  </a:lnTo>
                  <a:lnTo>
                    <a:pt x="6089" y="216051"/>
                  </a:lnTo>
                  <a:lnTo>
                    <a:pt x="23279" y="256828"/>
                  </a:lnTo>
                  <a:lnTo>
                    <a:pt x="49949" y="291361"/>
                  </a:lnTo>
                  <a:lnTo>
                    <a:pt x="84480" y="318032"/>
                  </a:lnTo>
                  <a:lnTo>
                    <a:pt x="125253" y="335222"/>
                  </a:lnTo>
                  <a:lnTo>
                    <a:pt x="170649" y="341312"/>
                  </a:lnTo>
                  <a:lnTo>
                    <a:pt x="216051" y="335222"/>
                  </a:lnTo>
                  <a:lnTo>
                    <a:pt x="231490" y="328714"/>
                  </a:lnTo>
                  <a:lnTo>
                    <a:pt x="170649" y="328714"/>
                  </a:lnTo>
                  <a:lnTo>
                    <a:pt x="120752" y="320640"/>
                  </a:lnTo>
                  <a:lnTo>
                    <a:pt x="77373" y="298170"/>
                  </a:lnTo>
                  <a:lnTo>
                    <a:pt x="43137" y="263930"/>
                  </a:lnTo>
                  <a:lnTo>
                    <a:pt x="20670" y="220548"/>
                  </a:lnTo>
                  <a:lnTo>
                    <a:pt x="12598" y="170649"/>
                  </a:lnTo>
                  <a:lnTo>
                    <a:pt x="20741" y="120343"/>
                  </a:lnTo>
                  <a:lnTo>
                    <a:pt x="43349" y="76912"/>
                  </a:lnTo>
                  <a:lnTo>
                    <a:pt x="77691" y="42830"/>
                  </a:lnTo>
                  <a:lnTo>
                    <a:pt x="121035" y="20568"/>
                  </a:lnTo>
                  <a:lnTo>
                    <a:pt x="170649" y="12598"/>
                  </a:lnTo>
                  <a:lnTo>
                    <a:pt x="231537" y="12598"/>
                  </a:lnTo>
                  <a:lnTo>
                    <a:pt x="215795" y="6014"/>
                  </a:lnTo>
                  <a:lnTo>
                    <a:pt x="170649" y="0"/>
                  </a:lnTo>
                  <a:close/>
                </a:path>
                <a:path w="341630" h="341629">
                  <a:moveTo>
                    <a:pt x="231537" y="12598"/>
                  </a:moveTo>
                  <a:lnTo>
                    <a:pt x="170649" y="12598"/>
                  </a:lnTo>
                  <a:lnTo>
                    <a:pt x="220276" y="20568"/>
                  </a:lnTo>
                  <a:lnTo>
                    <a:pt x="263627" y="42830"/>
                  </a:lnTo>
                  <a:lnTo>
                    <a:pt x="297973" y="76912"/>
                  </a:lnTo>
                  <a:lnTo>
                    <a:pt x="320583" y="120343"/>
                  </a:lnTo>
                  <a:lnTo>
                    <a:pt x="328726" y="170649"/>
                  </a:lnTo>
                  <a:lnTo>
                    <a:pt x="320685" y="220548"/>
                  </a:lnTo>
                  <a:lnTo>
                    <a:pt x="298280" y="263930"/>
                  </a:lnTo>
                  <a:lnTo>
                    <a:pt x="264088" y="298170"/>
                  </a:lnTo>
                  <a:lnTo>
                    <a:pt x="220686" y="320640"/>
                  </a:lnTo>
                  <a:lnTo>
                    <a:pt x="170649" y="328714"/>
                  </a:lnTo>
                  <a:lnTo>
                    <a:pt x="231490" y="328714"/>
                  </a:lnTo>
                  <a:lnTo>
                    <a:pt x="291361" y="291361"/>
                  </a:lnTo>
                  <a:lnTo>
                    <a:pt x="318032" y="256828"/>
                  </a:lnTo>
                  <a:lnTo>
                    <a:pt x="335222" y="216051"/>
                  </a:lnTo>
                  <a:lnTo>
                    <a:pt x="341312" y="170649"/>
                  </a:lnTo>
                  <a:lnTo>
                    <a:pt x="335171" y="124878"/>
                  </a:lnTo>
                  <a:lnTo>
                    <a:pt x="317869" y="84000"/>
                  </a:lnTo>
                  <a:lnTo>
                    <a:pt x="291085" y="49544"/>
                  </a:lnTo>
                  <a:lnTo>
                    <a:pt x="256500" y="23039"/>
                  </a:lnTo>
                  <a:lnTo>
                    <a:pt x="231537" y="12598"/>
                  </a:lnTo>
                  <a:close/>
                </a:path>
                <a:path w="341630" h="341629">
                  <a:moveTo>
                    <a:pt x="225742" y="65874"/>
                  </a:moveTo>
                  <a:lnTo>
                    <a:pt x="180103" y="104084"/>
                  </a:lnTo>
                  <a:lnTo>
                    <a:pt x="170649" y="170649"/>
                  </a:lnTo>
                  <a:lnTo>
                    <a:pt x="172473" y="203126"/>
                  </a:lnTo>
                  <a:lnTo>
                    <a:pt x="180103" y="237353"/>
                  </a:lnTo>
                  <a:lnTo>
                    <a:pt x="196779" y="264422"/>
                  </a:lnTo>
                  <a:lnTo>
                    <a:pt x="225742" y="275424"/>
                  </a:lnTo>
                  <a:lnTo>
                    <a:pt x="254855" y="264372"/>
                  </a:lnTo>
                  <a:lnTo>
                    <a:pt x="266408" y="245541"/>
                  </a:lnTo>
                  <a:lnTo>
                    <a:pt x="225742" y="245541"/>
                  </a:lnTo>
                  <a:lnTo>
                    <a:pt x="212629" y="237079"/>
                  </a:lnTo>
                  <a:lnTo>
                    <a:pt x="205941" y="216873"/>
                  </a:lnTo>
                  <a:lnTo>
                    <a:pt x="205826" y="216051"/>
                  </a:lnTo>
                  <a:lnTo>
                    <a:pt x="203414" y="192070"/>
                  </a:lnTo>
                  <a:lnTo>
                    <a:pt x="203060" y="170649"/>
                  </a:lnTo>
                  <a:lnTo>
                    <a:pt x="203414" y="148925"/>
                  </a:lnTo>
                  <a:lnTo>
                    <a:pt x="205895" y="124299"/>
                  </a:lnTo>
                  <a:lnTo>
                    <a:pt x="212629" y="104129"/>
                  </a:lnTo>
                  <a:lnTo>
                    <a:pt x="225742" y="95770"/>
                  </a:lnTo>
                  <a:lnTo>
                    <a:pt x="266280" y="95770"/>
                  </a:lnTo>
                  <a:lnTo>
                    <a:pt x="254855" y="77031"/>
                  </a:lnTo>
                  <a:lnTo>
                    <a:pt x="225742" y="65874"/>
                  </a:lnTo>
                  <a:close/>
                </a:path>
                <a:path w="341630" h="341629">
                  <a:moveTo>
                    <a:pt x="128536" y="71285"/>
                  </a:moveTo>
                  <a:lnTo>
                    <a:pt x="100799" y="71285"/>
                  </a:lnTo>
                  <a:lnTo>
                    <a:pt x="97280" y="81649"/>
                  </a:lnTo>
                  <a:lnTo>
                    <a:pt x="90990" y="91038"/>
                  </a:lnTo>
                  <a:lnTo>
                    <a:pt x="80245" y="98472"/>
                  </a:lnTo>
                  <a:lnTo>
                    <a:pt x="63360" y="102971"/>
                  </a:lnTo>
                  <a:lnTo>
                    <a:pt x="63360" y="128168"/>
                  </a:lnTo>
                  <a:lnTo>
                    <a:pt x="93967" y="128168"/>
                  </a:lnTo>
                  <a:lnTo>
                    <a:pt x="93967" y="270027"/>
                  </a:lnTo>
                  <a:lnTo>
                    <a:pt x="128536" y="270027"/>
                  </a:lnTo>
                  <a:lnTo>
                    <a:pt x="128536" y="71285"/>
                  </a:lnTo>
                  <a:close/>
                </a:path>
                <a:path w="341630" h="341629">
                  <a:moveTo>
                    <a:pt x="266280" y="95770"/>
                  </a:moveTo>
                  <a:lnTo>
                    <a:pt x="225742" y="95770"/>
                  </a:lnTo>
                  <a:lnTo>
                    <a:pt x="238911" y="104179"/>
                  </a:lnTo>
                  <a:lnTo>
                    <a:pt x="245722" y="124299"/>
                  </a:lnTo>
                  <a:lnTo>
                    <a:pt x="245814" y="124878"/>
                  </a:lnTo>
                  <a:lnTo>
                    <a:pt x="248370" y="149075"/>
                  </a:lnTo>
                  <a:lnTo>
                    <a:pt x="248780" y="170649"/>
                  </a:lnTo>
                  <a:lnTo>
                    <a:pt x="248370" y="192226"/>
                  </a:lnTo>
                  <a:lnTo>
                    <a:pt x="245767" y="216873"/>
                  </a:lnTo>
                  <a:lnTo>
                    <a:pt x="238911" y="237131"/>
                  </a:lnTo>
                  <a:lnTo>
                    <a:pt x="225742" y="245541"/>
                  </a:lnTo>
                  <a:lnTo>
                    <a:pt x="266408" y="245541"/>
                  </a:lnTo>
                  <a:lnTo>
                    <a:pt x="271433" y="237353"/>
                  </a:lnTo>
                  <a:lnTo>
                    <a:pt x="271545" y="237079"/>
                  </a:lnTo>
                  <a:lnTo>
                    <a:pt x="279061" y="202976"/>
                  </a:lnTo>
                  <a:lnTo>
                    <a:pt x="280835" y="170649"/>
                  </a:lnTo>
                  <a:lnTo>
                    <a:pt x="279061" y="138633"/>
                  </a:lnTo>
                  <a:lnTo>
                    <a:pt x="271514" y="104355"/>
                  </a:lnTo>
                  <a:lnTo>
                    <a:pt x="266280" y="9577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bject 30"/>
            <p:cNvSpPr/>
            <p:nvPr/>
          </p:nvSpPr>
          <p:spPr>
            <a:xfrm>
              <a:off x="605880" y="856476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62" y="0"/>
                  </a:moveTo>
                  <a:lnTo>
                    <a:pt x="125516" y="6015"/>
                  </a:lnTo>
                  <a:lnTo>
                    <a:pt x="84811" y="23042"/>
                  </a:lnTo>
                  <a:lnTo>
                    <a:pt x="50226" y="49550"/>
                  </a:lnTo>
                  <a:lnTo>
                    <a:pt x="23443" y="84010"/>
                  </a:lnTo>
                  <a:lnTo>
                    <a:pt x="6140" y="124890"/>
                  </a:lnTo>
                  <a:lnTo>
                    <a:pt x="0" y="170662"/>
                  </a:lnTo>
                  <a:lnTo>
                    <a:pt x="6090" y="216064"/>
                  </a:lnTo>
                  <a:lnTo>
                    <a:pt x="23282" y="256841"/>
                  </a:lnTo>
                  <a:lnTo>
                    <a:pt x="49955" y="291374"/>
                  </a:lnTo>
                  <a:lnTo>
                    <a:pt x="84489" y="318045"/>
                  </a:lnTo>
                  <a:lnTo>
                    <a:pt x="125265" y="335235"/>
                  </a:lnTo>
                  <a:lnTo>
                    <a:pt x="170662" y="341325"/>
                  </a:lnTo>
                  <a:lnTo>
                    <a:pt x="216064" y="335235"/>
                  </a:lnTo>
                  <a:lnTo>
                    <a:pt x="231503" y="328726"/>
                  </a:lnTo>
                  <a:lnTo>
                    <a:pt x="170662" y="328726"/>
                  </a:lnTo>
                  <a:lnTo>
                    <a:pt x="120765" y="320653"/>
                  </a:lnTo>
                  <a:lnTo>
                    <a:pt x="77386" y="298182"/>
                  </a:lnTo>
                  <a:lnTo>
                    <a:pt x="43150" y="263943"/>
                  </a:lnTo>
                  <a:lnTo>
                    <a:pt x="20683" y="220561"/>
                  </a:lnTo>
                  <a:lnTo>
                    <a:pt x="12611" y="170662"/>
                  </a:lnTo>
                  <a:lnTo>
                    <a:pt x="20753" y="120349"/>
                  </a:lnTo>
                  <a:lnTo>
                    <a:pt x="43358" y="76915"/>
                  </a:lnTo>
                  <a:lnTo>
                    <a:pt x="77699" y="42831"/>
                  </a:lnTo>
                  <a:lnTo>
                    <a:pt x="121043" y="20568"/>
                  </a:lnTo>
                  <a:lnTo>
                    <a:pt x="170662" y="12598"/>
                  </a:lnTo>
                  <a:lnTo>
                    <a:pt x="231545" y="12598"/>
                  </a:lnTo>
                  <a:lnTo>
                    <a:pt x="215808" y="6015"/>
                  </a:lnTo>
                  <a:lnTo>
                    <a:pt x="170662" y="0"/>
                  </a:lnTo>
                  <a:close/>
                </a:path>
                <a:path w="341630" h="341629">
                  <a:moveTo>
                    <a:pt x="231545" y="12598"/>
                  </a:moveTo>
                  <a:lnTo>
                    <a:pt x="170662" y="12598"/>
                  </a:lnTo>
                  <a:lnTo>
                    <a:pt x="220287" y="20568"/>
                  </a:lnTo>
                  <a:lnTo>
                    <a:pt x="263636" y="42831"/>
                  </a:lnTo>
                  <a:lnTo>
                    <a:pt x="297978" y="76915"/>
                  </a:lnTo>
                  <a:lnTo>
                    <a:pt x="320584" y="120349"/>
                  </a:lnTo>
                  <a:lnTo>
                    <a:pt x="328726" y="170662"/>
                  </a:lnTo>
                  <a:lnTo>
                    <a:pt x="320687" y="220561"/>
                  </a:lnTo>
                  <a:lnTo>
                    <a:pt x="298285" y="263943"/>
                  </a:lnTo>
                  <a:lnTo>
                    <a:pt x="264097" y="298182"/>
                  </a:lnTo>
                  <a:lnTo>
                    <a:pt x="220697" y="320653"/>
                  </a:lnTo>
                  <a:lnTo>
                    <a:pt x="170662" y="328726"/>
                  </a:lnTo>
                  <a:lnTo>
                    <a:pt x="231503" y="328726"/>
                  </a:lnTo>
                  <a:lnTo>
                    <a:pt x="291374" y="291374"/>
                  </a:lnTo>
                  <a:lnTo>
                    <a:pt x="318045" y="256841"/>
                  </a:lnTo>
                  <a:lnTo>
                    <a:pt x="335235" y="216064"/>
                  </a:lnTo>
                  <a:lnTo>
                    <a:pt x="341325" y="170662"/>
                  </a:lnTo>
                  <a:lnTo>
                    <a:pt x="335184" y="124890"/>
                  </a:lnTo>
                  <a:lnTo>
                    <a:pt x="317881" y="84010"/>
                  </a:lnTo>
                  <a:lnTo>
                    <a:pt x="291098" y="49550"/>
                  </a:lnTo>
                  <a:lnTo>
                    <a:pt x="256513" y="23042"/>
                  </a:lnTo>
                  <a:lnTo>
                    <a:pt x="231545" y="12598"/>
                  </a:lnTo>
                  <a:close/>
                </a:path>
                <a:path w="341630" h="341629">
                  <a:moveTo>
                    <a:pt x="130708" y="71297"/>
                  </a:moveTo>
                  <a:lnTo>
                    <a:pt x="102971" y="71297"/>
                  </a:lnTo>
                  <a:lnTo>
                    <a:pt x="99607" y="81656"/>
                  </a:lnTo>
                  <a:lnTo>
                    <a:pt x="93340" y="91046"/>
                  </a:lnTo>
                  <a:lnTo>
                    <a:pt x="82617" y="98483"/>
                  </a:lnTo>
                  <a:lnTo>
                    <a:pt x="65887" y="102984"/>
                  </a:lnTo>
                  <a:lnTo>
                    <a:pt x="65887" y="128181"/>
                  </a:lnTo>
                  <a:lnTo>
                    <a:pt x="96139" y="128181"/>
                  </a:lnTo>
                  <a:lnTo>
                    <a:pt x="96139" y="270040"/>
                  </a:lnTo>
                  <a:lnTo>
                    <a:pt x="130708" y="270040"/>
                  </a:lnTo>
                  <a:lnTo>
                    <a:pt x="130708" y="71297"/>
                  </a:lnTo>
                  <a:close/>
                </a:path>
                <a:path w="341630" h="341629">
                  <a:moveTo>
                    <a:pt x="257441" y="71297"/>
                  </a:moveTo>
                  <a:lnTo>
                    <a:pt x="229704" y="71297"/>
                  </a:lnTo>
                  <a:lnTo>
                    <a:pt x="226348" y="81656"/>
                  </a:lnTo>
                  <a:lnTo>
                    <a:pt x="220083" y="91046"/>
                  </a:lnTo>
                  <a:lnTo>
                    <a:pt x="209357" y="98483"/>
                  </a:lnTo>
                  <a:lnTo>
                    <a:pt x="192620" y="102984"/>
                  </a:lnTo>
                  <a:lnTo>
                    <a:pt x="192620" y="128181"/>
                  </a:lnTo>
                  <a:lnTo>
                    <a:pt x="222872" y="128181"/>
                  </a:lnTo>
                  <a:lnTo>
                    <a:pt x="222872" y="270040"/>
                  </a:lnTo>
                  <a:lnTo>
                    <a:pt x="257441" y="270040"/>
                  </a:lnTo>
                  <a:lnTo>
                    <a:pt x="257441" y="71297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bject 31"/>
            <p:cNvSpPr/>
            <p:nvPr/>
          </p:nvSpPr>
          <p:spPr>
            <a:xfrm>
              <a:off x="605880" y="974844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62" y="0"/>
                  </a:moveTo>
                  <a:lnTo>
                    <a:pt x="125516" y="6015"/>
                  </a:lnTo>
                  <a:lnTo>
                    <a:pt x="84811" y="23042"/>
                  </a:lnTo>
                  <a:lnTo>
                    <a:pt x="50226" y="49550"/>
                  </a:lnTo>
                  <a:lnTo>
                    <a:pt x="23443" y="84010"/>
                  </a:lnTo>
                  <a:lnTo>
                    <a:pt x="6140" y="124890"/>
                  </a:lnTo>
                  <a:lnTo>
                    <a:pt x="0" y="170662"/>
                  </a:lnTo>
                  <a:lnTo>
                    <a:pt x="6090" y="216059"/>
                  </a:lnTo>
                  <a:lnTo>
                    <a:pt x="23282" y="256835"/>
                  </a:lnTo>
                  <a:lnTo>
                    <a:pt x="49955" y="291369"/>
                  </a:lnTo>
                  <a:lnTo>
                    <a:pt x="84489" y="318042"/>
                  </a:lnTo>
                  <a:lnTo>
                    <a:pt x="125265" y="335234"/>
                  </a:lnTo>
                  <a:lnTo>
                    <a:pt x="170662" y="341325"/>
                  </a:lnTo>
                  <a:lnTo>
                    <a:pt x="216059" y="335234"/>
                  </a:lnTo>
                  <a:lnTo>
                    <a:pt x="231494" y="328726"/>
                  </a:lnTo>
                  <a:lnTo>
                    <a:pt x="170662" y="328726"/>
                  </a:lnTo>
                  <a:lnTo>
                    <a:pt x="120764" y="320653"/>
                  </a:lnTo>
                  <a:lnTo>
                    <a:pt x="77381" y="298182"/>
                  </a:lnTo>
                  <a:lnTo>
                    <a:pt x="43142" y="263943"/>
                  </a:lnTo>
                  <a:lnTo>
                    <a:pt x="20672" y="220561"/>
                  </a:lnTo>
                  <a:lnTo>
                    <a:pt x="12598" y="170662"/>
                  </a:lnTo>
                  <a:lnTo>
                    <a:pt x="20741" y="120349"/>
                  </a:lnTo>
                  <a:lnTo>
                    <a:pt x="43350" y="76915"/>
                  </a:lnTo>
                  <a:lnTo>
                    <a:pt x="77694" y="42831"/>
                  </a:lnTo>
                  <a:lnTo>
                    <a:pt x="121042" y="20568"/>
                  </a:lnTo>
                  <a:lnTo>
                    <a:pt x="170662" y="12598"/>
                  </a:lnTo>
                  <a:lnTo>
                    <a:pt x="231545" y="12598"/>
                  </a:lnTo>
                  <a:lnTo>
                    <a:pt x="215808" y="6015"/>
                  </a:lnTo>
                  <a:lnTo>
                    <a:pt x="170662" y="0"/>
                  </a:lnTo>
                  <a:close/>
                </a:path>
                <a:path w="341630" h="341629">
                  <a:moveTo>
                    <a:pt x="231545" y="12598"/>
                  </a:moveTo>
                  <a:lnTo>
                    <a:pt x="170662" y="12598"/>
                  </a:lnTo>
                  <a:lnTo>
                    <a:pt x="220283" y="20568"/>
                  </a:lnTo>
                  <a:lnTo>
                    <a:pt x="263630" y="42831"/>
                  </a:lnTo>
                  <a:lnTo>
                    <a:pt x="297974" y="76915"/>
                  </a:lnTo>
                  <a:lnTo>
                    <a:pt x="320583" y="120349"/>
                  </a:lnTo>
                  <a:lnTo>
                    <a:pt x="328726" y="170662"/>
                  </a:lnTo>
                  <a:lnTo>
                    <a:pt x="320687" y="220561"/>
                  </a:lnTo>
                  <a:lnTo>
                    <a:pt x="298285" y="263943"/>
                  </a:lnTo>
                  <a:lnTo>
                    <a:pt x="264097" y="298182"/>
                  </a:lnTo>
                  <a:lnTo>
                    <a:pt x="220697" y="320653"/>
                  </a:lnTo>
                  <a:lnTo>
                    <a:pt x="170662" y="328726"/>
                  </a:lnTo>
                  <a:lnTo>
                    <a:pt x="231494" y="328726"/>
                  </a:lnTo>
                  <a:lnTo>
                    <a:pt x="291369" y="291369"/>
                  </a:lnTo>
                  <a:lnTo>
                    <a:pt x="318042" y="256835"/>
                  </a:lnTo>
                  <a:lnTo>
                    <a:pt x="335234" y="216059"/>
                  </a:lnTo>
                  <a:lnTo>
                    <a:pt x="341325" y="170662"/>
                  </a:lnTo>
                  <a:lnTo>
                    <a:pt x="335184" y="124890"/>
                  </a:lnTo>
                  <a:lnTo>
                    <a:pt x="317881" y="84010"/>
                  </a:lnTo>
                  <a:lnTo>
                    <a:pt x="291098" y="49550"/>
                  </a:lnTo>
                  <a:lnTo>
                    <a:pt x="256513" y="23042"/>
                  </a:lnTo>
                  <a:lnTo>
                    <a:pt x="231545" y="12598"/>
                  </a:lnTo>
                  <a:close/>
                </a:path>
                <a:path w="341630" h="341629">
                  <a:moveTo>
                    <a:pt x="128536" y="71285"/>
                  </a:moveTo>
                  <a:lnTo>
                    <a:pt x="100812" y="71285"/>
                  </a:lnTo>
                  <a:lnTo>
                    <a:pt x="97291" y="81654"/>
                  </a:lnTo>
                  <a:lnTo>
                    <a:pt x="90998" y="91044"/>
                  </a:lnTo>
                  <a:lnTo>
                    <a:pt x="80252" y="98479"/>
                  </a:lnTo>
                  <a:lnTo>
                    <a:pt x="63373" y="102984"/>
                  </a:lnTo>
                  <a:lnTo>
                    <a:pt x="63373" y="128181"/>
                  </a:lnTo>
                  <a:lnTo>
                    <a:pt x="93980" y="128181"/>
                  </a:lnTo>
                  <a:lnTo>
                    <a:pt x="93980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30" h="341629">
                  <a:moveTo>
                    <a:pt x="272072" y="95770"/>
                  </a:moveTo>
                  <a:lnTo>
                    <a:pt x="226466" y="95770"/>
                  </a:lnTo>
                  <a:lnTo>
                    <a:pt x="232186" y="96839"/>
                  </a:lnTo>
                  <a:lnTo>
                    <a:pt x="238444" y="101079"/>
                  </a:lnTo>
                  <a:lnTo>
                    <a:pt x="243484" y="110043"/>
                  </a:lnTo>
                  <a:lnTo>
                    <a:pt x="245554" y="125285"/>
                  </a:lnTo>
                  <a:lnTo>
                    <a:pt x="244402" y="139002"/>
                  </a:lnTo>
                  <a:lnTo>
                    <a:pt x="239302" y="150995"/>
                  </a:lnTo>
                  <a:lnTo>
                    <a:pt x="227787" y="166156"/>
                  </a:lnTo>
                  <a:lnTo>
                    <a:pt x="207390" y="189382"/>
                  </a:lnTo>
                  <a:lnTo>
                    <a:pt x="187137" y="215858"/>
                  </a:lnTo>
                  <a:lnTo>
                    <a:pt x="175791" y="238083"/>
                  </a:lnTo>
                  <a:lnTo>
                    <a:pt x="170520" y="256122"/>
                  </a:lnTo>
                  <a:lnTo>
                    <a:pt x="168490" y="270040"/>
                  </a:lnTo>
                  <a:lnTo>
                    <a:pt x="277964" y="270040"/>
                  </a:lnTo>
                  <a:lnTo>
                    <a:pt x="277964" y="239788"/>
                  </a:lnTo>
                  <a:lnTo>
                    <a:pt x="210629" y="239788"/>
                  </a:lnTo>
                  <a:lnTo>
                    <a:pt x="215812" y="228404"/>
                  </a:lnTo>
                  <a:lnTo>
                    <a:pt x="222146" y="218098"/>
                  </a:lnTo>
                  <a:lnTo>
                    <a:pt x="231183" y="206575"/>
                  </a:lnTo>
                  <a:lnTo>
                    <a:pt x="244475" y="191541"/>
                  </a:lnTo>
                  <a:lnTo>
                    <a:pt x="259371" y="173568"/>
                  </a:lnTo>
                  <a:lnTo>
                    <a:pt x="269681" y="157384"/>
                  </a:lnTo>
                  <a:lnTo>
                    <a:pt x="275671" y="141267"/>
                  </a:lnTo>
                  <a:lnTo>
                    <a:pt x="277609" y="123494"/>
                  </a:lnTo>
                  <a:lnTo>
                    <a:pt x="273866" y="98848"/>
                  </a:lnTo>
                  <a:lnTo>
                    <a:pt x="272072" y="95770"/>
                  </a:lnTo>
                  <a:close/>
                </a:path>
                <a:path w="341630" h="341629">
                  <a:moveTo>
                    <a:pt x="226110" y="65887"/>
                  </a:moveTo>
                  <a:lnTo>
                    <a:pt x="195633" y="74703"/>
                  </a:lnTo>
                  <a:lnTo>
                    <a:pt x="179435" y="95908"/>
                  </a:lnTo>
                  <a:lnTo>
                    <a:pt x="172889" y="121635"/>
                  </a:lnTo>
                  <a:lnTo>
                    <a:pt x="171373" y="144017"/>
                  </a:lnTo>
                  <a:lnTo>
                    <a:pt x="203415" y="144017"/>
                  </a:lnTo>
                  <a:lnTo>
                    <a:pt x="204442" y="128887"/>
                  </a:lnTo>
                  <a:lnTo>
                    <a:pt x="207521" y="113145"/>
                  </a:lnTo>
                  <a:lnTo>
                    <a:pt x="214310" y="100778"/>
                  </a:lnTo>
                  <a:lnTo>
                    <a:pt x="226466" y="95770"/>
                  </a:lnTo>
                  <a:lnTo>
                    <a:pt x="272072" y="95770"/>
                  </a:lnTo>
                  <a:lnTo>
                    <a:pt x="263337" y="80784"/>
                  </a:lnTo>
                  <a:lnTo>
                    <a:pt x="247069" y="69673"/>
                  </a:lnTo>
                  <a:lnTo>
                    <a:pt x="226110" y="65887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bject 32"/>
            <p:cNvSpPr/>
            <p:nvPr/>
          </p:nvSpPr>
          <p:spPr>
            <a:xfrm>
              <a:off x="4248000" y="618660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62" y="0"/>
                  </a:moveTo>
                  <a:lnTo>
                    <a:pt x="125516" y="6016"/>
                  </a:lnTo>
                  <a:lnTo>
                    <a:pt x="84811" y="23045"/>
                  </a:lnTo>
                  <a:lnTo>
                    <a:pt x="50226" y="49556"/>
                  </a:lnTo>
                  <a:lnTo>
                    <a:pt x="23443" y="84019"/>
                  </a:lnTo>
                  <a:lnTo>
                    <a:pt x="6140" y="124902"/>
                  </a:lnTo>
                  <a:lnTo>
                    <a:pt x="0" y="170675"/>
                  </a:lnTo>
                  <a:lnTo>
                    <a:pt x="6091" y="216067"/>
                  </a:lnTo>
                  <a:lnTo>
                    <a:pt x="23285" y="256842"/>
                  </a:lnTo>
                  <a:lnTo>
                    <a:pt x="49960" y="291377"/>
                  </a:lnTo>
                  <a:lnTo>
                    <a:pt x="84495" y="318052"/>
                  </a:lnTo>
                  <a:lnTo>
                    <a:pt x="125269" y="335246"/>
                  </a:lnTo>
                  <a:lnTo>
                    <a:pt x="170662" y="341337"/>
                  </a:lnTo>
                  <a:lnTo>
                    <a:pt x="216060" y="335246"/>
                  </a:lnTo>
                  <a:lnTo>
                    <a:pt x="231492" y="328739"/>
                  </a:lnTo>
                  <a:lnTo>
                    <a:pt x="170662" y="328739"/>
                  </a:lnTo>
                  <a:lnTo>
                    <a:pt x="120764" y="320664"/>
                  </a:lnTo>
                  <a:lnTo>
                    <a:pt x="77381" y="298192"/>
                  </a:lnTo>
                  <a:lnTo>
                    <a:pt x="43142" y="263950"/>
                  </a:lnTo>
                  <a:lnTo>
                    <a:pt x="20672" y="220568"/>
                  </a:lnTo>
                  <a:lnTo>
                    <a:pt x="12598" y="170675"/>
                  </a:lnTo>
                  <a:lnTo>
                    <a:pt x="20741" y="120356"/>
                  </a:lnTo>
                  <a:lnTo>
                    <a:pt x="43350" y="76918"/>
                  </a:lnTo>
                  <a:lnTo>
                    <a:pt x="77694" y="42832"/>
                  </a:lnTo>
                  <a:lnTo>
                    <a:pt x="121042" y="20568"/>
                  </a:lnTo>
                  <a:lnTo>
                    <a:pt x="170662" y="12598"/>
                  </a:lnTo>
                  <a:lnTo>
                    <a:pt x="231542" y="12598"/>
                  </a:lnTo>
                  <a:lnTo>
                    <a:pt x="215809" y="6016"/>
                  </a:lnTo>
                  <a:lnTo>
                    <a:pt x="170662" y="0"/>
                  </a:lnTo>
                  <a:close/>
                </a:path>
                <a:path w="341629" h="341629">
                  <a:moveTo>
                    <a:pt x="231542" y="12598"/>
                  </a:moveTo>
                  <a:lnTo>
                    <a:pt x="170662" y="12598"/>
                  </a:lnTo>
                  <a:lnTo>
                    <a:pt x="220284" y="20568"/>
                  </a:lnTo>
                  <a:lnTo>
                    <a:pt x="263635" y="42832"/>
                  </a:lnTo>
                  <a:lnTo>
                    <a:pt x="297982" y="76918"/>
                  </a:lnTo>
                  <a:lnTo>
                    <a:pt x="320594" y="120356"/>
                  </a:lnTo>
                  <a:lnTo>
                    <a:pt x="328739" y="170675"/>
                  </a:lnTo>
                  <a:lnTo>
                    <a:pt x="320698" y="220568"/>
                  </a:lnTo>
                  <a:lnTo>
                    <a:pt x="298293" y="263950"/>
                  </a:lnTo>
                  <a:lnTo>
                    <a:pt x="264101" y="298192"/>
                  </a:lnTo>
                  <a:lnTo>
                    <a:pt x="220698" y="320664"/>
                  </a:lnTo>
                  <a:lnTo>
                    <a:pt x="170662" y="328739"/>
                  </a:lnTo>
                  <a:lnTo>
                    <a:pt x="231492" y="328739"/>
                  </a:lnTo>
                  <a:lnTo>
                    <a:pt x="291376" y="291377"/>
                  </a:lnTo>
                  <a:lnTo>
                    <a:pt x="318052" y="256842"/>
                  </a:lnTo>
                  <a:lnTo>
                    <a:pt x="335246" y="216067"/>
                  </a:lnTo>
                  <a:lnTo>
                    <a:pt x="341337" y="170675"/>
                  </a:lnTo>
                  <a:lnTo>
                    <a:pt x="335196" y="124902"/>
                  </a:lnTo>
                  <a:lnTo>
                    <a:pt x="317891" y="84019"/>
                  </a:lnTo>
                  <a:lnTo>
                    <a:pt x="291104" y="49556"/>
                  </a:lnTo>
                  <a:lnTo>
                    <a:pt x="256516" y="23045"/>
                  </a:lnTo>
                  <a:lnTo>
                    <a:pt x="231542" y="12598"/>
                  </a:lnTo>
                  <a:close/>
                </a:path>
                <a:path w="341629" h="341629">
                  <a:moveTo>
                    <a:pt x="203073" y="203796"/>
                  </a:moveTo>
                  <a:lnTo>
                    <a:pt x="171030" y="203796"/>
                  </a:lnTo>
                  <a:lnTo>
                    <a:pt x="172534" y="223956"/>
                  </a:lnTo>
                  <a:lnTo>
                    <a:pt x="179036" y="247591"/>
                  </a:lnTo>
                  <a:lnTo>
                    <a:pt x="195128" y="267242"/>
                  </a:lnTo>
                  <a:lnTo>
                    <a:pt x="225399" y="275450"/>
                  </a:lnTo>
                  <a:lnTo>
                    <a:pt x="249495" y="270329"/>
                  </a:lnTo>
                  <a:lnTo>
                    <a:pt x="266707" y="256363"/>
                  </a:lnTo>
                  <a:lnTo>
                    <a:pt x="272096" y="245554"/>
                  </a:lnTo>
                  <a:lnTo>
                    <a:pt x="225755" y="245554"/>
                  </a:lnTo>
                  <a:lnTo>
                    <a:pt x="213904" y="241967"/>
                  </a:lnTo>
                  <a:lnTo>
                    <a:pt x="207389" y="232510"/>
                  </a:lnTo>
                  <a:lnTo>
                    <a:pt x="204386" y="219135"/>
                  </a:lnTo>
                  <a:lnTo>
                    <a:pt x="203073" y="203796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12" y="71285"/>
                  </a:lnTo>
                  <a:lnTo>
                    <a:pt x="97293" y="81656"/>
                  </a:lnTo>
                  <a:lnTo>
                    <a:pt x="91003" y="91049"/>
                  </a:lnTo>
                  <a:lnTo>
                    <a:pt x="80258" y="98484"/>
                  </a:lnTo>
                  <a:lnTo>
                    <a:pt x="63373" y="102984"/>
                  </a:lnTo>
                  <a:lnTo>
                    <a:pt x="63373" y="128181"/>
                  </a:lnTo>
                  <a:lnTo>
                    <a:pt x="93967" y="128181"/>
                  </a:lnTo>
                  <a:lnTo>
                    <a:pt x="93967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73238" y="95770"/>
                  </a:moveTo>
                  <a:lnTo>
                    <a:pt x="226834" y="95770"/>
                  </a:lnTo>
                  <a:lnTo>
                    <a:pt x="235472" y="98164"/>
                  </a:lnTo>
                  <a:lnTo>
                    <a:pt x="241139" y="104374"/>
                  </a:lnTo>
                  <a:lnTo>
                    <a:pt x="244242" y="112947"/>
                  </a:lnTo>
                  <a:lnTo>
                    <a:pt x="245186" y="122428"/>
                  </a:lnTo>
                  <a:lnTo>
                    <a:pt x="244557" y="130733"/>
                  </a:lnTo>
                  <a:lnTo>
                    <a:pt x="241500" y="140596"/>
                  </a:lnTo>
                  <a:lnTo>
                    <a:pt x="234256" y="148843"/>
                  </a:lnTo>
                  <a:lnTo>
                    <a:pt x="221068" y="152298"/>
                  </a:lnTo>
                  <a:lnTo>
                    <a:pt x="214236" y="152298"/>
                  </a:lnTo>
                  <a:lnTo>
                    <a:pt x="214236" y="178600"/>
                  </a:lnTo>
                  <a:lnTo>
                    <a:pt x="223227" y="178600"/>
                  </a:lnTo>
                  <a:lnTo>
                    <a:pt x="235975" y="181642"/>
                  </a:lnTo>
                  <a:lnTo>
                    <a:pt x="243662" y="189442"/>
                  </a:lnTo>
                  <a:lnTo>
                    <a:pt x="247434" y="200009"/>
                  </a:lnTo>
                  <a:lnTo>
                    <a:pt x="248437" y="211353"/>
                  </a:lnTo>
                  <a:lnTo>
                    <a:pt x="248082" y="218524"/>
                  </a:lnTo>
                  <a:lnTo>
                    <a:pt x="245602" y="230077"/>
                  </a:lnTo>
                  <a:lnTo>
                    <a:pt x="238868" y="240819"/>
                  </a:lnTo>
                  <a:lnTo>
                    <a:pt x="225755" y="245554"/>
                  </a:lnTo>
                  <a:lnTo>
                    <a:pt x="272096" y="245554"/>
                  </a:lnTo>
                  <a:lnTo>
                    <a:pt x="277036" y="235647"/>
                  </a:lnTo>
                  <a:lnTo>
                    <a:pt x="280479" y="210273"/>
                  </a:lnTo>
                  <a:lnTo>
                    <a:pt x="277919" y="189428"/>
                  </a:lnTo>
                  <a:lnTo>
                    <a:pt x="271613" y="175844"/>
                  </a:lnTo>
                  <a:lnTo>
                    <a:pt x="263618" y="167593"/>
                  </a:lnTo>
                  <a:lnTo>
                    <a:pt x="255993" y="162750"/>
                  </a:lnTo>
                  <a:lnTo>
                    <a:pt x="262201" y="158624"/>
                  </a:lnTo>
                  <a:lnTo>
                    <a:pt x="269184" y="151088"/>
                  </a:lnTo>
                  <a:lnTo>
                    <a:pt x="274883" y="138490"/>
                  </a:lnTo>
                  <a:lnTo>
                    <a:pt x="277241" y="119176"/>
                  </a:lnTo>
                  <a:lnTo>
                    <a:pt x="273238" y="95770"/>
                  </a:lnTo>
                  <a:close/>
                </a:path>
                <a:path w="341629" h="341629">
                  <a:moveTo>
                    <a:pt x="227190" y="65900"/>
                  </a:moveTo>
                  <a:lnTo>
                    <a:pt x="197967" y="74084"/>
                  </a:lnTo>
                  <a:lnTo>
                    <a:pt x="182449" y="93033"/>
                  </a:lnTo>
                  <a:lnTo>
                    <a:pt x="176250" y="114345"/>
                  </a:lnTo>
                  <a:lnTo>
                    <a:pt x="174980" y="129616"/>
                  </a:lnTo>
                  <a:lnTo>
                    <a:pt x="207035" y="129616"/>
                  </a:lnTo>
                  <a:lnTo>
                    <a:pt x="207896" y="119012"/>
                  </a:lnTo>
                  <a:lnTo>
                    <a:pt x="210448" y="107969"/>
                  </a:lnTo>
                  <a:lnTo>
                    <a:pt x="216243" y="99287"/>
                  </a:lnTo>
                  <a:lnTo>
                    <a:pt x="226834" y="95770"/>
                  </a:lnTo>
                  <a:lnTo>
                    <a:pt x="273238" y="95770"/>
                  </a:lnTo>
                  <a:lnTo>
                    <a:pt x="273167" y="95357"/>
                  </a:lnTo>
                  <a:lnTo>
                    <a:pt x="262207" y="78765"/>
                  </a:lnTo>
                  <a:lnTo>
                    <a:pt x="246251" y="69059"/>
                  </a:lnTo>
                  <a:lnTo>
                    <a:pt x="227190" y="6590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bject 33"/>
            <p:cNvSpPr/>
            <p:nvPr/>
          </p:nvSpPr>
          <p:spPr>
            <a:xfrm>
              <a:off x="4248000" y="737568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75" y="0"/>
                  </a:moveTo>
                  <a:lnTo>
                    <a:pt x="125528" y="6015"/>
                  </a:lnTo>
                  <a:lnTo>
                    <a:pt x="84820" y="23042"/>
                  </a:lnTo>
                  <a:lnTo>
                    <a:pt x="50233" y="49550"/>
                  </a:lnTo>
                  <a:lnTo>
                    <a:pt x="23446" y="84010"/>
                  </a:lnTo>
                  <a:lnTo>
                    <a:pt x="6141" y="124890"/>
                  </a:lnTo>
                  <a:lnTo>
                    <a:pt x="0" y="170662"/>
                  </a:lnTo>
                  <a:lnTo>
                    <a:pt x="6091" y="216059"/>
                  </a:lnTo>
                  <a:lnTo>
                    <a:pt x="23285" y="256835"/>
                  </a:lnTo>
                  <a:lnTo>
                    <a:pt x="49961" y="291369"/>
                  </a:lnTo>
                  <a:lnTo>
                    <a:pt x="84499" y="318042"/>
                  </a:lnTo>
                  <a:lnTo>
                    <a:pt x="125277" y="335234"/>
                  </a:lnTo>
                  <a:lnTo>
                    <a:pt x="170675" y="341325"/>
                  </a:lnTo>
                  <a:lnTo>
                    <a:pt x="216067" y="335234"/>
                  </a:lnTo>
                  <a:lnTo>
                    <a:pt x="231502" y="328726"/>
                  </a:lnTo>
                  <a:lnTo>
                    <a:pt x="170675" y="328726"/>
                  </a:lnTo>
                  <a:lnTo>
                    <a:pt x="120770" y="320653"/>
                  </a:lnTo>
                  <a:lnTo>
                    <a:pt x="77384" y="298182"/>
                  </a:lnTo>
                  <a:lnTo>
                    <a:pt x="43143" y="263943"/>
                  </a:lnTo>
                  <a:lnTo>
                    <a:pt x="20672" y="220561"/>
                  </a:lnTo>
                  <a:lnTo>
                    <a:pt x="12598" y="170662"/>
                  </a:lnTo>
                  <a:lnTo>
                    <a:pt x="20741" y="120349"/>
                  </a:lnTo>
                  <a:lnTo>
                    <a:pt x="43351" y="76915"/>
                  </a:lnTo>
                  <a:lnTo>
                    <a:pt x="77697" y="42831"/>
                  </a:lnTo>
                  <a:lnTo>
                    <a:pt x="121048" y="20568"/>
                  </a:lnTo>
                  <a:lnTo>
                    <a:pt x="170675" y="12598"/>
                  </a:lnTo>
                  <a:lnTo>
                    <a:pt x="231558" y="12598"/>
                  </a:lnTo>
                  <a:lnTo>
                    <a:pt x="215821" y="6015"/>
                  </a:lnTo>
                  <a:lnTo>
                    <a:pt x="170675" y="0"/>
                  </a:lnTo>
                  <a:close/>
                </a:path>
                <a:path w="341629" h="341629">
                  <a:moveTo>
                    <a:pt x="231558" y="12598"/>
                  </a:moveTo>
                  <a:lnTo>
                    <a:pt x="170675" y="12598"/>
                  </a:lnTo>
                  <a:lnTo>
                    <a:pt x="220290" y="20568"/>
                  </a:lnTo>
                  <a:lnTo>
                    <a:pt x="263637" y="42831"/>
                  </a:lnTo>
                  <a:lnTo>
                    <a:pt x="297983" y="76915"/>
                  </a:lnTo>
                  <a:lnTo>
                    <a:pt x="320595" y="120349"/>
                  </a:lnTo>
                  <a:lnTo>
                    <a:pt x="328739" y="170662"/>
                  </a:lnTo>
                  <a:lnTo>
                    <a:pt x="320698" y="220561"/>
                  </a:lnTo>
                  <a:lnTo>
                    <a:pt x="298294" y="263943"/>
                  </a:lnTo>
                  <a:lnTo>
                    <a:pt x="264104" y="298182"/>
                  </a:lnTo>
                  <a:lnTo>
                    <a:pt x="220705" y="320653"/>
                  </a:lnTo>
                  <a:lnTo>
                    <a:pt x="170675" y="328726"/>
                  </a:lnTo>
                  <a:lnTo>
                    <a:pt x="231502" y="328726"/>
                  </a:lnTo>
                  <a:lnTo>
                    <a:pt x="291377" y="291369"/>
                  </a:lnTo>
                  <a:lnTo>
                    <a:pt x="318052" y="256835"/>
                  </a:lnTo>
                  <a:lnTo>
                    <a:pt x="335246" y="216059"/>
                  </a:lnTo>
                  <a:lnTo>
                    <a:pt x="341337" y="170662"/>
                  </a:lnTo>
                  <a:lnTo>
                    <a:pt x="335197" y="124890"/>
                  </a:lnTo>
                  <a:lnTo>
                    <a:pt x="317894" y="84010"/>
                  </a:lnTo>
                  <a:lnTo>
                    <a:pt x="291110" y="49550"/>
                  </a:lnTo>
                  <a:lnTo>
                    <a:pt x="256526" y="23042"/>
                  </a:lnTo>
                  <a:lnTo>
                    <a:pt x="231558" y="12598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25" y="71285"/>
                  </a:lnTo>
                  <a:lnTo>
                    <a:pt x="97300" y="81654"/>
                  </a:lnTo>
                  <a:lnTo>
                    <a:pt x="91009" y="91043"/>
                  </a:lnTo>
                  <a:lnTo>
                    <a:pt x="80263" y="98474"/>
                  </a:lnTo>
                  <a:lnTo>
                    <a:pt x="63373" y="102971"/>
                  </a:lnTo>
                  <a:lnTo>
                    <a:pt x="63373" y="128181"/>
                  </a:lnTo>
                  <a:lnTo>
                    <a:pt x="93980" y="128181"/>
                  </a:lnTo>
                  <a:lnTo>
                    <a:pt x="93980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64998" y="224675"/>
                  </a:moveTo>
                  <a:lnTo>
                    <a:pt x="232956" y="224675"/>
                  </a:lnTo>
                  <a:lnTo>
                    <a:pt x="232956" y="270040"/>
                  </a:lnTo>
                  <a:lnTo>
                    <a:pt x="264998" y="270040"/>
                  </a:lnTo>
                  <a:lnTo>
                    <a:pt x="264998" y="224675"/>
                  </a:lnTo>
                  <a:close/>
                </a:path>
                <a:path w="341629" h="341629">
                  <a:moveTo>
                    <a:pt x="264998" y="71285"/>
                  </a:moveTo>
                  <a:lnTo>
                    <a:pt x="232600" y="71285"/>
                  </a:lnTo>
                  <a:lnTo>
                    <a:pt x="168148" y="194779"/>
                  </a:lnTo>
                  <a:lnTo>
                    <a:pt x="168148" y="224675"/>
                  </a:lnTo>
                  <a:lnTo>
                    <a:pt x="282295" y="224675"/>
                  </a:lnTo>
                  <a:lnTo>
                    <a:pt x="282295" y="194779"/>
                  </a:lnTo>
                  <a:lnTo>
                    <a:pt x="196596" y="194779"/>
                  </a:lnTo>
                  <a:lnTo>
                    <a:pt x="232956" y="125285"/>
                  </a:lnTo>
                  <a:lnTo>
                    <a:pt x="264998" y="125285"/>
                  </a:lnTo>
                  <a:lnTo>
                    <a:pt x="264998" y="71285"/>
                  </a:lnTo>
                  <a:close/>
                </a:path>
                <a:path w="341629" h="341629">
                  <a:moveTo>
                    <a:pt x="264998" y="125285"/>
                  </a:moveTo>
                  <a:lnTo>
                    <a:pt x="232956" y="125285"/>
                  </a:lnTo>
                  <a:lnTo>
                    <a:pt x="232956" y="194779"/>
                  </a:lnTo>
                  <a:lnTo>
                    <a:pt x="264998" y="194779"/>
                  </a:lnTo>
                  <a:lnTo>
                    <a:pt x="264998" y="125285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bject 34"/>
            <p:cNvSpPr/>
            <p:nvPr/>
          </p:nvSpPr>
          <p:spPr>
            <a:xfrm>
              <a:off x="4248000" y="856476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75" y="0"/>
                  </a:moveTo>
                  <a:lnTo>
                    <a:pt x="125528" y="6015"/>
                  </a:lnTo>
                  <a:lnTo>
                    <a:pt x="84820" y="23042"/>
                  </a:lnTo>
                  <a:lnTo>
                    <a:pt x="50233" y="49549"/>
                  </a:lnTo>
                  <a:lnTo>
                    <a:pt x="23446" y="84006"/>
                  </a:lnTo>
                  <a:lnTo>
                    <a:pt x="6141" y="124883"/>
                  </a:lnTo>
                  <a:lnTo>
                    <a:pt x="0" y="170649"/>
                  </a:lnTo>
                  <a:lnTo>
                    <a:pt x="6091" y="216052"/>
                  </a:lnTo>
                  <a:lnTo>
                    <a:pt x="23285" y="256831"/>
                  </a:lnTo>
                  <a:lnTo>
                    <a:pt x="49961" y="291368"/>
                  </a:lnTo>
                  <a:lnTo>
                    <a:pt x="84499" y="318042"/>
                  </a:lnTo>
                  <a:lnTo>
                    <a:pt x="125277" y="335234"/>
                  </a:lnTo>
                  <a:lnTo>
                    <a:pt x="170675" y="341325"/>
                  </a:lnTo>
                  <a:lnTo>
                    <a:pt x="216072" y="335234"/>
                  </a:lnTo>
                  <a:lnTo>
                    <a:pt x="231507" y="328726"/>
                  </a:lnTo>
                  <a:lnTo>
                    <a:pt x="170675" y="328726"/>
                  </a:lnTo>
                  <a:lnTo>
                    <a:pt x="120776" y="320652"/>
                  </a:lnTo>
                  <a:lnTo>
                    <a:pt x="77394" y="298182"/>
                  </a:lnTo>
                  <a:lnTo>
                    <a:pt x="43154" y="263940"/>
                  </a:lnTo>
                  <a:lnTo>
                    <a:pt x="20684" y="220554"/>
                  </a:lnTo>
                  <a:lnTo>
                    <a:pt x="12611" y="170649"/>
                  </a:lnTo>
                  <a:lnTo>
                    <a:pt x="20753" y="120343"/>
                  </a:lnTo>
                  <a:lnTo>
                    <a:pt x="43359" y="76912"/>
                  </a:lnTo>
                  <a:lnTo>
                    <a:pt x="77701" y="42830"/>
                  </a:lnTo>
                  <a:lnTo>
                    <a:pt x="121049" y="20568"/>
                  </a:lnTo>
                  <a:lnTo>
                    <a:pt x="170675" y="12598"/>
                  </a:lnTo>
                  <a:lnTo>
                    <a:pt x="231558" y="12598"/>
                  </a:lnTo>
                  <a:lnTo>
                    <a:pt x="215821" y="6015"/>
                  </a:lnTo>
                  <a:lnTo>
                    <a:pt x="170675" y="0"/>
                  </a:lnTo>
                  <a:close/>
                </a:path>
                <a:path w="341629" h="341629">
                  <a:moveTo>
                    <a:pt x="231558" y="12598"/>
                  </a:moveTo>
                  <a:lnTo>
                    <a:pt x="170675" y="12598"/>
                  </a:lnTo>
                  <a:lnTo>
                    <a:pt x="220295" y="20568"/>
                  </a:lnTo>
                  <a:lnTo>
                    <a:pt x="263643" y="42830"/>
                  </a:lnTo>
                  <a:lnTo>
                    <a:pt x="297987" y="76912"/>
                  </a:lnTo>
                  <a:lnTo>
                    <a:pt x="320596" y="120343"/>
                  </a:lnTo>
                  <a:lnTo>
                    <a:pt x="328739" y="170649"/>
                  </a:lnTo>
                  <a:lnTo>
                    <a:pt x="320699" y="220554"/>
                  </a:lnTo>
                  <a:lnTo>
                    <a:pt x="298298" y="263940"/>
                  </a:lnTo>
                  <a:lnTo>
                    <a:pt x="264109" y="298182"/>
                  </a:lnTo>
                  <a:lnTo>
                    <a:pt x="220710" y="320652"/>
                  </a:lnTo>
                  <a:lnTo>
                    <a:pt x="170675" y="328726"/>
                  </a:lnTo>
                  <a:lnTo>
                    <a:pt x="231507" y="328726"/>
                  </a:lnTo>
                  <a:lnTo>
                    <a:pt x="291382" y="291368"/>
                  </a:lnTo>
                  <a:lnTo>
                    <a:pt x="318055" y="256831"/>
                  </a:lnTo>
                  <a:lnTo>
                    <a:pt x="335247" y="216052"/>
                  </a:lnTo>
                  <a:lnTo>
                    <a:pt x="341337" y="170649"/>
                  </a:lnTo>
                  <a:lnTo>
                    <a:pt x="335197" y="124883"/>
                  </a:lnTo>
                  <a:lnTo>
                    <a:pt x="317894" y="84006"/>
                  </a:lnTo>
                  <a:lnTo>
                    <a:pt x="291110" y="49549"/>
                  </a:lnTo>
                  <a:lnTo>
                    <a:pt x="256526" y="23042"/>
                  </a:lnTo>
                  <a:lnTo>
                    <a:pt x="231558" y="12598"/>
                  </a:lnTo>
                  <a:close/>
                </a:path>
                <a:path w="341629" h="341629">
                  <a:moveTo>
                    <a:pt x="203085" y="214579"/>
                  </a:moveTo>
                  <a:lnTo>
                    <a:pt x="171754" y="214579"/>
                  </a:lnTo>
                  <a:lnTo>
                    <a:pt x="172989" y="228490"/>
                  </a:lnTo>
                  <a:lnTo>
                    <a:pt x="179220" y="248916"/>
                  </a:lnTo>
                  <a:lnTo>
                    <a:pt x="195041" y="267385"/>
                  </a:lnTo>
                  <a:lnTo>
                    <a:pt x="225044" y="275424"/>
                  </a:lnTo>
                  <a:lnTo>
                    <a:pt x="252806" y="268073"/>
                  </a:lnTo>
                  <a:lnTo>
                    <a:pt x="270002" y="249821"/>
                  </a:lnTo>
                  <a:lnTo>
                    <a:pt x="271595" y="245554"/>
                  </a:lnTo>
                  <a:lnTo>
                    <a:pt x="224320" y="245554"/>
                  </a:lnTo>
                  <a:lnTo>
                    <a:pt x="212699" y="242082"/>
                  </a:lnTo>
                  <a:lnTo>
                    <a:pt x="206411" y="233714"/>
                  </a:lnTo>
                  <a:lnTo>
                    <a:pt x="203769" y="223523"/>
                  </a:lnTo>
                  <a:lnTo>
                    <a:pt x="203085" y="214579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25" y="71285"/>
                  </a:lnTo>
                  <a:lnTo>
                    <a:pt x="97306" y="81649"/>
                  </a:lnTo>
                  <a:lnTo>
                    <a:pt x="91016" y="91038"/>
                  </a:lnTo>
                  <a:lnTo>
                    <a:pt x="80270" y="98472"/>
                  </a:lnTo>
                  <a:lnTo>
                    <a:pt x="63385" y="102971"/>
                  </a:lnTo>
                  <a:lnTo>
                    <a:pt x="63385" y="128181"/>
                  </a:lnTo>
                  <a:lnTo>
                    <a:pt x="93980" y="128181"/>
                  </a:lnTo>
                  <a:lnTo>
                    <a:pt x="93980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71985" y="163461"/>
                  </a:moveTo>
                  <a:lnTo>
                    <a:pt x="226847" y="163461"/>
                  </a:lnTo>
                  <a:lnTo>
                    <a:pt x="238325" y="168142"/>
                  </a:lnTo>
                  <a:lnTo>
                    <a:pt x="244979" y="179303"/>
                  </a:lnTo>
                  <a:lnTo>
                    <a:pt x="248057" y="192624"/>
                  </a:lnTo>
                  <a:lnTo>
                    <a:pt x="248805" y="203784"/>
                  </a:lnTo>
                  <a:lnTo>
                    <a:pt x="248171" y="215020"/>
                  </a:lnTo>
                  <a:lnTo>
                    <a:pt x="245073" y="228855"/>
                  </a:lnTo>
                  <a:lnTo>
                    <a:pt x="237720" y="240597"/>
                  </a:lnTo>
                  <a:lnTo>
                    <a:pt x="224320" y="245554"/>
                  </a:lnTo>
                  <a:lnTo>
                    <a:pt x="271595" y="245554"/>
                  </a:lnTo>
                  <a:lnTo>
                    <a:pt x="278757" y="226368"/>
                  </a:lnTo>
                  <a:lnTo>
                    <a:pt x="281203" y="203415"/>
                  </a:lnTo>
                  <a:lnTo>
                    <a:pt x="278245" y="178657"/>
                  </a:lnTo>
                  <a:lnTo>
                    <a:pt x="271985" y="163461"/>
                  </a:lnTo>
                  <a:close/>
                </a:path>
                <a:path w="341629" h="341629">
                  <a:moveTo>
                    <a:pt x="272211" y="71285"/>
                  </a:moveTo>
                  <a:lnTo>
                    <a:pt x="189395" y="71285"/>
                  </a:lnTo>
                  <a:lnTo>
                    <a:pt x="176072" y="181101"/>
                  </a:lnTo>
                  <a:lnTo>
                    <a:pt x="208470" y="181101"/>
                  </a:lnTo>
                  <a:lnTo>
                    <a:pt x="212409" y="171964"/>
                  </a:lnTo>
                  <a:lnTo>
                    <a:pt x="217525" y="166609"/>
                  </a:lnTo>
                  <a:lnTo>
                    <a:pt x="222707" y="164090"/>
                  </a:lnTo>
                  <a:lnTo>
                    <a:pt x="226847" y="163461"/>
                  </a:lnTo>
                  <a:lnTo>
                    <a:pt x="271985" y="163461"/>
                  </a:lnTo>
                  <a:lnTo>
                    <a:pt x="269686" y="157881"/>
                  </a:lnTo>
                  <a:lnTo>
                    <a:pt x="261918" y="149771"/>
                  </a:lnTo>
                  <a:lnTo>
                    <a:pt x="212077" y="149771"/>
                  </a:lnTo>
                  <a:lnTo>
                    <a:pt x="217843" y="101511"/>
                  </a:lnTo>
                  <a:lnTo>
                    <a:pt x="272211" y="101511"/>
                  </a:lnTo>
                  <a:lnTo>
                    <a:pt x="272211" y="71285"/>
                  </a:lnTo>
                  <a:close/>
                </a:path>
                <a:path w="341629" h="341629">
                  <a:moveTo>
                    <a:pt x="237642" y="138264"/>
                  </a:moveTo>
                  <a:lnTo>
                    <a:pt x="227823" y="139455"/>
                  </a:lnTo>
                  <a:lnTo>
                    <a:pt x="220673" y="142398"/>
                  </a:lnTo>
                  <a:lnTo>
                    <a:pt x="215616" y="146151"/>
                  </a:lnTo>
                  <a:lnTo>
                    <a:pt x="212077" y="149771"/>
                  </a:lnTo>
                  <a:lnTo>
                    <a:pt x="261918" y="149771"/>
                  </a:lnTo>
                  <a:lnTo>
                    <a:pt x="255994" y="143585"/>
                  </a:lnTo>
                  <a:lnTo>
                    <a:pt x="237642" y="138264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bject 35"/>
            <p:cNvSpPr/>
            <p:nvPr/>
          </p:nvSpPr>
          <p:spPr>
            <a:xfrm>
              <a:off x="4248000" y="974844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62" y="0"/>
                  </a:moveTo>
                  <a:lnTo>
                    <a:pt x="125516" y="6014"/>
                  </a:lnTo>
                  <a:lnTo>
                    <a:pt x="84811" y="23039"/>
                  </a:lnTo>
                  <a:lnTo>
                    <a:pt x="50226" y="49544"/>
                  </a:lnTo>
                  <a:lnTo>
                    <a:pt x="23443" y="84000"/>
                  </a:lnTo>
                  <a:lnTo>
                    <a:pt x="6140" y="124878"/>
                  </a:lnTo>
                  <a:lnTo>
                    <a:pt x="0" y="170649"/>
                  </a:lnTo>
                  <a:lnTo>
                    <a:pt x="6091" y="216051"/>
                  </a:lnTo>
                  <a:lnTo>
                    <a:pt x="23285" y="256828"/>
                  </a:lnTo>
                  <a:lnTo>
                    <a:pt x="49960" y="291361"/>
                  </a:lnTo>
                  <a:lnTo>
                    <a:pt x="84495" y="318032"/>
                  </a:lnTo>
                  <a:lnTo>
                    <a:pt x="125269" y="335222"/>
                  </a:lnTo>
                  <a:lnTo>
                    <a:pt x="170662" y="341312"/>
                  </a:lnTo>
                  <a:lnTo>
                    <a:pt x="216060" y="335222"/>
                  </a:lnTo>
                  <a:lnTo>
                    <a:pt x="231500" y="328714"/>
                  </a:lnTo>
                  <a:lnTo>
                    <a:pt x="170662" y="328714"/>
                  </a:lnTo>
                  <a:lnTo>
                    <a:pt x="120764" y="320640"/>
                  </a:lnTo>
                  <a:lnTo>
                    <a:pt x="77381" y="298170"/>
                  </a:lnTo>
                  <a:lnTo>
                    <a:pt x="43142" y="263930"/>
                  </a:lnTo>
                  <a:lnTo>
                    <a:pt x="20672" y="220548"/>
                  </a:lnTo>
                  <a:lnTo>
                    <a:pt x="12787" y="171815"/>
                  </a:lnTo>
                  <a:lnTo>
                    <a:pt x="12714" y="169934"/>
                  </a:lnTo>
                  <a:lnTo>
                    <a:pt x="20741" y="120343"/>
                  </a:lnTo>
                  <a:lnTo>
                    <a:pt x="43350" y="76912"/>
                  </a:lnTo>
                  <a:lnTo>
                    <a:pt x="77694" y="42830"/>
                  </a:lnTo>
                  <a:lnTo>
                    <a:pt x="121042" y="20568"/>
                  </a:lnTo>
                  <a:lnTo>
                    <a:pt x="170662" y="12598"/>
                  </a:lnTo>
                  <a:lnTo>
                    <a:pt x="231551" y="12598"/>
                  </a:lnTo>
                  <a:lnTo>
                    <a:pt x="215809" y="6014"/>
                  </a:lnTo>
                  <a:lnTo>
                    <a:pt x="170662" y="0"/>
                  </a:lnTo>
                  <a:close/>
                </a:path>
                <a:path w="341629" h="341629">
                  <a:moveTo>
                    <a:pt x="231551" y="12598"/>
                  </a:moveTo>
                  <a:lnTo>
                    <a:pt x="170662" y="12598"/>
                  </a:lnTo>
                  <a:lnTo>
                    <a:pt x="220284" y="20568"/>
                  </a:lnTo>
                  <a:lnTo>
                    <a:pt x="263635" y="42830"/>
                  </a:lnTo>
                  <a:lnTo>
                    <a:pt x="297982" y="76912"/>
                  </a:lnTo>
                  <a:lnTo>
                    <a:pt x="320594" y="120343"/>
                  </a:lnTo>
                  <a:lnTo>
                    <a:pt x="328739" y="170649"/>
                  </a:lnTo>
                  <a:lnTo>
                    <a:pt x="320698" y="220548"/>
                  </a:lnTo>
                  <a:lnTo>
                    <a:pt x="298293" y="263930"/>
                  </a:lnTo>
                  <a:lnTo>
                    <a:pt x="264101" y="298170"/>
                  </a:lnTo>
                  <a:lnTo>
                    <a:pt x="220698" y="320640"/>
                  </a:lnTo>
                  <a:lnTo>
                    <a:pt x="170662" y="328714"/>
                  </a:lnTo>
                  <a:lnTo>
                    <a:pt x="231500" y="328714"/>
                  </a:lnTo>
                  <a:lnTo>
                    <a:pt x="291376" y="291361"/>
                  </a:lnTo>
                  <a:lnTo>
                    <a:pt x="318052" y="256828"/>
                  </a:lnTo>
                  <a:lnTo>
                    <a:pt x="335246" y="216051"/>
                  </a:lnTo>
                  <a:lnTo>
                    <a:pt x="341181" y="171815"/>
                  </a:lnTo>
                  <a:lnTo>
                    <a:pt x="341241" y="169934"/>
                  </a:lnTo>
                  <a:lnTo>
                    <a:pt x="335196" y="124878"/>
                  </a:lnTo>
                  <a:lnTo>
                    <a:pt x="317891" y="84000"/>
                  </a:lnTo>
                  <a:lnTo>
                    <a:pt x="291104" y="49544"/>
                  </a:lnTo>
                  <a:lnTo>
                    <a:pt x="256516" y="23039"/>
                  </a:lnTo>
                  <a:lnTo>
                    <a:pt x="231551" y="12598"/>
                  </a:lnTo>
                  <a:close/>
                </a:path>
                <a:path w="341629" h="341629">
                  <a:moveTo>
                    <a:pt x="228269" y="65874"/>
                  </a:moveTo>
                  <a:lnTo>
                    <a:pt x="200930" y="74826"/>
                  </a:lnTo>
                  <a:lnTo>
                    <a:pt x="182908" y="98598"/>
                  </a:lnTo>
                  <a:lnTo>
                    <a:pt x="172987" y="132563"/>
                  </a:lnTo>
                  <a:lnTo>
                    <a:pt x="169951" y="172097"/>
                  </a:lnTo>
                  <a:lnTo>
                    <a:pt x="171312" y="199788"/>
                  </a:lnTo>
                  <a:lnTo>
                    <a:pt x="178411" y="234024"/>
                  </a:lnTo>
                  <a:lnTo>
                    <a:pt x="195770" y="263128"/>
                  </a:lnTo>
                  <a:lnTo>
                    <a:pt x="227914" y="275424"/>
                  </a:lnTo>
                  <a:lnTo>
                    <a:pt x="251772" y="269151"/>
                  </a:lnTo>
                  <a:lnTo>
                    <a:pt x="268103" y="252785"/>
                  </a:lnTo>
                  <a:lnTo>
                    <a:pt x="271085" y="245541"/>
                  </a:lnTo>
                  <a:lnTo>
                    <a:pt x="226110" y="245541"/>
                  </a:lnTo>
                  <a:lnTo>
                    <a:pt x="215387" y="241727"/>
                  </a:lnTo>
                  <a:lnTo>
                    <a:pt x="208649" y="232040"/>
                  </a:lnTo>
                  <a:lnTo>
                    <a:pt x="205152" y="219111"/>
                  </a:lnTo>
                  <a:lnTo>
                    <a:pt x="204178" y="205930"/>
                  </a:lnTo>
                  <a:lnTo>
                    <a:pt x="204254" y="204495"/>
                  </a:lnTo>
                  <a:lnTo>
                    <a:pt x="205608" y="190137"/>
                  </a:lnTo>
                  <a:lnTo>
                    <a:pt x="209864" y="177942"/>
                  </a:lnTo>
                  <a:lnTo>
                    <a:pt x="216754" y="169934"/>
                  </a:lnTo>
                  <a:lnTo>
                    <a:pt x="226110" y="167055"/>
                  </a:lnTo>
                  <a:lnTo>
                    <a:pt x="271845" y="167055"/>
                  </a:lnTo>
                  <a:lnTo>
                    <a:pt x="267665" y="159486"/>
                  </a:lnTo>
                  <a:lnTo>
                    <a:pt x="201637" y="159486"/>
                  </a:lnTo>
                  <a:lnTo>
                    <a:pt x="205545" y="125283"/>
                  </a:lnTo>
                  <a:lnTo>
                    <a:pt x="212658" y="106203"/>
                  </a:lnTo>
                  <a:lnTo>
                    <a:pt x="220918" y="97925"/>
                  </a:lnTo>
                  <a:lnTo>
                    <a:pt x="228269" y="96126"/>
                  </a:lnTo>
                  <a:lnTo>
                    <a:pt x="272079" y="96126"/>
                  </a:lnTo>
                  <a:lnTo>
                    <a:pt x="271569" y="93976"/>
                  </a:lnTo>
                  <a:lnTo>
                    <a:pt x="260008" y="77081"/>
                  </a:lnTo>
                  <a:lnTo>
                    <a:pt x="245001" y="68355"/>
                  </a:lnTo>
                  <a:lnTo>
                    <a:pt x="228269" y="65874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12" y="71285"/>
                  </a:lnTo>
                  <a:lnTo>
                    <a:pt x="97293" y="81649"/>
                  </a:lnTo>
                  <a:lnTo>
                    <a:pt x="91003" y="91038"/>
                  </a:lnTo>
                  <a:lnTo>
                    <a:pt x="80258" y="98472"/>
                  </a:lnTo>
                  <a:lnTo>
                    <a:pt x="63372" y="102971"/>
                  </a:lnTo>
                  <a:lnTo>
                    <a:pt x="63372" y="128168"/>
                  </a:lnTo>
                  <a:lnTo>
                    <a:pt x="93967" y="128168"/>
                  </a:lnTo>
                  <a:lnTo>
                    <a:pt x="93967" y="270027"/>
                  </a:lnTo>
                  <a:lnTo>
                    <a:pt x="128536" y="270027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71845" y="167055"/>
                  </a:moveTo>
                  <a:lnTo>
                    <a:pt x="226110" y="167055"/>
                  </a:lnTo>
                  <a:lnTo>
                    <a:pt x="238201" y="171815"/>
                  </a:lnTo>
                  <a:lnTo>
                    <a:pt x="244792" y="182987"/>
                  </a:lnTo>
                  <a:lnTo>
                    <a:pt x="247534" y="195912"/>
                  </a:lnTo>
                  <a:lnTo>
                    <a:pt x="248081" y="205930"/>
                  </a:lnTo>
                  <a:lnTo>
                    <a:pt x="246775" y="221538"/>
                  </a:lnTo>
                  <a:lnTo>
                    <a:pt x="242768" y="234108"/>
                  </a:lnTo>
                  <a:lnTo>
                    <a:pt x="235924" y="242492"/>
                  </a:lnTo>
                  <a:lnTo>
                    <a:pt x="226110" y="245541"/>
                  </a:lnTo>
                  <a:lnTo>
                    <a:pt x="271085" y="245541"/>
                  </a:lnTo>
                  <a:lnTo>
                    <a:pt x="277481" y="230006"/>
                  </a:lnTo>
                  <a:lnTo>
                    <a:pt x="280479" y="204495"/>
                  </a:lnTo>
                  <a:lnTo>
                    <a:pt x="276191" y="174927"/>
                  </a:lnTo>
                  <a:lnTo>
                    <a:pt x="271845" y="167055"/>
                  </a:lnTo>
                  <a:close/>
                </a:path>
                <a:path w="341629" h="341629">
                  <a:moveTo>
                    <a:pt x="232956" y="139700"/>
                  </a:moveTo>
                  <a:lnTo>
                    <a:pt x="219959" y="141729"/>
                  </a:lnTo>
                  <a:lnTo>
                    <a:pt x="211081" y="146759"/>
                  </a:lnTo>
                  <a:lnTo>
                    <a:pt x="205311" y="153207"/>
                  </a:lnTo>
                  <a:lnTo>
                    <a:pt x="201637" y="159486"/>
                  </a:lnTo>
                  <a:lnTo>
                    <a:pt x="267665" y="159486"/>
                  </a:lnTo>
                  <a:lnTo>
                    <a:pt x="265085" y="154814"/>
                  </a:lnTo>
                  <a:lnTo>
                    <a:pt x="249795" y="143343"/>
                  </a:lnTo>
                  <a:lnTo>
                    <a:pt x="232956" y="139700"/>
                  </a:lnTo>
                  <a:close/>
                </a:path>
                <a:path w="341629" h="341629">
                  <a:moveTo>
                    <a:pt x="272079" y="96126"/>
                  </a:moveTo>
                  <a:lnTo>
                    <a:pt x="228269" y="96126"/>
                  </a:lnTo>
                  <a:lnTo>
                    <a:pt x="237155" y="99045"/>
                  </a:lnTo>
                  <a:lnTo>
                    <a:pt x="242357" y="105979"/>
                  </a:lnTo>
                  <a:lnTo>
                    <a:pt x="244925" y="114198"/>
                  </a:lnTo>
                  <a:lnTo>
                    <a:pt x="245910" y="120967"/>
                  </a:lnTo>
                  <a:lnTo>
                    <a:pt x="277964" y="120967"/>
                  </a:lnTo>
                  <a:lnTo>
                    <a:pt x="272079" y="9612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object 36" descr=""/>
            <p:cNvPicPr/>
            <p:nvPr/>
          </p:nvPicPr>
          <p:blipFill>
            <a:blip r:embed="rId11"/>
            <a:stretch/>
          </p:blipFill>
          <p:spPr>
            <a:xfrm>
              <a:off x="4007520" y="5495760"/>
              <a:ext cx="162720" cy="1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object 37"/>
            <p:cNvSpPr/>
            <p:nvPr/>
          </p:nvSpPr>
          <p:spPr>
            <a:xfrm>
              <a:off x="4254120" y="5602320"/>
              <a:ext cx="27720" cy="28440"/>
            </a:xfrm>
            <a:custGeom>
              <a:avLst/>
              <a:gdLst/>
              <a:ahLst/>
              <a:rect l="l" t="t" r="r" b="b"/>
              <a:pathLst>
                <a:path w="27939" h="28575">
                  <a:moveTo>
                    <a:pt x="27355" y="0"/>
                  </a:moveTo>
                  <a:lnTo>
                    <a:pt x="0" y="0"/>
                  </a:lnTo>
                  <a:lnTo>
                    <a:pt x="0" y="28270"/>
                  </a:lnTo>
                  <a:lnTo>
                    <a:pt x="27355" y="28270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bject 38"/>
            <p:cNvSpPr/>
            <p:nvPr/>
          </p:nvSpPr>
          <p:spPr>
            <a:xfrm>
              <a:off x="4254120" y="5527080"/>
              <a:ext cx="27720" cy="28440"/>
            </a:xfrm>
            <a:custGeom>
              <a:avLst/>
              <a:gdLst/>
              <a:ahLst/>
              <a:rect l="l" t="t" r="r" b="b"/>
              <a:pathLst>
                <a:path w="27939" h="28575">
                  <a:moveTo>
                    <a:pt x="27355" y="0"/>
                  </a:moveTo>
                  <a:lnTo>
                    <a:pt x="0" y="0"/>
                  </a:lnTo>
                  <a:lnTo>
                    <a:pt x="0" y="28270"/>
                  </a:lnTo>
                  <a:lnTo>
                    <a:pt x="27355" y="28270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bject 39"/>
            <p:cNvSpPr/>
            <p:nvPr/>
          </p:nvSpPr>
          <p:spPr>
            <a:xfrm>
              <a:off x="4388760" y="5505120"/>
              <a:ext cx="57600" cy="142200"/>
            </a:xfrm>
            <a:custGeom>
              <a:avLst/>
              <a:gdLst/>
              <a:ahLst/>
              <a:rect l="l" t="t" r="r" b="b"/>
              <a:pathLst>
                <a:path w="57785" h="142239">
                  <a:moveTo>
                    <a:pt x="57251" y="0"/>
                  </a:moveTo>
                  <a:lnTo>
                    <a:pt x="35826" y="0"/>
                  </a:lnTo>
                  <a:lnTo>
                    <a:pt x="29700" y="14032"/>
                  </a:lnTo>
                  <a:lnTo>
                    <a:pt x="21228" y="21788"/>
                  </a:lnTo>
                  <a:lnTo>
                    <a:pt x="11098" y="25222"/>
                  </a:lnTo>
                  <a:lnTo>
                    <a:pt x="0" y="26288"/>
                  </a:lnTo>
                  <a:lnTo>
                    <a:pt x="0" y="46088"/>
                  </a:lnTo>
                  <a:lnTo>
                    <a:pt x="30251" y="46088"/>
                  </a:lnTo>
                  <a:lnTo>
                    <a:pt x="30251" y="141871"/>
                  </a:lnTo>
                  <a:lnTo>
                    <a:pt x="57251" y="141871"/>
                  </a:lnTo>
                  <a:lnTo>
                    <a:pt x="572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object 40"/>
            <p:cNvGrpSpPr/>
            <p:nvPr/>
          </p:nvGrpSpPr>
          <p:grpSpPr>
            <a:xfrm>
              <a:off x="4501800" y="5505120"/>
              <a:ext cx="617040" cy="142200"/>
              <a:chOff x="4501800" y="5505120"/>
              <a:chExt cx="617040" cy="142200"/>
            </a:xfrm>
          </p:grpSpPr>
          <p:pic>
            <p:nvPicPr>
              <p:cNvPr id="81" name="object 41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01800" y="5505120"/>
                <a:ext cx="120960" cy="14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object 42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1840" y="5539680"/>
                <a:ext cx="1476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object 43" descr=""/>
              <p:cNvPicPr/>
              <p:nvPr/>
            </p:nvPicPr>
            <p:blipFill>
              <a:blip r:embed="rId14"/>
              <a:stretch/>
            </p:blipFill>
            <p:spPr>
              <a:xfrm>
                <a:off x="4811760" y="5539680"/>
                <a:ext cx="1476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object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02560" y="5517720"/>
                <a:ext cx="116280" cy="116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object 45"/>
            <p:cNvGrpSpPr/>
            <p:nvPr/>
          </p:nvGrpSpPr>
          <p:grpSpPr>
            <a:xfrm>
              <a:off x="5203080" y="5495040"/>
              <a:ext cx="331920" cy="166680"/>
              <a:chOff x="5203080" y="5495040"/>
              <a:chExt cx="331920" cy="166680"/>
            </a:xfrm>
          </p:grpSpPr>
          <p:pic>
            <p:nvPicPr>
              <p:cNvPr id="86" name="object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03080" y="5495040"/>
                <a:ext cx="16488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5392800" y="5496840"/>
                <a:ext cx="142200" cy="161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object 48"/>
            <p:cNvSpPr/>
            <p:nvPr/>
          </p:nvSpPr>
          <p:spPr>
            <a:xfrm>
              <a:off x="5631840" y="5505120"/>
              <a:ext cx="57600" cy="142200"/>
            </a:xfrm>
            <a:custGeom>
              <a:avLst/>
              <a:gdLst/>
              <a:ahLst/>
              <a:rect l="l" t="t" r="r" b="b"/>
              <a:pathLst>
                <a:path w="57785" h="142239">
                  <a:moveTo>
                    <a:pt x="57251" y="0"/>
                  </a:moveTo>
                  <a:lnTo>
                    <a:pt x="35826" y="0"/>
                  </a:lnTo>
                  <a:lnTo>
                    <a:pt x="29698" y="14032"/>
                  </a:lnTo>
                  <a:lnTo>
                    <a:pt x="21223" y="21788"/>
                  </a:lnTo>
                  <a:lnTo>
                    <a:pt x="11093" y="25222"/>
                  </a:lnTo>
                  <a:lnTo>
                    <a:pt x="0" y="26288"/>
                  </a:lnTo>
                  <a:lnTo>
                    <a:pt x="0" y="46088"/>
                  </a:lnTo>
                  <a:lnTo>
                    <a:pt x="30251" y="46088"/>
                  </a:lnTo>
                  <a:lnTo>
                    <a:pt x="30251" y="141871"/>
                  </a:lnTo>
                  <a:lnTo>
                    <a:pt x="57251" y="141871"/>
                  </a:lnTo>
                  <a:lnTo>
                    <a:pt x="572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object 49"/>
            <p:cNvGrpSpPr/>
            <p:nvPr/>
          </p:nvGrpSpPr>
          <p:grpSpPr>
            <a:xfrm>
              <a:off x="5745960" y="5501520"/>
              <a:ext cx="456840" cy="149760"/>
              <a:chOff x="5745960" y="5501520"/>
              <a:chExt cx="456840" cy="149760"/>
            </a:xfrm>
          </p:grpSpPr>
          <p:pic>
            <p:nvPicPr>
              <p:cNvPr id="90" name="object 50" descr=""/>
              <p:cNvPicPr/>
              <p:nvPr/>
            </p:nvPicPr>
            <p:blipFill>
              <a:blip r:embed="rId18"/>
              <a:stretch/>
            </p:blipFill>
            <p:spPr>
              <a:xfrm>
                <a:off x="5745960" y="5501520"/>
                <a:ext cx="119160" cy="14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object 51" descr=""/>
              <p:cNvPicPr/>
              <p:nvPr/>
            </p:nvPicPr>
            <p:blipFill>
              <a:blip r:embed="rId19"/>
              <a:stretch/>
            </p:blipFill>
            <p:spPr>
              <a:xfrm>
                <a:off x="588492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52" descr=""/>
              <p:cNvPicPr/>
              <p:nvPr/>
            </p:nvPicPr>
            <p:blipFill>
              <a:blip r:embed="rId20"/>
              <a:stretch/>
            </p:blipFill>
            <p:spPr>
              <a:xfrm>
                <a:off x="605520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object 53"/>
            <p:cNvSpPr/>
            <p:nvPr/>
          </p:nvSpPr>
          <p:spPr>
            <a:xfrm>
              <a:off x="6335280" y="5492520"/>
              <a:ext cx="837360" cy="172440"/>
            </a:xfrm>
            <a:custGeom>
              <a:avLst/>
              <a:gdLst/>
              <a:ahLst/>
              <a:rect l="l" t="t" r="r" b="b"/>
              <a:pathLst>
                <a:path w="837565" h="172720">
                  <a:moveTo>
                    <a:pt x="48793" y="12077"/>
                  </a:moveTo>
                  <a:lnTo>
                    <a:pt x="6578" y="45808"/>
                  </a:lnTo>
                  <a:lnTo>
                    <a:pt x="0" y="86067"/>
                  </a:lnTo>
                  <a:lnTo>
                    <a:pt x="1358" y="104813"/>
                  </a:lnTo>
                  <a:lnTo>
                    <a:pt x="6578" y="126326"/>
                  </a:lnTo>
                  <a:lnTo>
                    <a:pt x="17373" y="149237"/>
                  </a:lnTo>
                  <a:lnTo>
                    <a:pt x="35458" y="172123"/>
                  </a:lnTo>
                  <a:lnTo>
                    <a:pt x="48793" y="160058"/>
                  </a:lnTo>
                  <a:lnTo>
                    <a:pt x="40284" y="150418"/>
                  </a:lnTo>
                  <a:lnTo>
                    <a:pt x="30175" y="135216"/>
                  </a:lnTo>
                  <a:lnTo>
                    <a:pt x="21717" y="113931"/>
                  </a:lnTo>
                  <a:lnTo>
                    <a:pt x="18186" y="86067"/>
                  </a:lnTo>
                  <a:lnTo>
                    <a:pt x="21717" y="58204"/>
                  </a:lnTo>
                  <a:lnTo>
                    <a:pt x="30175" y="36918"/>
                  </a:lnTo>
                  <a:lnTo>
                    <a:pt x="40284" y="21717"/>
                  </a:lnTo>
                  <a:lnTo>
                    <a:pt x="48793" y="12077"/>
                  </a:lnTo>
                  <a:close/>
                </a:path>
                <a:path w="837565" h="172720">
                  <a:moveTo>
                    <a:pt x="125793" y="120637"/>
                  </a:moveTo>
                  <a:lnTo>
                    <a:pt x="124904" y="119913"/>
                  </a:lnTo>
                  <a:lnTo>
                    <a:pt x="124002" y="119367"/>
                  </a:lnTo>
                  <a:lnTo>
                    <a:pt x="104190" y="108927"/>
                  </a:lnTo>
                  <a:lnTo>
                    <a:pt x="98564" y="118325"/>
                  </a:lnTo>
                  <a:lnTo>
                    <a:pt x="91528" y="127990"/>
                  </a:lnTo>
                  <a:lnTo>
                    <a:pt x="82511" y="138176"/>
                  </a:lnTo>
                  <a:lnTo>
                    <a:pt x="70891" y="149072"/>
                  </a:lnTo>
                  <a:lnTo>
                    <a:pt x="75565" y="151231"/>
                  </a:lnTo>
                  <a:lnTo>
                    <a:pt x="84213" y="156451"/>
                  </a:lnTo>
                  <a:lnTo>
                    <a:pt x="89789" y="161671"/>
                  </a:lnTo>
                  <a:lnTo>
                    <a:pt x="100101" y="151853"/>
                  </a:lnTo>
                  <a:lnTo>
                    <a:pt x="108762" y="141846"/>
                  </a:lnTo>
                  <a:lnTo>
                    <a:pt x="115646" y="132486"/>
                  </a:lnTo>
                  <a:lnTo>
                    <a:pt x="120573" y="124587"/>
                  </a:lnTo>
                  <a:lnTo>
                    <a:pt x="122021" y="124777"/>
                  </a:lnTo>
                  <a:lnTo>
                    <a:pt x="125793" y="125133"/>
                  </a:lnTo>
                  <a:lnTo>
                    <a:pt x="125793" y="124587"/>
                  </a:lnTo>
                  <a:lnTo>
                    <a:pt x="125793" y="120637"/>
                  </a:lnTo>
                  <a:close/>
                </a:path>
                <a:path w="837565" h="172720">
                  <a:moveTo>
                    <a:pt x="226618" y="150876"/>
                  </a:moveTo>
                  <a:lnTo>
                    <a:pt x="220103" y="141719"/>
                  </a:lnTo>
                  <a:lnTo>
                    <a:pt x="210439" y="129971"/>
                  </a:lnTo>
                  <a:lnTo>
                    <a:pt x="199301" y="118300"/>
                  </a:lnTo>
                  <a:lnTo>
                    <a:pt x="188455" y="109474"/>
                  </a:lnTo>
                  <a:lnTo>
                    <a:pt x="171716" y="122250"/>
                  </a:lnTo>
                  <a:lnTo>
                    <a:pt x="181635" y="131203"/>
                  </a:lnTo>
                  <a:lnTo>
                    <a:pt x="191376" y="141846"/>
                  </a:lnTo>
                  <a:lnTo>
                    <a:pt x="199986" y="152806"/>
                  </a:lnTo>
                  <a:lnTo>
                    <a:pt x="207175" y="163487"/>
                  </a:lnTo>
                  <a:lnTo>
                    <a:pt x="211493" y="159512"/>
                  </a:lnTo>
                  <a:lnTo>
                    <a:pt x="220319" y="153581"/>
                  </a:lnTo>
                  <a:lnTo>
                    <a:pt x="226618" y="150876"/>
                  </a:lnTo>
                  <a:close/>
                </a:path>
                <a:path w="837565" h="172720">
                  <a:moveTo>
                    <a:pt x="235267" y="50063"/>
                  </a:moveTo>
                  <a:lnTo>
                    <a:pt x="207238" y="39878"/>
                  </a:lnTo>
                  <a:lnTo>
                    <a:pt x="188988" y="30162"/>
                  </a:lnTo>
                  <a:lnTo>
                    <a:pt x="188988" y="53301"/>
                  </a:lnTo>
                  <a:lnTo>
                    <a:pt x="108877" y="53301"/>
                  </a:lnTo>
                  <a:lnTo>
                    <a:pt x="118237" y="47028"/>
                  </a:lnTo>
                  <a:lnTo>
                    <a:pt x="129400" y="38811"/>
                  </a:lnTo>
                  <a:lnTo>
                    <a:pt x="140169" y="29908"/>
                  </a:lnTo>
                  <a:lnTo>
                    <a:pt x="148310" y="21615"/>
                  </a:lnTo>
                  <a:lnTo>
                    <a:pt x="159778" y="33350"/>
                  </a:lnTo>
                  <a:lnTo>
                    <a:pt x="171754" y="42722"/>
                  </a:lnTo>
                  <a:lnTo>
                    <a:pt x="182181" y="49466"/>
                  </a:lnTo>
                  <a:lnTo>
                    <a:pt x="188988" y="53301"/>
                  </a:lnTo>
                  <a:lnTo>
                    <a:pt x="188988" y="30162"/>
                  </a:lnTo>
                  <a:lnTo>
                    <a:pt x="184962" y="28016"/>
                  </a:lnTo>
                  <a:lnTo>
                    <a:pt x="176098" y="21615"/>
                  </a:lnTo>
                  <a:lnTo>
                    <a:pt x="169621" y="16954"/>
                  </a:lnTo>
                  <a:lnTo>
                    <a:pt x="162344" y="9194"/>
                  </a:lnTo>
                  <a:lnTo>
                    <a:pt x="163423" y="8128"/>
                  </a:lnTo>
                  <a:lnTo>
                    <a:pt x="165036" y="6667"/>
                  </a:lnTo>
                  <a:lnTo>
                    <a:pt x="165036" y="4699"/>
                  </a:lnTo>
                  <a:lnTo>
                    <a:pt x="163423" y="3797"/>
                  </a:lnTo>
                  <a:lnTo>
                    <a:pt x="161086" y="3619"/>
                  </a:lnTo>
                  <a:lnTo>
                    <a:pt x="138760" y="1270"/>
                  </a:lnTo>
                  <a:lnTo>
                    <a:pt x="130606" y="10579"/>
                  </a:lnTo>
                  <a:lnTo>
                    <a:pt x="115544" y="24003"/>
                  </a:lnTo>
                  <a:lnTo>
                    <a:pt x="92798" y="39255"/>
                  </a:lnTo>
                  <a:lnTo>
                    <a:pt x="61531" y="54025"/>
                  </a:lnTo>
                  <a:lnTo>
                    <a:pt x="65125" y="57264"/>
                  </a:lnTo>
                  <a:lnTo>
                    <a:pt x="72326" y="64998"/>
                  </a:lnTo>
                  <a:lnTo>
                    <a:pt x="75755" y="71310"/>
                  </a:lnTo>
                  <a:lnTo>
                    <a:pt x="80479" y="69126"/>
                  </a:lnTo>
                  <a:lnTo>
                    <a:pt x="86563" y="66103"/>
                  </a:lnTo>
                  <a:lnTo>
                    <a:pt x="94386" y="61912"/>
                  </a:lnTo>
                  <a:lnTo>
                    <a:pt x="104381" y="56184"/>
                  </a:lnTo>
                  <a:lnTo>
                    <a:pt x="104381" y="72745"/>
                  </a:lnTo>
                  <a:lnTo>
                    <a:pt x="138404" y="72745"/>
                  </a:lnTo>
                  <a:lnTo>
                    <a:pt x="138404" y="87147"/>
                  </a:lnTo>
                  <a:lnTo>
                    <a:pt x="75933" y="87147"/>
                  </a:lnTo>
                  <a:lnTo>
                    <a:pt x="75933" y="107124"/>
                  </a:lnTo>
                  <a:lnTo>
                    <a:pt x="138404" y="107124"/>
                  </a:lnTo>
                  <a:lnTo>
                    <a:pt x="138404" y="147993"/>
                  </a:lnTo>
                  <a:lnTo>
                    <a:pt x="135166" y="148361"/>
                  </a:lnTo>
                  <a:lnTo>
                    <a:pt x="128320" y="148361"/>
                  </a:lnTo>
                  <a:lnTo>
                    <a:pt x="120040" y="147637"/>
                  </a:lnTo>
                  <a:lnTo>
                    <a:pt x="117335" y="147459"/>
                  </a:lnTo>
                  <a:lnTo>
                    <a:pt x="122567" y="153936"/>
                  </a:lnTo>
                  <a:lnTo>
                    <a:pt x="126161" y="164020"/>
                  </a:lnTo>
                  <a:lnTo>
                    <a:pt x="127241" y="169430"/>
                  </a:lnTo>
                  <a:lnTo>
                    <a:pt x="136525" y="169202"/>
                  </a:lnTo>
                  <a:lnTo>
                    <a:pt x="147447" y="166954"/>
                  </a:lnTo>
                  <a:lnTo>
                    <a:pt x="156565" y="161112"/>
                  </a:lnTo>
                  <a:lnTo>
                    <a:pt x="160362" y="150152"/>
                  </a:lnTo>
                  <a:lnTo>
                    <a:pt x="160362" y="148361"/>
                  </a:lnTo>
                  <a:lnTo>
                    <a:pt x="160362" y="107124"/>
                  </a:lnTo>
                  <a:lnTo>
                    <a:pt x="220319" y="107124"/>
                  </a:lnTo>
                  <a:lnTo>
                    <a:pt x="220319" y="87147"/>
                  </a:lnTo>
                  <a:lnTo>
                    <a:pt x="160362" y="87147"/>
                  </a:lnTo>
                  <a:lnTo>
                    <a:pt x="160362" y="72745"/>
                  </a:lnTo>
                  <a:lnTo>
                    <a:pt x="193128" y="72745"/>
                  </a:lnTo>
                  <a:lnTo>
                    <a:pt x="193128" y="56184"/>
                  </a:lnTo>
                  <a:lnTo>
                    <a:pt x="193128" y="55460"/>
                  </a:lnTo>
                  <a:lnTo>
                    <a:pt x="198589" y="58280"/>
                  </a:lnTo>
                  <a:lnTo>
                    <a:pt x="205422" y="61518"/>
                  </a:lnTo>
                  <a:lnTo>
                    <a:pt x="213537" y="65062"/>
                  </a:lnTo>
                  <a:lnTo>
                    <a:pt x="222834" y="68783"/>
                  </a:lnTo>
                  <a:lnTo>
                    <a:pt x="225539" y="61950"/>
                  </a:lnTo>
                  <a:lnTo>
                    <a:pt x="226974" y="60325"/>
                  </a:lnTo>
                  <a:lnTo>
                    <a:pt x="230911" y="55460"/>
                  </a:lnTo>
                  <a:lnTo>
                    <a:pt x="232651" y="53301"/>
                  </a:lnTo>
                  <a:lnTo>
                    <a:pt x="235267" y="50063"/>
                  </a:lnTo>
                  <a:close/>
                </a:path>
                <a:path w="837565" h="172720">
                  <a:moveTo>
                    <a:pt x="404101" y="27381"/>
                  </a:moveTo>
                  <a:lnTo>
                    <a:pt x="380339" y="27381"/>
                  </a:lnTo>
                  <a:lnTo>
                    <a:pt x="380339" y="101015"/>
                  </a:lnTo>
                  <a:lnTo>
                    <a:pt x="380339" y="137198"/>
                  </a:lnTo>
                  <a:lnTo>
                    <a:pt x="277368" y="137198"/>
                  </a:lnTo>
                  <a:lnTo>
                    <a:pt x="277368" y="101015"/>
                  </a:lnTo>
                  <a:lnTo>
                    <a:pt x="380339" y="101015"/>
                  </a:lnTo>
                  <a:lnTo>
                    <a:pt x="380339" y="27381"/>
                  </a:lnTo>
                  <a:lnTo>
                    <a:pt x="380326" y="47536"/>
                  </a:lnTo>
                  <a:lnTo>
                    <a:pt x="380326" y="81381"/>
                  </a:lnTo>
                  <a:lnTo>
                    <a:pt x="277355" y="81381"/>
                  </a:lnTo>
                  <a:lnTo>
                    <a:pt x="277355" y="47536"/>
                  </a:lnTo>
                  <a:lnTo>
                    <a:pt x="380326" y="47536"/>
                  </a:lnTo>
                  <a:lnTo>
                    <a:pt x="380326" y="27381"/>
                  </a:lnTo>
                  <a:lnTo>
                    <a:pt x="326694" y="27381"/>
                  </a:lnTo>
                  <a:lnTo>
                    <a:pt x="329031" y="23050"/>
                  </a:lnTo>
                  <a:lnTo>
                    <a:pt x="331914" y="16929"/>
                  </a:lnTo>
                  <a:lnTo>
                    <a:pt x="334797" y="10274"/>
                  </a:lnTo>
                  <a:lnTo>
                    <a:pt x="338213" y="9194"/>
                  </a:lnTo>
                  <a:lnTo>
                    <a:pt x="340017" y="8648"/>
                  </a:lnTo>
                  <a:lnTo>
                    <a:pt x="340017" y="5054"/>
                  </a:lnTo>
                  <a:lnTo>
                    <a:pt x="338759" y="4864"/>
                  </a:lnTo>
                  <a:lnTo>
                    <a:pt x="336778" y="4699"/>
                  </a:lnTo>
                  <a:lnTo>
                    <a:pt x="309943" y="1270"/>
                  </a:lnTo>
                  <a:lnTo>
                    <a:pt x="309054" y="4699"/>
                  </a:lnTo>
                  <a:lnTo>
                    <a:pt x="307428" y="9804"/>
                  </a:lnTo>
                  <a:lnTo>
                    <a:pt x="304571" y="17157"/>
                  </a:lnTo>
                  <a:lnTo>
                    <a:pt x="300050" y="27381"/>
                  </a:lnTo>
                  <a:lnTo>
                    <a:pt x="253238" y="27381"/>
                  </a:lnTo>
                  <a:lnTo>
                    <a:pt x="253238" y="165455"/>
                  </a:lnTo>
                  <a:lnTo>
                    <a:pt x="277355" y="165455"/>
                  </a:lnTo>
                  <a:lnTo>
                    <a:pt x="277355" y="157353"/>
                  </a:lnTo>
                  <a:lnTo>
                    <a:pt x="380339" y="157353"/>
                  </a:lnTo>
                  <a:lnTo>
                    <a:pt x="380339" y="165455"/>
                  </a:lnTo>
                  <a:lnTo>
                    <a:pt x="404101" y="165455"/>
                  </a:lnTo>
                  <a:lnTo>
                    <a:pt x="404101" y="157353"/>
                  </a:lnTo>
                  <a:lnTo>
                    <a:pt x="404101" y="137198"/>
                  </a:lnTo>
                  <a:lnTo>
                    <a:pt x="404101" y="101015"/>
                  </a:lnTo>
                  <a:lnTo>
                    <a:pt x="404101" y="81381"/>
                  </a:lnTo>
                  <a:lnTo>
                    <a:pt x="404101" y="47536"/>
                  </a:lnTo>
                  <a:lnTo>
                    <a:pt x="404101" y="27381"/>
                  </a:lnTo>
                  <a:close/>
                </a:path>
                <a:path w="837565" h="172720">
                  <a:moveTo>
                    <a:pt x="474814" y="30810"/>
                  </a:moveTo>
                  <a:lnTo>
                    <a:pt x="468147" y="24371"/>
                  </a:lnTo>
                  <a:lnTo>
                    <a:pt x="459879" y="17246"/>
                  </a:lnTo>
                  <a:lnTo>
                    <a:pt x="451078" y="10337"/>
                  </a:lnTo>
                  <a:lnTo>
                    <a:pt x="442772" y="4521"/>
                  </a:lnTo>
                  <a:lnTo>
                    <a:pt x="426567" y="19824"/>
                  </a:lnTo>
                  <a:lnTo>
                    <a:pt x="435686" y="26212"/>
                  </a:lnTo>
                  <a:lnTo>
                    <a:pt x="443928" y="32715"/>
                  </a:lnTo>
                  <a:lnTo>
                    <a:pt x="451459" y="39395"/>
                  </a:lnTo>
                  <a:lnTo>
                    <a:pt x="458431" y="46291"/>
                  </a:lnTo>
                  <a:lnTo>
                    <a:pt x="460603" y="43942"/>
                  </a:lnTo>
                  <a:lnTo>
                    <a:pt x="472122" y="33324"/>
                  </a:lnTo>
                  <a:lnTo>
                    <a:pt x="474814" y="30810"/>
                  </a:lnTo>
                  <a:close/>
                </a:path>
                <a:path w="837565" h="172720">
                  <a:moveTo>
                    <a:pt x="590753" y="121361"/>
                  </a:moveTo>
                  <a:lnTo>
                    <a:pt x="569137" y="100571"/>
                  </a:lnTo>
                  <a:lnTo>
                    <a:pt x="555612" y="78511"/>
                  </a:lnTo>
                  <a:lnTo>
                    <a:pt x="554126" y="73291"/>
                  </a:lnTo>
                  <a:lnTo>
                    <a:pt x="548627" y="54013"/>
                  </a:lnTo>
                  <a:lnTo>
                    <a:pt x="547966" y="44665"/>
                  </a:lnTo>
                  <a:lnTo>
                    <a:pt x="546671" y="26212"/>
                  </a:lnTo>
                  <a:lnTo>
                    <a:pt x="546646" y="14427"/>
                  </a:lnTo>
                  <a:lnTo>
                    <a:pt x="548081" y="7226"/>
                  </a:lnTo>
                  <a:lnTo>
                    <a:pt x="496608" y="7226"/>
                  </a:lnTo>
                  <a:lnTo>
                    <a:pt x="496608" y="29718"/>
                  </a:lnTo>
                  <a:lnTo>
                    <a:pt x="524510" y="29718"/>
                  </a:lnTo>
                  <a:lnTo>
                    <a:pt x="524510" y="36563"/>
                  </a:lnTo>
                  <a:lnTo>
                    <a:pt x="525043" y="44665"/>
                  </a:lnTo>
                  <a:lnTo>
                    <a:pt x="515315" y="42697"/>
                  </a:lnTo>
                  <a:lnTo>
                    <a:pt x="507707" y="72453"/>
                  </a:lnTo>
                  <a:lnTo>
                    <a:pt x="495592" y="95338"/>
                  </a:lnTo>
                  <a:lnTo>
                    <a:pt x="482485" y="111340"/>
                  </a:lnTo>
                  <a:lnTo>
                    <a:pt x="471932" y="120459"/>
                  </a:lnTo>
                  <a:lnTo>
                    <a:pt x="476796" y="122085"/>
                  </a:lnTo>
                  <a:lnTo>
                    <a:pt x="485089" y="126403"/>
                  </a:lnTo>
                  <a:lnTo>
                    <a:pt x="490474" y="135940"/>
                  </a:lnTo>
                  <a:lnTo>
                    <a:pt x="496392" y="130683"/>
                  </a:lnTo>
                  <a:lnTo>
                    <a:pt x="506260" y="119265"/>
                  </a:lnTo>
                  <a:lnTo>
                    <a:pt x="518058" y="100520"/>
                  </a:lnTo>
                  <a:lnTo>
                    <a:pt x="529729" y="73291"/>
                  </a:lnTo>
                  <a:lnTo>
                    <a:pt x="536651" y="92062"/>
                  </a:lnTo>
                  <a:lnTo>
                    <a:pt x="547420" y="110261"/>
                  </a:lnTo>
                  <a:lnTo>
                    <a:pt x="560412" y="126123"/>
                  </a:lnTo>
                  <a:lnTo>
                    <a:pt x="574014" y="137922"/>
                  </a:lnTo>
                  <a:lnTo>
                    <a:pt x="579412" y="130543"/>
                  </a:lnTo>
                  <a:lnTo>
                    <a:pt x="581761" y="128549"/>
                  </a:lnTo>
                  <a:lnTo>
                    <a:pt x="590753" y="121361"/>
                  </a:lnTo>
                  <a:close/>
                </a:path>
                <a:path w="837565" h="172720">
                  <a:moveTo>
                    <a:pt x="594715" y="141173"/>
                  </a:moveTo>
                  <a:lnTo>
                    <a:pt x="578662" y="142379"/>
                  </a:lnTo>
                  <a:lnTo>
                    <a:pt x="559981" y="143471"/>
                  </a:lnTo>
                  <a:lnTo>
                    <a:pt x="541566" y="144272"/>
                  </a:lnTo>
                  <a:lnTo>
                    <a:pt x="526313" y="144576"/>
                  </a:lnTo>
                  <a:lnTo>
                    <a:pt x="516331" y="144500"/>
                  </a:lnTo>
                  <a:lnTo>
                    <a:pt x="503440" y="144145"/>
                  </a:lnTo>
                  <a:lnTo>
                    <a:pt x="490969" y="143294"/>
                  </a:lnTo>
                  <a:lnTo>
                    <a:pt x="482206" y="141706"/>
                  </a:lnTo>
                  <a:lnTo>
                    <a:pt x="471766" y="138099"/>
                  </a:lnTo>
                  <a:lnTo>
                    <a:pt x="471766" y="70231"/>
                  </a:lnTo>
                  <a:lnTo>
                    <a:pt x="426923" y="70231"/>
                  </a:lnTo>
                  <a:lnTo>
                    <a:pt x="426923" y="91833"/>
                  </a:lnTo>
                  <a:lnTo>
                    <a:pt x="448005" y="91833"/>
                  </a:lnTo>
                  <a:lnTo>
                    <a:pt x="448005" y="130009"/>
                  </a:lnTo>
                  <a:lnTo>
                    <a:pt x="444360" y="132537"/>
                  </a:lnTo>
                  <a:lnTo>
                    <a:pt x="438277" y="136321"/>
                  </a:lnTo>
                  <a:lnTo>
                    <a:pt x="430174" y="140563"/>
                  </a:lnTo>
                  <a:lnTo>
                    <a:pt x="420458" y="144411"/>
                  </a:lnTo>
                  <a:lnTo>
                    <a:pt x="428917" y="165646"/>
                  </a:lnTo>
                  <a:lnTo>
                    <a:pt x="429450" y="167093"/>
                  </a:lnTo>
                  <a:lnTo>
                    <a:pt x="430174" y="169252"/>
                  </a:lnTo>
                  <a:lnTo>
                    <a:pt x="433946" y="169252"/>
                  </a:lnTo>
                  <a:lnTo>
                    <a:pt x="434848" y="163118"/>
                  </a:lnTo>
                  <a:lnTo>
                    <a:pt x="440753" y="159600"/>
                  </a:lnTo>
                  <a:lnTo>
                    <a:pt x="446493" y="155956"/>
                  </a:lnTo>
                  <a:lnTo>
                    <a:pt x="452399" y="151980"/>
                  </a:lnTo>
                  <a:lnTo>
                    <a:pt x="458800" y="147472"/>
                  </a:lnTo>
                  <a:lnTo>
                    <a:pt x="463626" y="154051"/>
                  </a:lnTo>
                  <a:lnTo>
                    <a:pt x="471678" y="159753"/>
                  </a:lnTo>
                  <a:lnTo>
                    <a:pt x="484733" y="163766"/>
                  </a:lnTo>
                  <a:lnTo>
                    <a:pt x="504520" y="165290"/>
                  </a:lnTo>
                  <a:lnTo>
                    <a:pt x="586435" y="165290"/>
                  </a:lnTo>
                  <a:lnTo>
                    <a:pt x="587730" y="158254"/>
                  </a:lnTo>
                  <a:lnTo>
                    <a:pt x="589902" y="151536"/>
                  </a:lnTo>
                  <a:lnTo>
                    <a:pt x="591642" y="147472"/>
                  </a:lnTo>
                  <a:lnTo>
                    <a:pt x="592416" y="145669"/>
                  </a:lnTo>
                  <a:lnTo>
                    <a:pt x="592975" y="144576"/>
                  </a:lnTo>
                  <a:lnTo>
                    <a:pt x="594715" y="141173"/>
                  </a:lnTo>
                  <a:close/>
                </a:path>
                <a:path w="837565" h="172720">
                  <a:moveTo>
                    <a:pt x="774725" y="113982"/>
                  </a:moveTo>
                  <a:lnTo>
                    <a:pt x="767969" y="108153"/>
                  </a:lnTo>
                  <a:lnTo>
                    <a:pt x="760603" y="102920"/>
                  </a:lnTo>
                  <a:lnTo>
                    <a:pt x="753364" y="98399"/>
                  </a:lnTo>
                  <a:lnTo>
                    <a:pt x="747001" y="94716"/>
                  </a:lnTo>
                  <a:lnTo>
                    <a:pt x="747102" y="94361"/>
                  </a:lnTo>
                  <a:lnTo>
                    <a:pt x="749960" y="84810"/>
                  </a:lnTo>
                  <a:lnTo>
                    <a:pt x="750404" y="83350"/>
                  </a:lnTo>
                  <a:lnTo>
                    <a:pt x="752678" y="74307"/>
                  </a:lnTo>
                  <a:lnTo>
                    <a:pt x="754151" y="66636"/>
                  </a:lnTo>
                  <a:lnTo>
                    <a:pt x="755116" y="59423"/>
                  </a:lnTo>
                  <a:lnTo>
                    <a:pt x="756551" y="59423"/>
                  </a:lnTo>
                  <a:lnTo>
                    <a:pt x="759066" y="59245"/>
                  </a:lnTo>
                  <a:lnTo>
                    <a:pt x="759066" y="55473"/>
                  </a:lnTo>
                  <a:lnTo>
                    <a:pt x="757796" y="55105"/>
                  </a:lnTo>
                  <a:lnTo>
                    <a:pt x="756551" y="54571"/>
                  </a:lnTo>
                  <a:lnTo>
                    <a:pt x="730618" y="45389"/>
                  </a:lnTo>
                  <a:lnTo>
                    <a:pt x="730542" y="51358"/>
                  </a:lnTo>
                  <a:lnTo>
                    <a:pt x="729970" y="60159"/>
                  </a:lnTo>
                  <a:lnTo>
                    <a:pt x="728421" y="71437"/>
                  </a:lnTo>
                  <a:lnTo>
                    <a:pt x="725411" y="84810"/>
                  </a:lnTo>
                  <a:lnTo>
                    <a:pt x="719404" y="82410"/>
                  </a:lnTo>
                  <a:lnTo>
                    <a:pt x="710971" y="79362"/>
                  </a:lnTo>
                  <a:lnTo>
                    <a:pt x="700760" y="76250"/>
                  </a:lnTo>
                  <a:lnTo>
                    <a:pt x="689394" y="73647"/>
                  </a:lnTo>
                  <a:lnTo>
                    <a:pt x="692975" y="64414"/>
                  </a:lnTo>
                  <a:lnTo>
                    <a:pt x="699427" y="49999"/>
                  </a:lnTo>
                  <a:lnTo>
                    <a:pt x="706513" y="36207"/>
                  </a:lnTo>
                  <a:lnTo>
                    <a:pt x="707567" y="34124"/>
                  </a:lnTo>
                  <a:lnTo>
                    <a:pt x="716216" y="20548"/>
                  </a:lnTo>
                  <a:lnTo>
                    <a:pt x="700557" y="7391"/>
                  </a:lnTo>
                  <a:lnTo>
                    <a:pt x="689076" y="11607"/>
                  </a:lnTo>
                  <a:lnTo>
                    <a:pt x="673620" y="15113"/>
                  </a:lnTo>
                  <a:lnTo>
                    <a:pt x="655167" y="17500"/>
                  </a:lnTo>
                  <a:lnTo>
                    <a:pt x="634669" y="18389"/>
                  </a:lnTo>
                  <a:lnTo>
                    <a:pt x="639889" y="43942"/>
                  </a:lnTo>
                  <a:lnTo>
                    <a:pt x="646709" y="43040"/>
                  </a:lnTo>
                  <a:lnTo>
                    <a:pt x="656272" y="41554"/>
                  </a:lnTo>
                  <a:lnTo>
                    <a:pt x="667994" y="39331"/>
                  </a:lnTo>
                  <a:lnTo>
                    <a:pt x="681291" y="36207"/>
                  </a:lnTo>
                  <a:lnTo>
                    <a:pt x="678434" y="43192"/>
                  </a:lnTo>
                  <a:lnTo>
                    <a:pt x="666711" y="72567"/>
                  </a:lnTo>
                  <a:lnTo>
                    <a:pt x="656640" y="74256"/>
                  </a:lnTo>
                  <a:lnTo>
                    <a:pt x="656640" y="95084"/>
                  </a:lnTo>
                  <a:lnTo>
                    <a:pt x="652856" y="103314"/>
                  </a:lnTo>
                  <a:lnTo>
                    <a:pt x="646912" y="114223"/>
                  </a:lnTo>
                  <a:lnTo>
                    <a:pt x="640435" y="123748"/>
                  </a:lnTo>
                  <a:lnTo>
                    <a:pt x="635025" y="127838"/>
                  </a:lnTo>
                  <a:lnTo>
                    <a:pt x="634669" y="127838"/>
                  </a:lnTo>
                  <a:lnTo>
                    <a:pt x="630529" y="127660"/>
                  </a:lnTo>
                  <a:lnTo>
                    <a:pt x="630529" y="121361"/>
                  </a:lnTo>
                  <a:lnTo>
                    <a:pt x="633069" y="109855"/>
                  </a:lnTo>
                  <a:lnTo>
                    <a:pt x="639457" y="101600"/>
                  </a:lnTo>
                  <a:lnTo>
                    <a:pt x="647928" y="96647"/>
                  </a:lnTo>
                  <a:lnTo>
                    <a:pt x="656640" y="95084"/>
                  </a:lnTo>
                  <a:lnTo>
                    <a:pt x="656640" y="74256"/>
                  </a:lnTo>
                  <a:lnTo>
                    <a:pt x="641921" y="76695"/>
                  </a:lnTo>
                  <a:lnTo>
                    <a:pt x="624065" y="88315"/>
                  </a:lnTo>
                  <a:lnTo>
                    <a:pt x="613270" y="104267"/>
                  </a:lnTo>
                  <a:lnTo>
                    <a:pt x="609638" y="121361"/>
                  </a:lnTo>
                  <a:lnTo>
                    <a:pt x="611924" y="133197"/>
                  </a:lnTo>
                  <a:lnTo>
                    <a:pt x="617969" y="142214"/>
                  </a:lnTo>
                  <a:lnTo>
                    <a:pt x="626503" y="147967"/>
                  </a:lnTo>
                  <a:lnTo>
                    <a:pt x="636282" y="149987"/>
                  </a:lnTo>
                  <a:lnTo>
                    <a:pt x="647788" y="146862"/>
                  </a:lnTo>
                  <a:lnTo>
                    <a:pt x="680212" y="95084"/>
                  </a:lnTo>
                  <a:lnTo>
                    <a:pt x="680567" y="94361"/>
                  </a:lnTo>
                  <a:lnTo>
                    <a:pt x="691299" y="97104"/>
                  </a:lnTo>
                  <a:lnTo>
                    <a:pt x="700214" y="99910"/>
                  </a:lnTo>
                  <a:lnTo>
                    <a:pt x="708494" y="103085"/>
                  </a:lnTo>
                  <a:lnTo>
                    <a:pt x="717296" y="106959"/>
                  </a:lnTo>
                  <a:lnTo>
                    <a:pt x="710374" y="118846"/>
                  </a:lnTo>
                  <a:lnTo>
                    <a:pt x="700874" y="131191"/>
                  </a:lnTo>
                  <a:lnTo>
                    <a:pt x="689559" y="142214"/>
                  </a:lnTo>
                  <a:lnTo>
                    <a:pt x="677151" y="150164"/>
                  </a:lnTo>
                  <a:lnTo>
                    <a:pt x="683158" y="154038"/>
                  </a:lnTo>
                  <a:lnTo>
                    <a:pt x="688060" y="157670"/>
                  </a:lnTo>
                  <a:lnTo>
                    <a:pt x="692467" y="161658"/>
                  </a:lnTo>
                  <a:lnTo>
                    <a:pt x="696950" y="166547"/>
                  </a:lnTo>
                  <a:lnTo>
                    <a:pt x="711784" y="154393"/>
                  </a:lnTo>
                  <a:lnTo>
                    <a:pt x="723569" y="140957"/>
                  </a:lnTo>
                  <a:lnTo>
                    <a:pt x="732231" y="128282"/>
                  </a:lnTo>
                  <a:lnTo>
                    <a:pt x="737654" y="118478"/>
                  </a:lnTo>
                  <a:lnTo>
                    <a:pt x="745642" y="123837"/>
                  </a:lnTo>
                  <a:lnTo>
                    <a:pt x="751636" y="128422"/>
                  </a:lnTo>
                  <a:lnTo>
                    <a:pt x="756221" y="132397"/>
                  </a:lnTo>
                  <a:lnTo>
                    <a:pt x="759968" y="135940"/>
                  </a:lnTo>
                  <a:lnTo>
                    <a:pt x="763841" y="129667"/>
                  </a:lnTo>
                  <a:lnTo>
                    <a:pt x="766813" y="125095"/>
                  </a:lnTo>
                  <a:lnTo>
                    <a:pt x="770039" y="120446"/>
                  </a:lnTo>
                  <a:lnTo>
                    <a:pt x="771474" y="118478"/>
                  </a:lnTo>
                  <a:lnTo>
                    <a:pt x="774725" y="113982"/>
                  </a:lnTo>
                  <a:close/>
                </a:path>
                <a:path w="837565" h="172720">
                  <a:moveTo>
                    <a:pt x="836993" y="86067"/>
                  </a:moveTo>
                  <a:lnTo>
                    <a:pt x="835634" y="67335"/>
                  </a:lnTo>
                  <a:lnTo>
                    <a:pt x="830402" y="45808"/>
                  </a:lnTo>
                  <a:lnTo>
                    <a:pt x="819594" y="22898"/>
                  </a:lnTo>
                  <a:lnTo>
                    <a:pt x="801522" y="0"/>
                  </a:lnTo>
                  <a:lnTo>
                    <a:pt x="788200" y="12077"/>
                  </a:lnTo>
                  <a:lnTo>
                    <a:pt x="796696" y="21717"/>
                  </a:lnTo>
                  <a:lnTo>
                    <a:pt x="806805" y="36918"/>
                  </a:lnTo>
                  <a:lnTo>
                    <a:pt x="815251" y="58204"/>
                  </a:lnTo>
                  <a:lnTo>
                    <a:pt x="818794" y="86067"/>
                  </a:lnTo>
                  <a:lnTo>
                    <a:pt x="815251" y="113931"/>
                  </a:lnTo>
                  <a:lnTo>
                    <a:pt x="806805" y="135216"/>
                  </a:lnTo>
                  <a:lnTo>
                    <a:pt x="796696" y="150431"/>
                  </a:lnTo>
                  <a:lnTo>
                    <a:pt x="788200" y="160058"/>
                  </a:lnTo>
                  <a:lnTo>
                    <a:pt x="801522" y="172110"/>
                  </a:lnTo>
                  <a:lnTo>
                    <a:pt x="819594" y="149237"/>
                  </a:lnTo>
                  <a:lnTo>
                    <a:pt x="830402" y="126326"/>
                  </a:lnTo>
                  <a:lnTo>
                    <a:pt x="835634" y="104800"/>
                  </a:lnTo>
                  <a:lnTo>
                    <a:pt x="836993" y="860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bject 54"/>
            <p:cNvSpPr/>
            <p:nvPr/>
          </p:nvSpPr>
          <p:spPr>
            <a:xfrm>
              <a:off x="3779640" y="5767560"/>
              <a:ext cx="360" cy="4746240"/>
            </a:xfrm>
            <a:custGeom>
              <a:avLst/>
              <a:gdLst/>
              <a:ahLst/>
              <a:rect l="l" t="t" r="r" b="b"/>
              <a:pathLst>
                <a:path w="0" h="4746625">
                  <a:moveTo>
                    <a:pt x="0" y="4746231"/>
                  </a:moveTo>
                  <a:lnTo>
                    <a:pt x="0" y="0"/>
                  </a:lnTo>
                </a:path>
              </a:pathLst>
            </a:custGeom>
            <a:noFill/>
            <a:ln w="5400">
              <a:solidFill>
                <a:srgbClr val="231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object 55"/>
            <p:cNvGrpSpPr/>
            <p:nvPr/>
          </p:nvGrpSpPr>
          <p:grpSpPr>
            <a:xfrm>
              <a:off x="802080" y="3888360"/>
              <a:ext cx="2269080" cy="161640"/>
              <a:chOff x="802080" y="3888360"/>
              <a:chExt cx="2269080" cy="161640"/>
            </a:xfrm>
          </p:grpSpPr>
          <p:sp>
            <p:nvSpPr>
              <p:cNvPr id="96" name="object 56"/>
              <p:cNvSpPr/>
              <p:nvPr/>
            </p:nvSpPr>
            <p:spPr>
              <a:xfrm>
                <a:off x="802080" y="3917520"/>
                <a:ext cx="140040" cy="113040"/>
              </a:xfrm>
              <a:custGeom>
                <a:avLst/>
                <a:gdLst/>
                <a:ahLst/>
                <a:rect l="l" t="t" r="r" b="b"/>
                <a:pathLst>
                  <a:path w="140334" h="113029">
                    <a:moveTo>
                      <a:pt x="125120" y="0"/>
                    </a:moveTo>
                    <a:lnTo>
                      <a:pt x="119176" y="3962"/>
                    </a:lnTo>
                    <a:lnTo>
                      <a:pt x="0" y="3962"/>
                    </a:lnTo>
                    <a:lnTo>
                      <a:pt x="0" y="24295"/>
                    </a:lnTo>
                    <a:lnTo>
                      <a:pt x="101345" y="24295"/>
                    </a:lnTo>
                    <a:lnTo>
                      <a:pt x="92450" y="33774"/>
                    </a:lnTo>
                    <a:lnTo>
                      <a:pt x="64808" y="62103"/>
                    </a:lnTo>
                    <a:lnTo>
                      <a:pt x="54563" y="52473"/>
                    </a:lnTo>
                    <a:lnTo>
                      <a:pt x="44996" y="44462"/>
                    </a:lnTo>
                    <a:lnTo>
                      <a:pt x="30962" y="58508"/>
                    </a:lnTo>
                    <a:lnTo>
                      <a:pt x="42153" y="68312"/>
                    </a:lnTo>
                    <a:lnTo>
                      <a:pt x="53916" y="80513"/>
                    </a:lnTo>
                    <a:lnTo>
                      <a:pt x="65543" y="95211"/>
                    </a:lnTo>
                    <a:lnTo>
                      <a:pt x="76326" y="112509"/>
                    </a:lnTo>
                    <a:lnTo>
                      <a:pt x="94500" y="97929"/>
                    </a:lnTo>
                    <a:lnTo>
                      <a:pt x="89827" y="90551"/>
                    </a:lnTo>
                    <a:lnTo>
                      <a:pt x="79387" y="77952"/>
                    </a:lnTo>
                    <a:lnTo>
                      <a:pt x="112267" y="43743"/>
                    </a:lnTo>
                    <a:lnTo>
                      <a:pt x="131775" y="24117"/>
                    </a:lnTo>
                    <a:lnTo>
                      <a:pt x="133756" y="22313"/>
                    </a:lnTo>
                    <a:lnTo>
                      <a:pt x="140055" y="17462"/>
                    </a:lnTo>
                    <a:lnTo>
                      <a:pt x="125120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" name="object 57" descr=""/>
              <p:cNvPicPr/>
              <p:nvPr/>
            </p:nvPicPr>
            <p:blipFill>
              <a:blip r:embed="rId21"/>
              <a:stretch/>
            </p:blipFill>
            <p:spPr>
              <a:xfrm>
                <a:off x="947520" y="3888360"/>
                <a:ext cx="212364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8" name="object 58" descr=""/>
            <p:cNvPicPr/>
            <p:nvPr/>
          </p:nvPicPr>
          <p:blipFill>
            <a:blip r:embed="rId22"/>
            <a:stretch/>
          </p:blipFill>
          <p:spPr>
            <a:xfrm>
              <a:off x="801360" y="4138920"/>
              <a:ext cx="2428560" cy="1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object 59"/>
            <p:cNvSpPr/>
            <p:nvPr/>
          </p:nvSpPr>
          <p:spPr>
            <a:xfrm>
              <a:off x="2050200" y="235440"/>
              <a:ext cx="487440" cy="299520"/>
            </a:xfrm>
            <a:custGeom>
              <a:avLst/>
              <a:gdLst/>
              <a:ahLst/>
              <a:rect l="l" t="t" r="r" b="b"/>
              <a:pathLst>
                <a:path w="487680" h="299720">
                  <a:moveTo>
                    <a:pt x="207391" y="7937"/>
                  </a:moveTo>
                  <a:lnTo>
                    <a:pt x="0" y="7937"/>
                  </a:lnTo>
                  <a:lnTo>
                    <a:pt x="0" y="49847"/>
                  </a:lnTo>
                  <a:lnTo>
                    <a:pt x="0" y="132397"/>
                  </a:lnTo>
                  <a:lnTo>
                    <a:pt x="0" y="174307"/>
                  </a:lnTo>
                  <a:lnTo>
                    <a:pt x="0" y="291147"/>
                  </a:lnTo>
                  <a:lnTo>
                    <a:pt x="54013" y="291147"/>
                  </a:lnTo>
                  <a:lnTo>
                    <a:pt x="54013" y="174307"/>
                  </a:lnTo>
                  <a:lnTo>
                    <a:pt x="187223" y="174307"/>
                  </a:lnTo>
                  <a:lnTo>
                    <a:pt x="187223" y="132397"/>
                  </a:lnTo>
                  <a:lnTo>
                    <a:pt x="54013" y="132397"/>
                  </a:lnTo>
                  <a:lnTo>
                    <a:pt x="54013" y="49847"/>
                  </a:lnTo>
                  <a:lnTo>
                    <a:pt x="207391" y="49847"/>
                  </a:lnTo>
                  <a:lnTo>
                    <a:pt x="207391" y="7937"/>
                  </a:lnTo>
                  <a:close/>
                </a:path>
                <a:path w="487680" h="299720">
                  <a:moveTo>
                    <a:pt x="487476" y="210997"/>
                  </a:moveTo>
                  <a:lnTo>
                    <a:pt x="461606" y="158254"/>
                  </a:lnTo>
                  <a:lnTo>
                    <a:pt x="403593" y="132499"/>
                  </a:lnTo>
                  <a:lnTo>
                    <a:pt x="358482" y="117068"/>
                  </a:lnTo>
                  <a:lnTo>
                    <a:pt x="330860" y="105105"/>
                  </a:lnTo>
                  <a:lnTo>
                    <a:pt x="317004" y="93065"/>
                  </a:lnTo>
                  <a:lnTo>
                    <a:pt x="313207" y="77419"/>
                  </a:lnTo>
                  <a:lnTo>
                    <a:pt x="320382" y="59105"/>
                  </a:lnTo>
                  <a:lnTo>
                    <a:pt x="337108" y="49695"/>
                  </a:lnTo>
                  <a:lnTo>
                    <a:pt x="356196" y="46228"/>
                  </a:lnTo>
                  <a:lnTo>
                    <a:pt x="370459" y="45732"/>
                  </a:lnTo>
                  <a:lnTo>
                    <a:pt x="387375" y="46850"/>
                  </a:lnTo>
                  <a:lnTo>
                    <a:pt x="419976" y="68935"/>
                  </a:lnTo>
                  <a:lnTo>
                    <a:pt x="425551" y="88582"/>
                  </a:lnTo>
                  <a:lnTo>
                    <a:pt x="480999" y="88582"/>
                  </a:lnTo>
                  <a:lnTo>
                    <a:pt x="468223" y="46951"/>
                  </a:lnTo>
                  <a:lnTo>
                    <a:pt x="444957" y="19583"/>
                  </a:lnTo>
                  <a:lnTo>
                    <a:pt x="411086" y="4584"/>
                  </a:lnTo>
                  <a:lnTo>
                    <a:pt x="366509" y="0"/>
                  </a:lnTo>
                  <a:lnTo>
                    <a:pt x="311391" y="8750"/>
                  </a:lnTo>
                  <a:lnTo>
                    <a:pt x="278244" y="30302"/>
                  </a:lnTo>
                  <a:lnTo>
                    <a:pt x="262039" y="57581"/>
                  </a:lnTo>
                  <a:lnTo>
                    <a:pt x="257759" y="83540"/>
                  </a:lnTo>
                  <a:lnTo>
                    <a:pt x="265544" y="117551"/>
                  </a:lnTo>
                  <a:lnTo>
                    <a:pt x="287642" y="141236"/>
                  </a:lnTo>
                  <a:lnTo>
                    <a:pt x="322160" y="158572"/>
                  </a:lnTo>
                  <a:lnTo>
                    <a:pt x="367220" y="173545"/>
                  </a:lnTo>
                  <a:lnTo>
                    <a:pt x="396849" y="183083"/>
                  </a:lnTo>
                  <a:lnTo>
                    <a:pt x="417093" y="192049"/>
                  </a:lnTo>
                  <a:lnTo>
                    <a:pt x="428701" y="202565"/>
                  </a:lnTo>
                  <a:lnTo>
                    <a:pt x="432396" y="216763"/>
                  </a:lnTo>
                  <a:lnTo>
                    <a:pt x="431266" y="224574"/>
                  </a:lnTo>
                  <a:lnTo>
                    <a:pt x="395211" y="251866"/>
                  </a:lnTo>
                  <a:lnTo>
                    <a:pt x="372973" y="253847"/>
                  </a:lnTo>
                  <a:lnTo>
                    <a:pt x="343674" y="250710"/>
                  </a:lnTo>
                  <a:lnTo>
                    <a:pt x="322986" y="241427"/>
                  </a:lnTo>
                  <a:lnTo>
                    <a:pt x="310464" y="226212"/>
                  </a:lnTo>
                  <a:lnTo>
                    <a:pt x="305663" y="205244"/>
                  </a:lnTo>
                  <a:lnTo>
                    <a:pt x="249491" y="205244"/>
                  </a:lnTo>
                  <a:lnTo>
                    <a:pt x="262978" y="251587"/>
                  </a:lnTo>
                  <a:lnTo>
                    <a:pt x="292912" y="280492"/>
                  </a:lnTo>
                  <a:lnTo>
                    <a:pt x="332371" y="295363"/>
                  </a:lnTo>
                  <a:lnTo>
                    <a:pt x="374434" y="299567"/>
                  </a:lnTo>
                  <a:lnTo>
                    <a:pt x="430974" y="290042"/>
                  </a:lnTo>
                  <a:lnTo>
                    <a:pt x="465518" y="266763"/>
                  </a:lnTo>
                  <a:lnTo>
                    <a:pt x="482777" y="237756"/>
                  </a:lnTo>
                  <a:lnTo>
                    <a:pt x="487476" y="2109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bject 60"/>
            <p:cNvSpPr/>
            <p:nvPr/>
          </p:nvSpPr>
          <p:spPr>
            <a:xfrm>
              <a:off x="2582640" y="235440"/>
              <a:ext cx="260280" cy="299520"/>
            </a:xfrm>
            <a:custGeom>
              <a:avLst/>
              <a:gdLst/>
              <a:ahLst/>
              <a:rect l="l" t="t" r="r" b="b"/>
              <a:pathLst>
                <a:path w="260350" h="299720">
                  <a:moveTo>
                    <a:pt x="137896" y="0"/>
                  </a:moveTo>
                  <a:lnTo>
                    <a:pt x="86091" y="8189"/>
                  </a:lnTo>
                  <a:lnTo>
                    <a:pt x="47210" y="30602"/>
                  </a:lnTo>
                  <a:lnTo>
                    <a:pt x="20441" y="64007"/>
                  </a:lnTo>
                  <a:lnTo>
                    <a:pt x="4975" y="105171"/>
                  </a:lnTo>
                  <a:lnTo>
                    <a:pt x="0" y="150863"/>
                  </a:lnTo>
                  <a:lnTo>
                    <a:pt x="4015" y="191350"/>
                  </a:lnTo>
                  <a:lnTo>
                    <a:pt x="17606" y="231353"/>
                  </a:lnTo>
                  <a:lnTo>
                    <a:pt x="43087" y="265982"/>
                  </a:lnTo>
                  <a:lnTo>
                    <a:pt x="82772" y="290346"/>
                  </a:lnTo>
                  <a:lnTo>
                    <a:pt x="138976" y="299554"/>
                  </a:lnTo>
                  <a:lnTo>
                    <a:pt x="200113" y="285874"/>
                  </a:lnTo>
                  <a:lnTo>
                    <a:pt x="235969" y="253833"/>
                  </a:lnTo>
                  <a:lnTo>
                    <a:pt x="253665" y="216932"/>
                  </a:lnTo>
                  <a:lnTo>
                    <a:pt x="260324" y="188671"/>
                  </a:lnTo>
                  <a:lnTo>
                    <a:pt x="205955" y="188671"/>
                  </a:lnTo>
                  <a:lnTo>
                    <a:pt x="199908" y="215558"/>
                  </a:lnTo>
                  <a:lnTo>
                    <a:pt x="187277" y="236102"/>
                  </a:lnTo>
                  <a:lnTo>
                    <a:pt x="166611" y="249221"/>
                  </a:lnTo>
                  <a:lnTo>
                    <a:pt x="136461" y="253834"/>
                  </a:lnTo>
                  <a:lnTo>
                    <a:pt x="127697" y="253559"/>
                  </a:lnTo>
                  <a:lnTo>
                    <a:pt x="87858" y="239433"/>
                  </a:lnTo>
                  <a:lnTo>
                    <a:pt x="62564" y="200415"/>
                  </a:lnTo>
                  <a:lnTo>
                    <a:pt x="55092" y="150863"/>
                  </a:lnTo>
                  <a:lnTo>
                    <a:pt x="55974" y="132696"/>
                  </a:lnTo>
                  <a:lnTo>
                    <a:pt x="65567" y="92986"/>
                  </a:lnTo>
                  <a:lnTo>
                    <a:pt x="88686" y="60459"/>
                  </a:lnTo>
                  <a:lnTo>
                    <a:pt x="137896" y="45720"/>
                  </a:lnTo>
                  <a:lnTo>
                    <a:pt x="170040" y="51570"/>
                  </a:lnTo>
                  <a:lnTo>
                    <a:pt x="190333" y="66333"/>
                  </a:lnTo>
                  <a:lnTo>
                    <a:pt x="201242" y="85823"/>
                  </a:lnTo>
                  <a:lnTo>
                    <a:pt x="205231" y="105854"/>
                  </a:lnTo>
                  <a:lnTo>
                    <a:pt x="258521" y="105854"/>
                  </a:lnTo>
                  <a:lnTo>
                    <a:pt x="239623" y="51188"/>
                  </a:lnTo>
                  <a:lnTo>
                    <a:pt x="208876" y="19037"/>
                  </a:lnTo>
                  <a:lnTo>
                    <a:pt x="172796" y="3831"/>
                  </a:lnTo>
                  <a:lnTo>
                    <a:pt x="1378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bject 61"/>
            <p:cNvSpPr/>
            <p:nvPr/>
          </p:nvSpPr>
          <p:spPr>
            <a:xfrm>
              <a:off x="2967120" y="223200"/>
              <a:ext cx="1450800" cy="330480"/>
            </a:xfrm>
            <a:custGeom>
              <a:avLst/>
              <a:gdLst/>
              <a:ahLst/>
              <a:rect l="l" t="t" r="r" b="b"/>
              <a:pathLst>
                <a:path w="1450975" h="330834">
                  <a:moveTo>
                    <a:pt x="164185" y="252399"/>
                  </a:moveTo>
                  <a:lnTo>
                    <a:pt x="154647" y="245275"/>
                  </a:lnTo>
                  <a:lnTo>
                    <a:pt x="144018" y="236728"/>
                  </a:lnTo>
                  <a:lnTo>
                    <a:pt x="132588" y="226568"/>
                  </a:lnTo>
                  <a:lnTo>
                    <a:pt x="120624" y="214591"/>
                  </a:lnTo>
                  <a:lnTo>
                    <a:pt x="163830" y="214591"/>
                  </a:lnTo>
                  <a:lnTo>
                    <a:pt x="163830" y="177139"/>
                  </a:lnTo>
                  <a:lnTo>
                    <a:pt x="117017" y="177139"/>
                  </a:lnTo>
                  <a:lnTo>
                    <a:pt x="117017" y="158419"/>
                  </a:lnTo>
                  <a:lnTo>
                    <a:pt x="120980" y="156984"/>
                  </a:lnTo>
                  <a:lnTo>
                    <a:pt x="125653" y="155892"/>
                  </a:lnTo>
                  <a:lnTo>
                    <a:pt x="125653" y="147980"/>
                  </a:lnTo>
                  <a:lnTo>
                    <a:pt x="122783" y="146900"/>
                  </a:lnTo>
                  <a:lnTo>
                    <a:pt x="76695" y="144018"/>
                  </a:lnTo>
                  <a:lnTo>
                    <a:pt x="76695" y="177139"/>
                  </a:lnTo>
                  <a:lnTo>
                    <a:pt x="9004" y="177139"/>
                  </a:lnTo>
                  <a:lnTo>
                    <a:pt x="9004" y="214591"/>
                  </a:lnTo>
                  <a:lnTo>
                    <a:pt x="72021" y="214591"/>
                  </a:lnTo>
                  <a:lnTo>
                    <a:pt x="53365" y="236308"/>
                  </a:lnTo>
                  <a:lnTo>
                    <a:pt x="35458" y="254152"/>
                  </a:lnTo>
                  <a:lnTo>
                    <a:pt x="17830" y="269227"/>
                  </a:lnTo>
                  <a:lnTo>
                    <a:pt x="0" y="282638"/>
                  </a:lnTo>
                  <a:lnTo>
                    <a:pt x="10160" y="288607"/>
                  </a:lnTo>
                  <a:lnTo>
                    <a:pt x="19405" y="295516"/>
                  </a:lnTo>
                  <a:lnTo>
                    <a:pt x="27495" y="303098"/>
                  </a:lnTo>
                  <a:lnTo>
                    <a:pt x="34201" y="311086"/>
                  </a:lnTo>
                  <a:lnTo>
                    <a:pt x="47269" y="297497"/>
                  </a:lnTo>
                  <a:lnTo>
                    <a:pt x="58013" y="285254"/>
                  </a:lnTo>
                  <a:lnTo>
                    <a:pt x="67475" y="273418"/>
                  </a:lnTo>
                  <a:lnTo>
                    <a:pt x="76695" y="261035"/>
                  </a:lnTo>
                  <a:lnTo>
                    <a:pt x="76695" y="330174"/>
                  </a:lnTo>
                  <a:lnTo>
                    <a:pt x="117017" y="330174"/>
                  </a:lnTo>
                  <a:lnTo>
                    <a:pt x="117017" y="261035"/>
                  </a:lnTo>
                  <a:lnTo>
                    <a:pt x="117017" y="257073"/>
                  </a:lnTo>
                  <a:lnTo>
                    <a:pt x="123977" y="265493"/>
                  </a:lnTo>
                  <a:lnTo>
                    <a:pt x="129260" y="271475"/>
                  </a:lnTo>
                  <a:lnTo>
                    <a:pt x="133718" y="276110"/>
                  </a:lnTo>
                  <a:lnTo>
                    <a:pt x="138252" y="280479"/>
                  </a:lnTo>
                  <a:lnTo>
                    <a:pt x="145338" y="271284"/>
                  </a:lnTo>
                  <a:lnTo>
                    <a:pt x="150952" y="264680"/>
                  </a:lnTo>
                  <a:lnTo>
                    <a:pt x="156794" y="258876"/>
                  </a:lnTo>
                  <a:lnTo>
                    <a:pt x="158851" y="257073"/>
                  </a:lnTo>
                  <a:lnTo>
                    <a:pt x="164185" y="252399"/>
                  </a:lnTo>
                  <a:close/>
                </a:path>
                <a:path w="1450975" h="330834">
                  <a:moveTo>
                    <a:pt x="343852" y="287324"/>
                  </a:moveTo>
                  <a:lnTo>
                    <a:pt x="321424" y="266395"/>
                  </a:lnTo>
                  <a:lnTo>
                    <a:pt x="314147" y="258876"/>
                  </a:lnTo>
                  <a:lnTo>
                    <a:pt x="302945" y="247307"/>
                  </a:lnTo>
                  <a:lnTo>
                    <a:pt x="287896" y="230060"/>
                  </a:lnTo>
                  <a:lnTo>
                    <a:pt x="275793" y="214591"/>
                  </a:lnTo>
                  <a:lnTo>
                    <a:pt x="337019" y="214591"/>
                  </a:lnTo>
                  <a:lnTo>
                    <a:pt x="337019" y="177139"/>
                  </a:lnTo>
                  <a:lnTo>
                    <a:pt x="266801" y="177139"/>
                  </a:lnTo>
                  <a:lnTo>
                    <a:pt x="266801" y="156260"/>
                  </a:lnTo>
                  <a:lnTo>
                    <a:pt x="270764" y="154101"/>
                  </a:lnTo>
                  <a:lnTo>
                    <a:pt x="274358" y="151587"/>
                  </a:lnTo>
                  <a:lnTo>
                    <a:pt x="274281" y="145478"/>
                  </a:lnTo>
                  <a:lnTo>
                    <a:pt x="275704" y="146367"/>
                  </a:lnTo>
                  <a:lnTo>
                    <a:pt x="312877" y="163817"/>
                  </a:lnTo>
                  <a:lnTo>
                    <a:pt x="316509" y="158267"/>
                  </a:lnTo>
                  <a:lnTo>
                    <a:pt x="322427" y="150190"/>
                  </a:lnTo>
                  <a:lnTo>
                    <a:pt x="330504" y="141084"/>
                  </a:lnTo>
                  <a:lnTo>
                    <a:pt x="340614" y="132499"/>
                  </a:lnTo>
                  <a:lnTo>
                    <a:pt x="316547" y="122364"/>
                  </a:lnTo>
                  <a:lnTo>
                    <a:pt x="290106" y="109181"/>
                  </a:lnTo>
                  <a:lnTo>
                    <a:pt x="261924" y="92087"/>
                  </a:lnTo>
                  <a:lnTo>
                    <a:pt x="246583" y="80645"/>
                  </a:lnTo>
                  <a:lnTo>
                    <a:pt x="232600" y="70205"/>
                  </a:lnTo>
                  <a:lnTo>
                    <a:pt x="322961" y="70205"/>
                  </a:lnTo>
                  <a:lnTo>
                    <a:pt x="322961" y="32397"/>
                  </a:lnTo>
                  <a:lnTo>
                    <a:pt x="195148" y="32397"/>
                  </a:lnTo>
                  <a:lnTo>
                    <a:pt x="195148" y="14757"/>
                  </a:lnTo>
                  <a:lnTo>
                    <a:pt x="200558" y="12598"/>
                  </a:lnTo>
                  <a:lnTo>
                    <a:pt x="203428" y="10795"/>
                  </a:lnTo>
                  <a:lnTo>
                    <a:pt x="203428" y="4318"/>
                  </a:lnTo>
                  <a:lnTo>
                    <a:pt x="200558" y="3238"/>
                  </a:lnTo>
                  <a:lnTo>
                    <a:pt x="152311" y="0"/>
                  </a:lnTo>
                  <a:lnTo>
                    <a:pt x="152311" y="32397"/>
                  </a:lnTo>
                  <a:lnTo>
                    <a:pt x="23393" y="32397"/>
                  </a:lnTo>
                  <a:lnTo>
                    <a:pt x="23393" y="70205"/>
                  </a:lnTo>
                  <a:lnTo>
                    <a:pt x="116293" y="70205"/>
                  </a:lnTo>
                  <a:lnTo>
                    <a:pt x="91046" y="88900"/>
                  </a:lnTo>
                  <a:lnTo>
                    <a:pt x="64681" y="104952"/>
                  </a:lnTo>
                  <a:lnTo>
                    <a:pt x="35953" y="119113"/>
                  </a:lnTo>
                  <a:lnTo>
                    <a:pt x="3606" y="132130"/>
                  </a:lnTo>
                  <a:lnTo>
                    <a:pt x="9677" y="135851"/>
                  </a:lnTo>
                  <a:lnTo>
                    <a:pt x="17602" y="141630"/>
                  </a:lnTo>
                  <a:lnTo>
                    <a:pt x="27343" y="150317"/>
                  </a:lnTo>
                  <a:lnTo>
                    <a:pt x="38887" y="162737"/>
                  </a:lnTo>
                  <a:lnTo>
                    <a:pt x="81724" y="140246"/>
                  </a:lnTo>
                  <a:lnTo>
                    <a:pt x="115036" y="117246"/>
                  </a:lnTo>
                  <a:lnTo>
                    <a:pt x="138633" y="97269"/>
                  </a:lnTo>
                  <a:lnTo>
                    <a:pt x="152311" y="83883"/>
                  </a:lnTo>
                  <a:lnTo>
                    <a:pt x="152311" y="159143"/>
                  </a:lnTo>
                  <a:lnTo>
                    <a:pt x="195148" y="159143"/>
                  </a:lnTo>
                  <a:lnTo>
                    <a:pt x="195148" y="83883"/>
                  </a:lnTo>
                  <a:lnTo>
                    <a:pt x="195148" y="80645"/>
                  </a:lnTo>
                  <a:lnTo>
                    <a:pt x="219163" y="105384"/>
                  </a:lnTo>
                  <a:lnTo>
                    <a:pt x="245249" y="127101"/>
                  </a:lnTo>
                  <a:lnTo>
                    <a:pt x="274104" y="145364"/>
                  </a:lnTo>
                  <a:lnTo>
                    <a:pt x="271843" y="144373"/>
                  </a:lnTo>
                  <a:lnTo>
                    <a:pt x="225755" y="141859"/>
                  </a:lnTo>
                  <a:lnTo>
                    <a:pt x="225755" y="177139"/>
                  </a:lnTo>
                  <a:lnTo>
                    <a:pt x="174993" y="177139"/>
                  </a:lnTo>
                  <a:lnTo>
                    <a:pt x="174993" y="214591"/>
                  </a:lnTo>
                  <a:lnTo>
                    <a:pt x="216395" y="214591"/>
                  </a:lnTo>
                  <a:lnTo>
                    <a:pt x="190220" y="244703"/>
                  </a:lnTo>
                  <a:lnTo>
                    <a:pt x="166573" y="267512"/>
                  </a:lnTo>
                  <a:lnTo>
                    <a:pt x="146773" y="283857"/>
                  </a:lnTo>
                  <a:lnTo>
                    <a:pt x="132143" y="294513"/>
                  </a:lnTo>
                  <a:lnTo>
                    <a:pt x="142455" y="300748"/>
                  </a:lnTo>
                  <a:lnTo>
                    <a:pt x="151269" y="306768"/>
                  </a:lnTo>
                  <a:lnTo>
                    <a:pt x="159321" y="313055"/>
                  </a:lnTo>
                  <a:lnTo>
                    <a:pt x="167424" y="320090"/>
                  </a:lnTo>
                  <a:lnTo>
                    <a:pt x="183070" y="305981"/>
                  </a:lnTo>
                  <a:lnTo>
                    <a:pt x="198069" y="291147"/>
                  </a:lnTo>
                  <a:lnTo>
                    <a:pt x="212331" y="275577"/>
                  </a:lnTo>
                  <a:lnTo>
                    <a:pt x="225755" y="259232"/>
                  </a:lnTo>
                  <a:lnTo>
                    <a:pt x="225755" y="329806"/>
                  </a:lnTo>
                  <a:lnTo>
                    <a:pt x="266801" y="329806"/>
                  </a:lnTo>
                  <a:lnTo>
                    <a:pt x="266801" y="259232"/>
                  </a:lnTo>
                  <a:lnTo>
                    <a:pt x="266801" y="258876"/>
                  </a:lnTo>
                  <a:lnTo>
                    <a:pt x="276034" y="272275"/>
                  </a:lnTo>
                  <a:lnTo>
                    <a:pt x="286067" y="285572"/>
                  </a:lnTo>
                  <a:lnTo>
                    <a:pt x="297992" y="299732"/>
                  </a:lnTo>
                  <a:lnTo>
                    <a:pt x="312877" y="315760"/>
                  </a:lnTo>
                  <a:lnTo>
                    <a:pt x="315417" y="313601"/>
                  </a:lnTo>
                  <a:lnTo>
                    <a:pt x="316496" y="312166"/>
                  </a:lnTo>
                  <a:lnTo>
                    <a:pt x="326936" y="301371"/>
                  </a:lnTo>
                  <a:lnTo>
                    <a:pt x="333413" y="294513"/>
                  </a:lnTo>
                  <a:lnTo>
                    <a:pt x="339890" y="289839"/>
                  </a:lnTo>
                  <a:lnTo>
                    <a:pt x="343852" y="287324"/>
                  </a:lnTo>
                  <a:close/>
                </a:path>
                <a:path w="1450975" h="330834">
                  <a:moveTo>
                    <a:pt x="541121" y="187947"/>
                  </a:moveTo>
                  <a:lnTo>
                    <a:pt x="502475" y="138988"/>
                  </a:lnTo>
                  <a:lnTo>
                    <a:pt x="487108" y="114134"/>
                  </a:lnTo>
                  <a:lnTo>
                    <a:pt x="487108" y="110896"/>
                  </a:lnTo>
                  <a:lnTo>
                    <a:pt x="535724" y="110896"/>
                  </a:lnTo>
                  <a:lnTo>
                    <a:pt x="535724" y="70561"/>
                  </a:lnTo>
                  <a:lnTo>
                    <a:pt x="487108" y="70561"/>
                  </a:lnTo>
                  <a:lnTo>
                    <a:pt x="487108" y="16560"/>
                  </a:lnTo>
                  <a:lnTo>
                    <a:pt x="491794" y="15113"/>
                  </a:lnTo>
                  <a:lnTo>
                    <a:pt x="497192" y="13322"/>
                  </a:lnTo>
                  <a:lnTo>
                    <a:pt x="497192" y="5041"/>
                  </a:lnTo>
                  <a:lnTo>
                    <a:pt x="491426" y="4673"/>
                  </a:lnTo>
                  <a:lnTo>
                    <a:pt x="489280" y="4673"/>
                  </a:lnTo>
                  <a:lnTo>
                    <a:pt x="444271" y="2514"/>
                  </a:lnTo>
                  <a:lnTo>
                    <a:pt x="444271" y="70561"/>
                  </a:lnTo>
                  <a:lnTo>
                    <a:pt x="380885" y="70561"/>
                  </a:lnTo>
                  <a:lnTo>
                    <a:pt x="380885" y="110896"/>
                  </a:lnTo>
                  <a:lnTo>
                    <a:pt x="442112" y="110896"/>
                  </a:lnTo>
                  <a:lnTo>
                    <a:pt x="434390" y="132207"/>
                  </a:lnTo>
                  <a:lnTo>
                    <a:pt x="420128" y="165265"/>
                  </a:lnTo>
                  <a:lnTo>
                    <a:pt x="398856" y="204266"/>
                  </a:lnTo>
                  <a:lnTo>
                    <a:pt x="370090" y="243395"/>
                  </a:lnTo>
                  <a:lnTo>
                    <a:pt x="375640" y="247091"/>
                  </a:lnTo>
                  <a:lnTo>
                    <a:pt x="384035" y="253212"/>
                  </a:lnTo>
                  <a:lnTo>
                    <a:pt x="394182" y="261620"/>
                  </a:lnTo>
                  <a:lnTo>
                    <a:pt x="405015" y="272199"/>
                  </a:lnTo>
                  <a:lnTo>
                    <a:pt x="421017" y="245440"/>
                  </a:lnTo>
                  <a:lnTo>
                    <a:pt x="432866" y="222288"/>
                  </a:lnTo>
                  <a:lnTo>
                    <a:pt x="440613" y="205003"/>
                  </a:lnTo>
                  <a:lnTo>
                    <a:pt x="444271" y="195859"/>
                  </a:lnTo>
                  <a:lnTo>
                    <a:pt x="444271" y="330174"/>
                  </a:lnTo>
                  <a:lnTo>
                    <a:pt x="487108" y="330174"/>
                  </a:lnTo>
                  <a:lnTo>
                    <a:pt x="487108" y="195859"/>
                  </a:lnTo>
                  <a:lnTo>
                    <a:pt x="487108" y="179298"/>
                  </a:lnTo>
                  <a:lnTo>
                    <a:pt x="492887" y="190855"/>
                  </a:lnTo>
                  <a:lnTo>
                    <a:pt x="498309" y="200952"/>
                  </a:lnTo>
                  <a:lnTo>
                    <a:pt x="504063" y="210845"/>
                  </a:lnTo>
                  <a:lnTo>
                    <a:pt x="510870" y="221792"/>
                  </a:lnTo>
                  <a:lnTo>
                    <a:pt x="521614" y="208051"/>
                  </a:lnTo>
                  <a:lnTo>
                    <a:pt x="529907" y="198526"/>
                  </a:lnTo>
                  <a:lnTo>
                    <a:pt x="536232" y="192176"/>
                  </a:lnTo>
                  <a:lnTo>
                    <a:pt x="541121" y="187947"/>
                  </a:lnTo>
                  <a:close/>
                </a:path>
                <a:path w="1450975" h="330834">
                  <a:moveTo>
                    <a:pt x="718629" y="237998"/>
                  </a:moveTo>
                  <a:lnTo>
                    <a:pt x="682256" y="193979"/>
                  </a:lnTo>
                  <a:lnTo>
                    <a:pt x="658063" y="157797"/>
                  </a:lnTo>
                  <a:lnTo>
                    <a:pt x="634009" y="112699"/>
                  </a:lnTo>
                  <a:lnTo>
                    <a:pt x="634009" y="110896"/>
                  </a:lnTo>
                  <a:lnTo>
                    <a:pt x="707466" y="110896"/>
                  </a:lnTo>
                  <a:lnTo>
                    <a:pt x="707466" y="70561"/>
                  </a:lnTo>
                  <a:lnTo>
                    <a:pt x="634009" y="70561"/>
                  </a:lnTo>
                  <a:lnTo>
                    <a:pt x="634009" y="18719"/>
                  </a:lnTo>
                  <a:lnTo>
                    <a:pt x="640130" y="15836"/>
                  </a:lnTo>
                  <a:lnTo>
                    <a:pt x="644093" y="13677"/>
                  </a:lnTo>
                  <a:lnTo>
                    <a:pt x="644093" y="7200"/>
                  </a:lnTo>
                  <a:lnTo>
                    <a:pt x="639051" y="6832"/>
                  </a:lnTo>
                  <a:lnTo>
                    <a:pt x="636168" y="6477"/>
                  </a:lnTo>
                  <a:lnTo>
                    <a:pt x="590080" y="2882"/>
                  </a:lnTo>
                  <a:lnTo>
                    <a:pt x="590080" y="70561"/>
                  </a:lnTo>
                  <a:lnTo>
                    <a:pt x="547598" y="70561"/>
                  </a:lnTo>
                  <a:lnTo>
                    <a:pt x="547598" y="110896"/>
                  </a:lnTo>
                  <a:lnTo>
                    <a:pt x="590080" y="110896"/>
                  </a:lnTo>
                  <a:lnTo>
                    <a:pt x="590080" y="112331"/>
                  </a:lnTo>
                  <a:lnTo>
                    <a:pt x="567080" y="161315"/>
                  </a:lnTo>
                  <a:lnTo>
                    <a:pt x="542467" y="199872"/>
                  </a:lnTo>
                  <a:lnTo>
                    <a:pt x="518706" y="229133"/>
                  </a:lnTo>
                  <a:lnTo>
                    <a:pt x="498627" y="249872"/>
                  </a:lnTo>
                  <a:lnTo>
                    <a:pt x="509905" y="256819"/>
                  </a:lnTo>
                  <a:lnTo>
                    <a:pt x="518972" y="263334"/>
                  </a:lnTo>
                  <a:lnTo>
                    <a:pt x="527481" y="270586"/>
                  </a:lnTo>
                  <a:lnTo>
                    <a:pt x="537159" y="279755"/>
                  </a:lnTo>
                  <a:lnTo>
                    <a:pt x="550481" y="263613"/>
                  </a:lnTo>
                  <a:lnTo>
                    <a:pt x="563880" y="244614"/>
                  </a:lnTo>
                  <a:lnTo>
                    <a:pt x="577151" y="222288"/>
                  </a:lnTo>
                  <a:lnTo>
                    <a:pt x="590080" y="196227"/>
                  </a:lnTo>
                  <a:lnTo>
                    <a:pt x="590080" y="330174"/>
                  </a:lnTo>
                  <a:lnTo>
                    <a:pt x="634009" y="330174"/>
                  </a:lnTo>
                  <a:lnTo>
                    <a:pt x="634009" y="196227"/>
                  </a:lnTo>
                  <a:lnTo>
                    <a:pt x="634009" y="186867"/>
                  </a:lnTo>
                  <a:lnTo>
                    <a:pt x="644118" y="207073"/>
                  </a:lnTo>
                  <a:lnTo>
                    <a:pt x="656818" y="229133"/>
                  </a:lnTo>
                  <a:lnTo>
                    <a:pt x="672439" y="251929"/>
                  </a:lnTo>
                  <a:lnTo>
                    <a:pt x="691261" y="274358"/>
                  </a:lnTo>
                  <a:lnTo>
                    <a:pt x="697953" y="263817"/>
                  </a:lnTo>
                  <a:lnTo>
                    <a:pt x="704392" y="254825"/>
                  </a:lnTo>
                  <a:lnTo>
                    <a:pt x="711098" y="246519"/>
                  </a:lnTo>
                  <a:lnTo>
                    <a:pt x="718629" y="237998"/>
                  </a:lnTo>
                  <a:close/>
                </a:path>
                <a:path w="1450975" h="330834">
                  <a:moveTo>
                    <a:pt x="865835" y="154825"/>
                  </a:moveTo>
                  <a:lnTo>
                    <a:pt x="771118" y="154825"/>
                  </a:lnTo>
                  <a:lnTo>
                    <a:pt x="771118" y="187591"/>
                  </a:lnTo>
                  <a:lnTo>
                    <a:pt x="865835" y="187591"/>
                  </a:lnTo>
                  <a:lnTo>
                    <a:pt x="865835" y="154825"/>
                  </a:lnTo>
                  <a:close/>
                </a:path>
                <a:path w="1450975" h="330834">
                  <a:moveTo>
                    <a:pt x="865835" y="108026"/>
                  </a:moveTo>
                  <a:lnTo>
                    <a:pt x="771118" y="108026"/>
                  </a:lnTo>
                  <a:lnTo>
                    <a:pt x="771118" y="139344"/>
                  </a:lnTo>
                  <a:lnTo>
                    <a:pt x="865835" y="139344"/>
                  </a:lnTo>
                  <a:lnTo>
                    <a:pt x="865835" y="108026"/>
                  </a:lnTo>
                  <a:close/>
                </a:path>
                <a:path w="1450975" h="330834">
                  <a:moveTo>
                    <a:pt x="866190" y="12954"/>
                  </a:moveTo>
                  <a:lnTo>
                    <a:pt x="771118" y="12954"/>
                  </a:lnTo>
                  <a:lnTo>
                    <a:pt x="771118" y="43205"/>
                  </a:lnTo>
                  <a:lnTo>
                    <a:pt x="866190" y="43205"/>
                  </a:lnTo>
                  <a:lnTo>
                    <a:pt x="866190" y="12954"/>
                  </a:lnTo>
                  <a:close/>
                </a:path>
                <a:path w="1450975" h="330834">
                  <a:moveTo>
                    <a:pt x="883107" y="59042"/>
                  </a:moveTo>
                  <a:lnTo>
                    <a:pt x="753478" y="59042"/>
                  </a:lnTo>
                  <a:lnTo>
                    <a:pt x="753478" y="92532"/>
                  </a:lnTo>
                  <a:lnTo>
                    <a:pt x="883107" y="92532"/>
                  </a:lnTo>
                  <a:lnTo>
                    <a:pt x="883107" y="59042"/>
                  </a:lnTo>
                  <a:close/>
                </a:path>
                <a:path w="1450975" h="330834">
                  <a:moveTo>
                    <a:pt x="1040104" y="265722"/>
                  </a:moveTo>
                  <a:lnTo>
                    <a:pt x="1026985" y="262153"/>
                  </a:lnTo>
                  <a:lnTo>
                    <a:pt x="1015974" y="257124"/>
                  </a:lnTo>
                  <a:lnTo>
                    <a:pt x="1007389" y="251891"/>
                  </a:lnTo>
                  <a:lnTo>
                    <a:pt x="1001572" y="247713"/>
                  </a:lnTo>
                  <a:lnTo>
                    <a:pt x="999134" y="269417"/>
                  </a:lnTo>
                  <a:lnTo>
                    <a:pt x="995895" y="281698"/>
                  </a:lnTo>
                  <a:lnTo>
                    <a:pt x="989812" y="287159"/>
                  </a:lnTo>
                  <a:lnTo>
                    <a:pt x="978877" y="288404"/>
                  </a:lnTo>
                  <a:lnTo>
                    <a:pt x="965568" y="288404"/>
                  </a:lnTo>
                  <a:lnTo>
                    <a:pt x="965200" y="283730"/>
                  </a:lnTo>
                  <a:lnTo>
                    <a:pt x="965200" y="222516"/>
                  </a:lnTo>
                  <a:lnTo>
                    <a:pt x="965200" y="212788"/>
                  </a:lnTo>
                  <a:lnTo>
                    <a:pt x="965200" y="210273"/>
                  </a:lnTo>
                  <a:lnTo>
                    <a:pt x="970610" y="207035"/>
                  </a:lnTo>
                  <a:lnTo>
                    <a:pt x="973124" y="205600"/>
                  </a:lnTo>
                  <a:lnTo>
                    <a:pt x="973124" y="203796"/>
                  </a:lnTo>
                  <a:lnTo>
                    <a:pt x="975931" y="208508"/>
                  </a:lnTo>
                  <a:lnTo>
                    <a:pt x="978839" y="213741"/>
                  </a:lnTo>
                  <a:lnTo>
                    <a:pt x="982484" y="220649"/>
                  </a:lnTo>
                  <a:lnTo>
                    <a:pt x="987526" y="230441"/>
                  </a:lnTo>
                  <a:lnTo>
                    <a:pt x="994702" y="224536"/>
                  </a:lnTo>
                  <a:lnTo>
                    <a:pt x="1003363" y="218643"/>
                  </a:lnTo>
                  <a:lnTo>
                    <a:pt x="1012024" y="213423"/>
                  </a:lnTo>
                  <a:lnTo>
                    <a:pt x="1019213" y="209562"/>
                  </a:lnTo>
                  <a:lnTo>
                    <a:pt x="1014996" y="203796"/>
                  </a:lnTo>
                  <a:lnTo>
                    <a:pt x="1011059" y="198399"/>
                  </a:lnTo>
                  <a:lnTo>
                    <a:pt x="996518" y="178498"/>
                  </a:lnTo>
                  <a:lnTo>
                    <a:pt x="987513" y="166611"/>
                  </a:lnTo>
                  <a:lnTo>
                    <a:pt x="979246" y="156629"/>
                  </a:lnTo>
                  <a:lnTo>
                    <a:pt x="953325" y="176796"/>
                  </a:lnTo>
                  <a:lnTo>
                    <a:pt x="956729" y="180721"/>
                  </a:lnTo>
                  <a:lnTo>
                    <a:pt x="960526" y="185293"/>
                  </a:lnTo>
                  <a:lnTo>
                    <a:pt x="964869" y="191020"/>
                  </a:lnTo>
                  <a:lnTo>
                    <a:pt x="969886" y="198399"/>
                  </a:lnTo>
                  <a:lnTo>
                    <a:pt x="968451" y="197675"/>
                  </a:lnTo>
                  <a:lnTo>
                    <a:pt x="966647" y="197307"/>
                  </a:lnTo>
                  <a:lnTo>
                    <a:pt x="962685" y="196951"/>
                  </a:lnTo>
                  <a:lnTo>
                    <a:pt x="927404" y="193357"/>
                  </a:lnTo>
                  <a:lnTo>
                    <a:pt x="927404" y="212788"/>
                  </a:lnTo>
                  <a:lnTo>
                    <a:pt x="892111" y="205600"/>
                  </a:lnTo>
                  <a:lnTo>
                    <a:pt x="888453" y="224891"/>
                  </a:lnTo>
                  <a:lnTo>
                    <a:pt x="884720" y="240334"/>
                  </a:lnTo>
                  <a:lnTo>
                    <a:pt x="880465" y="253898"/>
                  </a:lnTo>
                  <a:lnTo>
                    <a:pt x="875182" y="267525"/>
                  </a:lnTo>
                  <a:lnTo>
                    <a:pt x="875182" y="238721"/>
                  </a:lnTo>
                  <a:lnTo>
                    <a:pt x="875182" y="203073"/>
                  </a:lnTo>
                  <a:lnTo>
                    <a:pt x="837387" y="203073"/>
                  </a:lnTo>
                  <a:lnTo>
                    <a:pt x="837387" y="238721"/>
                  </a:lnTo>
                  <a:lnTo>
                    <a:pt x="837387" y="276161"/>
                  </a:lnTo>
                  <a:lnTo>
                    <a:pt x="801738" y="276161"/>
                  </a:lnTo>
                  <a:lnTo>
                    <a:pt x="801738" y="238721"/>
                  </a:lnTo>
                  <a:lnTo>
                    <a:pt x="837387" y="238721"/>
                  </a:lnTo>
                  <a:lnTo>
                    <a:pt x="837387" y="203073"/>
                  </a:lnTo>
                  <a:lnTo>
                    <a:pt x="763206" y="203073"/>
                  </a:lnTo>
                  <a:lnTo>
                    <a:pt x="763206" y="329819"/>
                  </a:lnTo>
                  <a:lnTo>
                    <a:pt x="801738" y="329819"/>
                  </a:lnTo>
                  <a:lnTo>
                    <a:pt x="801738" y="311810"/>
                  </a:lnTo>
                  <a:lnTo>
                    <a:pt x="837387" y="311810"/>
                  </a:lnTo>
                  <a:lnTo>
                    <a:pt x="837387" y="326567"/>
                  </a:lnTo>
                  <a:lnTo>
                    <a:pt x="875182" y="326567"/>
                  </a:lnTo>
                  <a:lnTo>
                    <a:pt x="875182" y="311810"/>
                  </a:lnTo>
                  <a:lnTo>
                    <a:pt x="875182" y="288759"/>
                  </a:lnTo>
                  <a:lnTo>
                    <a:pt x="883005" y="292201"/>
                  </a:lnTo>
                  <a:lnTo>
                    <a:pt x="889368" y="295465"/>
                  </a:lnTo>
                  <a:lnTo>
                    <a:pt x="894575" y="298538"/>
                  </a:lnTo>
                  <a:lnTo>
                    <a:pt x="898944" y="301371"/>
                  </a:lnTo>
                  <a:lnTo>
                    <a:pt x="905002" y="288759"/>
                  </a:lnTo>
                  <a:lnTo>
                    <a:pt x="909586" y="279222"/>
                  </a:lnTo>
                  <a:lnTo>
                    <a:pt x="910691" y="276161"/>
                  </a:lnTo>
                  <a:lnTo>
                    <a:pt x="913815" y="267525"/>
                  </a:lnTo>
                  <a:lnTo>
                    <a:pt x="917092" y="258470"/>
                  </a:lnTo>
                  <a:lnTo>
                    <a:pt x="922096" y="239534"/>
                  </a:lnTo>
                  <a:lnTo>
                    <a:pt x="925245" y="222872"/>
                  </a:lnTo>
                  <a:lnTo>
                    <a:pt x="927404" y="222516"/>
                  </a:lnTo>
                  <a:lnTo>
                    <a:pt x="927519" y="295465"/>
                  </a:lnTo>
                  <a:lnTo>
                    <a:pt x="956932" y="325488"/>
                  </a:lnTo>
                  <a:lnTo>
                    <a:pt x="995095" y="325488"/>
                  </a:lnTo>
                  <a:lnTo>
                    <a:pt x="1013510" y="320751"/>
                  </a:lnTo>
                  <a:lnTo>
                    <a:pt x="1026363" y="307886"/>
                  </a:lnTo>
                  <a:lnTo>
                    <a:pt x="1034834" y="288874"/>
                  </a:lnTo>
                  <a:lnTo>
                    <a:pt x="1034948" y="288404"/>
                  </a:lnTo>
                  <a:lnTo>
                    <a:pt x="1040104" y="265722"/>
                  </a:lnTo>
                  <a:close/>
                </a:path>
                <a:path w="1450975" h="330834">
                  <a:moveTo>
                    <a:pt x="1065301" y="12966"/>
                  </a:moveTo>
                  <a:lnTo>
                    <a:pt x="1024966" y="12966"/>
                  </a:lnTo>
                  <a:lnTo>
                    <a:pt x="1024966" y="50406"/>
                  </a:lnTo>
                  <a:lnTo>
                    <a:pt x="1024712" y="62598"/>
                  </a:lnTo>
                  <a:lnTo>
                    <a:pt x="1021372" y="100825"/>
                  </a:lnTo>
                  <a:lnTo>
                    <a:pt x="1005890" y="121704"/>
                  </a:lnTo>
                  <a:lnTo>
                    <a:pt x="1000125" y="121704"/>
                  </a:lnTo>
                  <a:lnTo>
                    <a:pt x="994016" y="119900"/>
                  </a:lnTo>
                  <a:lnTo>
                    <a:pt x="987882" y="117741"/>
                  </a:lnTo>
                  <a:lnTo>
                    <a:pt x="990765" y="113423"/>
                  </a:lnTo>
                  <a:lnTo>
                    <a:pt x="992581" y="110909"/>
                  </a:lnTo>
                  <a:lnTo>
                    <a:pt x="996175" y="106946"/>
                  </a:lnTo>
                  <a:lnTo>
                    <a:pt x="993152" y="104381"/>
                  </a:lnTo>
                  <a:lnTo>
                    <a:pt x="988428" y="100812"/>
                  </a:lnTo>
                  <a:lnTo>
                    <a:pt x="981278" y="95897"/>
                  </a:lnTo>
                  <a:lnTo>
                    <a:pt x="970965" y="89293"/>
                  </a:lnTo>
                  <a:lnTo>
                    <a:pt x="973010" y="82499"/>
                  </a:lnTo>
                  <a:lnTo>
                    <a:pt x="975194" y="74168"/>
                  </a:lnTo>
                  <a:lnTo>
                    <a:pt x="975893" y="70573"/>
                  </a:lnTo>
                  <a:lnTo>
                    <a:pt x="977239" y="63665"/>
                  </a:lnTo>
                  <a:lnTo>
                    <a:pt x="978877" y="50406"/>
                  </a:lnTo>
                  <a:lnTo>
                    <a:pt x="1024966" y="50406"/>
                  </a:lnTo>
                  <a:lnTo>
                    <a:pt x="1024966" y="12966"/>
                  </a:lnTo>
                  <a:lnTo>
                    <a:pt x="884186" y="12966"/>
                  </a:lnTo>
                  <a:lnTo>
                    <a:pt x="884186" y="50406"/>
                  </a:lnTo>
                  <a:lnTo>
                    <a:pt x="940358" y="50406"/>
                  </a:lnTo>
                  <a:lnTo>
                    <a:pt x="939647" y="60134"/>
                  </a:lnTo>
                  <a:lnTo>
                    <a:pt x="938161" y="66065"/>
                  </a:lnTo>
                  <a:lnTo>
                    <a:pt x="937120" y="70573"/>
                  </a:lnTo>
                  <a:lnTo>
                    <a:pt x="928217" y="66065"/>
                  </a:lnTo>
                  <a:lnTo>
                    <a:pt x="920686" y="62598"/>
                  </a:lnTo>
                  <a:lnTo>
                    <a:pt x="914184" y="59880"/>
                  </a:lnTo>
                  <a:lnTo>
                    <a:pt x="908316" y="57607"/>
                  </a:lnTo>
                  <a:lnTo>
                    <a:pt x="890320" y="90741"/>
                  </a:lnTo>
                  <a:lnTo>
                    <a:pt x="896442" y="92938"/>
                  </a:lnTo>
                  <a:lnTo>
                    <a:pt x="903135" y="95681"/>
                  </a:lnTo>
                  <a:lnTo>
                    <a:pt x="911529" y="99644"/>
                  </a:lnTo>
                  <a:lnTo>
                    <a:pt x="922731" y="105498"/>
                  </a:lnTo>
                  <a:lnTo>
                    <a:pt x="913371" y="118808"/>
                  </a:lnTo>
                  <a:lnTo>
                    <a:pt x="901611" y="130962"/>
                  </a:lnTo>
                  <a:lnTo>
                    <a:pt x="886815" y="142455"/>
                  </a:lnTo>
                  <a:lnTo>
                    <a:pt x="868349" y="153746"/>
                  </a:lnTo>
                  <a:lnTo>
                    <a:pt x="874318" y="157543"/>
                  </a:lnTo>
                  <a:lnTo>
                    <a:pt x="881265" y="162839"/>
                  </a:lnTo>
                  <a:lnTo>
                    <a:pt x="888949" y="170154"/>
                  </a:lnTo>
                  <a:lnTo>
                    <a:pt x="897153" y="180035"/>
                  </a:lnTo>
                  <a:lnTo>
                    <a:pt x="914755" y="168262"/>
                  </a:lnTo>
                  <a:lnTo>
                    <a:pt x="929424" y="155854"/>
                  </a:lnTo>
                  <a:lnTo>
                    <a:pt x="942263" y="141490"/>
                  </a:lnTo>
                  <a:lnTo>
                    <a:pt x="954405" y="123863"/>
                  </a:lnTo>
                  <a:lnTo>
                    <a:pt x="962190" y="129298"/>
                  </a:lnTo>
                  <a:lnTo>
                    <a:pt x="968121" y="133896"/>
                  </a:lnTo>
                  <a:lnTo>
                    <a:pt x="972781" y="137883"/>
                  </a:lnTo>
                  <a:lnTo>
                    <a:pt x="976718" y="141503"/>
                  </a:lnTo>
                  <a:lnTo>
                    <a:pt x="979246" y="134670"/>
                  </a:lnTo>
                  <a:lnTo>
                    <a:pt x="980338" y="131787"/>
                  </a:lnTo>
                  <a:lnTo>
                    <a:pt x="982497" y="127457"/>
                  </a:lnTo>
                  <a:lnTo>
                    <a:pt x="986155" y="140030"/>
                  </a:lnTo>
                  <a:lnTo>
                    <a:pt x="988288" y="149199"/>
                  </a:lnTo>
                  <a:lnTo>
                    <a:pt x="989418" y="155854"/>
                  </a:lnTo>
                  <a:lnTo>
                    <a:pt x="990041" y="160947"/>
                  </a:lnTo>
                  <a:lnTo>
                    <a:pt x="999413" y="162382"/>
                  </a:lnTo>
                  <a:lnTo>
                    <a:pt x="1005890" y="162382"/>
                  </a:lnTo>
                  <a:lnTo>
                    <a:pt x="1029131" y="159181"/>
                  </a:lnTo>
                  <a:lnTo>
                    <a:pt x="1054862" y="129628"/>
                  </a:lnTo>
                  <a:lnTo>
                    <a:pt x="1056170" y="123863"/>
                  </a:lnTo>
                  <a:lnTo>
                    <a:pt x="1056665" y="121704"/>
                  </a:lnTo>
                  <a:lnTo>
                    <a:pt x="1059789" y="108026"/>
                  </a:lnTo>
                  <a:lnTo>
                    <a:pt x="1062647" y="85598"/>
                  </a:lnTo>
                  <a:lnTo>
                    <a:pt x="1064221" y="55994"/>
                  </a:lnTo>
                  <a:lnTo>
                    <a:pt x="1065301" y="12966"/>
                  </a:lnTo>
                  <a:close/>
                </a:path>
                <a:path w="1450975" h="330834">
                  <a:moveTo>
                    <a:pt x="1085469" y="277609"/>
                  </a:moveTo>
                  <a:lnTo>
                    <a:pt x="1079080" y="258470"/>
                  </a:lnTo>
                  <a:lnTo>
                    <a:pt x="1070292" y="235026"/>
                  </a:lnTo>
                  <a:lnTo>
                    <a:pt x="1060094" y="211162"/>
                  </a:lnTo>
                  <a:lnTo>
                    <a:pt x="1049464" y="190830"/>
                  </a:lnTo>
                  <a:lnTo>
                    <a:pt x="1020292" y="207759"/>
                  </a:lnTo>
                  <a:lnTo>
                    <a:pt x="1029500" y="227291"/>
                  </a:lnTo>
                  <a:lnTo>
                    <a:pt x="1037209" y="248208"/>
                  </a:lnTo>
                  <a:lnTo>
                    <a:pt x="1043584" y="269875"/>
                  </a:lnTo>
                  <a:lnTo>
                    <a:pt x="1048727" y="291642"/>
                  </a:lnTo>
                  <a:lnTo>
                    <a:pt x="1058468" y="286867"/>
                  </a:lnTo>
                  <a:lnTo>
                    <a:pt x="1066419" y="283413"/>
                  </a:lnTo>
                  <a:lnTo>
                    <a:pt x="1074712" y="280555"/>
                  </a:lnTo>
                  <a:lnTo>
                    <a:pt x="1085469" y="277609"/>
                  </a:lnTo>
                  <a:close/>
                </a:path>
                <a:path w="1450975" h="330834">
                  <a:moveTo>
                    <a:pt x="1240955" y="155181"/>
                  </a:moveTo>
                  <a:lnTo>
                    <a:pt x="1137983" y="155181"/>
                  </a:lnTo>
                  <a:lnTo>
                    <a:pt x="1137983" y="187947"/>
                  </a:lnTo>
                  <a:lnTo>
                    <a:pt x="1240955" y="187947"/>
                  </a:lnTo>
                  <a:lnTo>
                    <a:pt x="1240955" y="155181"/>
                  </a:lnTo>
                  <a:close/>
                </a:path>
                <a:path w="1450975" h="330834">
                  <a:moveTo>
                    <a:pt x="1240955" y="108369"/>
                  </a:moveTo>
                  <a:lnTo>
                    <a:pt x="1137983" y="108369"/>
                  </a:lnTo>
                  <a:lnTo>
                    <a:pt x="1137983" y="140055"/>
                  </a:lnTo>
                  <a:lnTo>
                    <a:pt x="1240955" y="140055"/>
                  </a:lnTo>
                  <a:lnTo>
                    <a:pt x="1240955" y="108369"/>
                  </a:lnTo>
                  <a:close/>
                </a:path>
                <a:path w="1450975" h="330834">
                  <a:moveTo>
                    <a:pt x="1240955" y="12954"/>
                  </a:moveTo>
                  <a:lnTo>
                    <a:pt x="1137983" y="12954"/>
                  </a:lnTo>
                  <a:lnTo>
                    <a:pt x="1137983" y="44640"/>
                  </a:lnTo>
                  <a:lnTo>
                    <a:pt x="1240955" y="44640"/>
                  </a:lnTo>
                  <a:lnTo>
                    <a:pt x="1240955" y="12954"/>
                  </a:lnTo>
                  <a:close/>
                </a:path>
                <a:path w="1450975" h="330834">
                  <a:moveTo>
                    <a:pt x="1249959" y="204139"/>
                  </a:moveTo>
                  <a:lnTo>
                    <a:pt x="1211414" y="204139"/>
                  </a:lnTo>
                  <a:lnTo>
                    <a:pt x="1211414" y="239064"/>
                  </a:lnTo>
                  <a:lnTo>
                    <a:pt x="1211414" y="275793"/>
                  </a:lnTo>
                  <a:lnTo>
                    <a:pt x="1171092" y="275793"/>
                  </a:lnTo>
                  <a:lnTo>
                    <a:pt x="1171092" y="239064"/>
                  </a:lnTo>
                  <a:lnTo>
                    <a:pt x="1211414" y="239064"/>
                  </a:lnTo>
                  <a:lnTo>
                    <a:pt x="1211414" y="204139"/>
                  </a:lnTo>
                  <a:lnTo>
                    <a:pt x="1131862" y="204139"/>
                  </a:lnTo>
                  <a:lnTo>
                    <a:pt x="1131862" y="330530"/>
                  </a:lnTo>
                  <a:lnTo>
                    <a:pt x="1171105" y="330530"/>
                  </a:lnTo>
                  <a:lnTo>
                    <a:pt x="1171105" y="311797"/>
                  </a:lnTo>
                  <a:lnTo>
                    <a:pt x="1211414" y="311797"/>
                  </a:lnTo>
                  <a:lnTo>
                    <a:pt x="1211414" y="326567"/>
                  </a:lnTo>
                  <a:lnTo>
                    <a:pt x="1249959" y="326567"/>
                  </a:lnTo>
                  <a:lnTo>
                    <a:pt x="1249959" y="311797"/>
                  </a:lnTo>
                  <a:lnTo>
                    <a:pt x="1249959" y="275793"/>
                  </a:lnTo>
                  <a:lnTo>
                    <a:pt x="1249959" y="239064"/>
                  </a:lnTo>
                  <a:lnTo>
                    <a:pt x="1249959" y="204139"/>
                  </a:lnTo>
                  <a:close/>
                </a:path>
                <a:path w="1450975" h="330834">
                  <a:moveTo>
                    <a:pt x="1256792" y="59766"/>
                  </a:moveTo>
                  <a:lnTo>
                    <a:pt x="1120698" y="59766"/>
                  </a:lnTo>
                  <a:lnTo>
                    <a:pt x="1120698" y="92532"/>
                  </a:lnTo>
                  <a:lnTo>
                    <a:pt x="1256792" y="92532"/>
                  </a:lnTo>
                  <a:lnTo>
                    <a:pt x="1256792" y="59766"/>
                  </a:lnTo>
                  <a:close/>
                </a:path>
                <a:path w="1450975" h="330834">
                  <a:moveTo>
                    <a:pt x="1450860" y="279400"/>
                  </a:moveTo>
                  <a:lnTo>
                    <a:pt x="1379931" y="279400"/>
                  </a:lnTo>
                  <a:lnTo>
                    <a:pt x="1379931" y="172466"/>
                  </a:lnTo>
                  <a:lnTo>
                    <a:pt x="1439341" y="172466"/>
                  </a:lnTo>
                  <a:lnTo>
                    <a:pt x="1439341" y="131775"/>
                  </a:lnTo>
                  <a:lnTo>
                    <a:pt x="1379931" y="131775"/>
                  </a:lnTo>
                  <a:lnTo>
                    <a:pt x="1379931" y="50406"/>
                  </a:lnTo>
                  <a:lnTo>
                    <a:pt x="1445463" y="50406"/>
                  </a:lnTo>
                  <a:lnTo>
                    <a:pt x="1445463" y="12230"/>
                  </a:lnTo>
                  <a:lnTo>
                    <a:pt x="1260398" y="12230"/>
                  </a:lnTo>
                  <a:lnTo>
                    <a:pt x="1260398" y="50406"/>
                  </a:lnTo>
                  <a:lnTo>
                    <a:pt x="1338160" y="50406"/>
                  </a:lnTo>
                  <a:lnTo>
                    <a:pt x="1338160" y="279400"/>
                  </a:lnTo>
                  <a:lnTo>
                    <a:pt x="1316926" y="279400"/>
                  </a:lnTo>
                  <a:lnTo>
                    <a:pt x="1316926" y="105498"/>
                  </a:lnTo>
                  <a:lnTo>
                    <a:pt x="1323759" y="103327"/>
                  </a:lnTo>
                  <a:lnTo>
                    <a:pt x="1326642" y="102247"/>
                  </a:lnTo>
                  <a:lnTo>
                    <a:pt x="1326642" y="94691"/>
                  </a:lnTo>
                  <a:lnTo>
                    <a:pt x="1322679" y="93243"/>
                  </a:lnTo>
                  <a:lnTo>
                    <a:pt x="1319441" y="93243"/>
                  </a:lnTo>
                  <a:lnTo>
                    <a:pt x="1275156" y="91452"/>
                  </a:lnTo>
                  <a:lnTo>
                    <a:pt x="1275156" y="279400"/>
                  </a:lnTo>
                  <a:lnTo>
                    <a:pt x="1258227" y="279400"/>
                  </a:lnTo>
                  <a:lnTo>
                    <a:pt x="1258227" y="318643"/>
                  </a:lnTo>
                  <a:lnTo>
                    <a:pt x="1450860" y="318643"/>
                  </a:lnTo>
                  <a:lnTo>
                    <a:pt x="1450860" y="279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bject 62"/>
            <p:cNvSpPr/>
            <p:nvPr/>
          </p:nvSpPr>
          <p:spPr>
            <a:xfrm>
              <a:off x="4471560" y="272880"/>
              <a:ext cx="311040" cy="258840"/>
            </a:xfrm>
            <a:custGeom>
              <a:avLst/>
              <a:gdLst/>
              <a:ahLst/>
              <a:rect l="l" t="t" r="r" b="b"/>
              <a:pathLst>
                <a:path w="311150" h="259079">
                  <a:moveTo>
                    <a:pt x="281190" y="0"/>
                  </a:moveTo>
                  <a:lnTo>
                    <a:pt x="271106" y="3962"/>
                  </a:lnTo>
                  <a:lnTo>
                    <a:pt x="259956" y="5041"/>
                  </a:lnTo>
                  <a:lnTo>
                    <a:pt x="0" y="5041"/>
                  </a:lnTo>
                  <a:lnTo>
                    <a:pt x="0" y="50406"/>
                  </a:lnTo>
                  <a:lnTo>
                    <a:pt x="227545" y="50406"/>
                  </a:lnTo>
                  <a:lnTo>
                    <a:pt x="214317" y="67683"/>
                  </a:lnTo>
                  <a:lnTo>
                    <a:pt x="197305" y="87626"/>
                  </a:lnTo>
                  <a:lnTo>
                    <a:pt x="174891" y="111013"/>
                  </a:lnTo>
                  <a:lnTo>
                    <a:pt x="145453" y="138620"/>
                  </a:lnTo>
                  <a:lnTo>
                    <a:pt x="126718" y="121600"/>
                  </a:lnTo>
                  <a:lnTo>
                    <a:pt x="110888" y="108289"/>
                  </a:lnTo>
                  <a:lnTo>
                    <a:pt x="98570" y="98622"/>
                  </a:lnTo>
                  <a:lnTo>
                    <a:pt x="90373" y="92532"/>
                  </a:lnTo>
                  <a:lnTo>
                    <a:pt x="57251" y="127457"/>
                  </a:lnTo>
                  <a:lnTo>
                    <a:pt x="108717" y="171890"/>
                  </a:lnTo>
                  <a:lnTo>
                    <a:pt x="143071" y="209369"/>
                  </a:lnTo>
                  <a:lnTo>
                    <a:pt x="164129" y="238746"/>
                  </a:lnTo>
                  <a:lnTo>
                    <a:pt x="175704" y="258876"/>
                  </a:lnTo>
                  <a:lnTo>
                    <a:pt x="183629" y="250951"/>
                  </a:lnTo>
                  <a:lnTo>
                    <a:pt x="216026" y="222503"/>
                  </a:lnTo>
                  <a:lnTo>
                    <a:pt x="207531" y="209346"/>
                  </a:lnTo>
                  <a:lnTo>
                    <a:pt x="199374" y="198248"/>
                  </a:lnTo>
                  <a:lnTo>
                    <a:pt x="190002" y="187219"/>
                  </a:lnTo>
                  <a:lnTo>
                    <a:pt x="177863" y="174269"/>
                  </a:lnTo>
                  <a:lnTo>
                    <a:pt x="210198" y="144063"/>
                  </a:lnTo>
                  <a:lnTo>
                    <a:pt x="234567" y="119494"/>
                  </a:lnTo>
                  <a:lnTo>
                    <a:pt x="260286" y="91076"/>
                  </a:lnTo>
                  <a:lnTo>
                    <a:pt x="296671" y="49326"/>
                  </a:lnTo>
                  <a:lnTo>
                    <a:pt x="299923" y="45364"/>
                  </a:lnTo>
                  <a:lnTo>
                    <a:pt x="311086" y="36004"/>
                  </a:lnTo>
                  <a:lnTo>
                    <a:pt x="2811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bject 63"/>
            <p:cNvSpPr/>
            <p:nvPr/>
          </p:nvSpPr>
          <p:spPr>
            <a:xfrm>
              <a:off x="4838760" y="365040"/>
              <a:ext cx="311040" cy="51120"/>
            </a:xfrm>
            <a:custGeom>
              <a:avLst/>
              <a:gdLst/>
              <a:ahLst/>
              <a:rect l="l" t="t" r="r" b="b"/>
              <a:pathLst>
                <a:path w="311150" h="51434">
                  <a:moveTo>
                    <a:pt x="310730" y="0"/>
                  </a:moveTo>
                  <a:lnTo>
                    <a:pt x="0" y="0"/>
                  </a:lnTo>
                  <a:lnTo>
                    <a:pt x="0" y="51130"/>
                  </a:lnTo>
                  <a:lnTo>
                    <a:pt x="310730" y="51130"/>
                  </a:lnTo>
                  <a:lnTo>
                    <a:pt x="3107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bject 64"/>
            <p:cNvSpPr/>
            <p:nvPr/>
          </p:nvSpPr>
          <p:spPr>
            <a:xfrm>
              <a:off x="5218560" y="227160"/>
              <a:ext cx="290520" cy="331200"/>
            </a:xfrm>
            <a:custGeom>
              <a:avLst/>
              <a:gdLst/>
              <a:ahLst/>
              <a:rect l="l" t="t" r="r" b="b"/>
              <a:pathLst>
                <a:path w="290829" h="331470">
                  <a:moveTo>
                    <a:pt x="120611" y="0"/>
                  </a:moveTo>
                  <a:lnTo>
                    <a:pt x="95592" y="52960"/>
                  </a:lnTo>
                  <a:lnTo>
                    <a:pt x="64358" y="97751"/>
                  </a:lnTo>
                  <a:lnTo>
                    <a:pt x="31098" y="134170"/>
                  </a:lnTo>
                  <a:lnTo>
                    <a:pt x="0" y="162013"/>
                  </a:lnTo>
                  <a:lnTo>
                    <a:pt x="10409" y="169369"/>
                  </a:lnTo>
                  <a:lnTo>
                    <a:pt x="18724" y="176285"/>
                  </a:lnTo>
                  <a:lnTo>
                    <a:pt x="27037" y="184348"/>
                  </a:lnTo>
                  <a:lnTo>
                    <a:pt x="37439" y="195148"/>
                  </a:lnTo>
                  <a:lnTo>
                    <a:pt x="62457" y="171472"/>
                  </a:lnTo>
                  <a:lnTo>
                    <a:pt x="84201" y="148337"/>
                  </a:lnTo>
                  <a:lnTo>
                    <a:pt x="103715" y="124662"/>
                  </a:lnTo>
                  <a:lnTo>
                    <a:pt x="122047" y="99364"/>
                  </a:lnTo>
                  <a:lnTo>
                    <a:pt x="222148" y="99364"/>
                  </a:lnTo>
                  <a:lnTo>
                    <a:pt x="196610" y="159455"/>
                  </a:lnTo>
                  <a:lnTo>
                    <a:pt x="174172" y="195367"/>
                  </a:lnTo>
                  <a:lnTo>
                    <a:pt x="142432" y="231789"/>
                  </a:lnTo>
                  <a:lnTo>
                    <a:pt x="99249" y="266170"/>
                  </a:lnTo>
                  <a:lnTo>
                    <a:pt x="42481" y="295960"/>
                  </a:lnTo>
                  <a:lnTo>
                    <a:pt x="58224" y="308361"/>
                  </a:lnTo>
                  <a:lnTo>
                    <a:pt x="68767" y="317653"/>
                  </a:lnTo>
                  <a:lnTo>
                    <a:pt x="75799" y="324919"/>
                  </a:lnTo>
                  <a:lnTo>
                    <a:pt x="81013" y="331241"/>
                  </a:lnTo>
                  <a:lnTo>
                    <a:pt x="104203" y="319613"/>
                  </a:lnTo>
                  <a:lnTo>
                    <a:pt x="137520" y="298511"/>
                  </a:lnTo>
                  <a:lnTo>
                    <a:pt x="176489" y="265292"/>
                  </a:lnTo>
                  <a:lnTo>
                    <a:pt x="216634" y="217312"/>
                  </a:lnTo>
                  <a:lnTo>
                    <a:pt x="253479" y="151930"/>
                  </a:lnTo>
                  <a:lnTo>
                    <a:pt x="274183" y="106075"/>
                  </a:lnTo>
                  <a:lnTo>
                    <a:pt x="283858" y="85455"/>
                  </a:lnTo>
                  <a:lnTo>
                    <a:pt x="290563" y="72364"/>
                  </a:lnTo>
                  <a:lnTo>
                    <a:pt x="264642" y="49682"/>
                  </a:lnTo>
                  <a:lnTo>
                    <a:pt x="259694" y="51741"/>
                  </a:lnTo>
                  <a:lnTo>
                    <a:pt x="254244" y="53462"/>
                  </a:lnTo>
                  <a:lnTo>
                    <a:pt x="247779" y="54641"/>
                  </a:lnTo>
                  <a:lnTo>
                    <a:pt x="239788" y="55079"/>
                  </a:lnTo>
                  <a:lnTo>
                    <a:pt x="149059" y="55079"/>
                  </a:lnTo>
                  <a:lnTo>
                    <a:pt x="161302" y="31318"/>
                  </a:lnTo>
                  <a:lnTo>
                    <a:pt x="163461" y="31318"/>
                  </a:lnTo>
                  <a:lnTo>
                    <a:pt x="169938" y="30238"/>
                  </a:lnTo>
                  <a:lnTo>
                    <a:pt x="169938" y="23393"/>
                  </a:lnTo>
                  <a:lnTo>
                    <a:pt x="1206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bject 65"/>
            <p:cNvSpPr/>
            <p:nvPr/>
          </p:nvSpPr>
          <p:spPr>
            <a:xfrm>
              <a:off x="2309400" y="655560"/>
              <a:ext cx="694440" cy="332640"/>
            </a:xfrm>
            <a:custGeom>
              <a:avLst/>
              <a:gdLst/>
              <a:ahLst/>
              <a:rect l="l" t="t" r="r" b="b"/>
              <a:pathLst>
                <a:path w="694689" h="332740">
                  <a:moveTo>
                    <a:pt x="124218" y="15125"/>
                  </a:moveTo>
                  <a:lnTo>
                    <a:pt x="121323" y="13335"/>
                  </a:lnTo>
                  <a:lnTo>
                    <a:pt x="118808" y="12598"/>
                  </a:lnTo>
                  <a:lnTo>
                    <a:pt x="77406" y="0"/>
                  </a:lnTo>
                  <a:lnTo>
                    <a:pt x="67640" y="33147"/>
                  </a:lnTo>
                  <a:lnTo>
                    <a:pt x="50584" y="77152"/>
                  </a:lnTo>
                  <a:lnTo>
                    <a:pt x="27584" y="123456"/>
                  </a:lnTo>
                  <a:lnTo>
                    <a:pt x="0" y="163474"/>
                  </a:lnTo>
                  <a:lnTo>
                    <a:pt x="8356" y="171729"/>
                  </a:lnTo>
                  <a:lnTo>
                    <a:pt x="15875" y="180670"/>
                  </a:lnTo>
                  <a:lnTo>
                    <a:pt x="22110" y="189191"/>
                  </a:lnTo>
                  <a:lnTo>
                    <a:pt x="26631" y="196227"/>
                  </a:lnTo>
                  <a:lnTo>
                    <a:pt x="30797" y="191262"/>
                  </a:lnTo>
                  <a:lnTo>
                    <a:pt x="35407" y="185572"/>
                  </a:lnTo>
                  <a:lnTo>
                    <a:pt x="40754" y="178473"/>
                  </a:lnTo>
                  <a:lnTo>
                    <a:pt x="47167" y="169227"/>
                  </a:lnTo>
                  <a:lnTo>
                    <a:pt x="47167" y="331254"/>
                  </a:lnTo>
                  <a:lnTo>
                    <a:pt x="91808" y="331254"/>
                  </a:lnTo>
                  <a:lnTo>
                    <a:pt x="91808" y="169227"/>
                  </a:lnTo>
                  <a:lnTo>
                    <a:pt x="91808" y="107302"/>
                  </a:lnTo>
                  <a:lnTo>
                    <a:pt x="95046" y="105854"/>
                  </a:lnTo>
                  <a:lnTo>
                    <a:pt x="97561" y="104419"/>
                  </a:lnTo>
                  <a:lnTo>
                    <a:pt x="97561" y="97942"/>
                  </a:lnTo>
                  <a:lnTo>
                    <a:pt x="91452" y="95783"/>
                  </a:lnTo>
                  <a:lnTo>
                    <a:pt x="87134" y="94335"/>
                  </a:lnTo>
                  <a:lnTo>
                    <a:pt x="95783" y="73723"/>
                  </a:lnTo>
                  <a:lnTo>
                    <a:pt x="102616" y="55778"/>
                  </a:lnTo>
                  <a:lnTo>
                    <a:pt x="108089" y="39916"/>
                  </a:lnTo>
                  <a:lnTo>
                    <a:pt x="112699" y="25565"/>
                  </a:lnTo>
                  <a:lnTo>
                    <a:pt x="115214" y="25209"/>
                  </a:lnTo>
                  <a:lnTo>
                    <a:pt x="124218" y="24130"/>
                  </a:lnTo>
                  <a:lnTo>
                    <a:pt x="124218" y="15125"/>
                  </a:lnTo>
                  <a:close/>
                </a:path>
                <a:path w="694689" h="332740">
                  <a:moveTo>
                    <a:pt x="352132" y="291287"/>
                  </a:moveTo>
                  <a:lnTo>
                    <a:pt x="310527" y="282651"/>
                  </a:lnTo>
                  <a:lnTo>
                    <a:pt x="305536" y="281622"/>
                  </a:lnTo>
                  <a:lnTo>
                    <a:pt x="271335" y="270090"/>
                  </a:lnTo>
                  <a:lnTo>
                    <a:pt x="247459" y="258635"/>
                  </a:lnTo>
                  <a:lnTo>
                    <a:pt x="231863" y="249161"/>
                  </a:lnTo>
                  <a:lnTo>
                    <a:pt x="237109" y="236982"/>
                  </a:lnTo>
                  <a:lnTo>
                    <a:pt x="240766" y="225767"/>
                  </a:lnTo>
                  <a:lnTo>
                    <a:pt x="241147" y="224624"/>
                  </a:lnTo>
                  <a:lnTo>
                    <a:pt x="244221" y="211950"/>
                  </a:lnTo>
                  <a:lnTo>
                    <a:pt x="246634" y="198755"/>
                  </a:lnTo>
                  <a:lnTo>
                    <a:pt x="331254" y="198755"/>
                  </a:lnTo>
                  <a:lnTo>
                    <a:pt x="331254" y="160947"/>
                  </a:lnTo>
                  <a:lnTo>
                    <a:pt x="331254" y="122783"/>
                  </a:lnTo>
                  <a:lnTo>
                    <a:pt x="331254" y="85331"/>
                  </a:lnTo>
                  <a:lnTo>
                    <a:pt x="289471" y="85331"/>
                  </a:lnTo>
                  <a:lnTo>
                    <a:pt x="289471" y="122783"/>
                  </a:lnTo>
                  <a:lnTo>
                    <a:pt x="289471" y="160947"/>
                  </a:lnTo>
                  <a:lnTo>
                    <a:pt x="248793" y="160947"/>
                  </a:lnTo>
                  <a:lnTo>
                    <a:pt x="248793" y="122783"/>
                  </a:lnTo>
                  <a:lnTo>
                    <a:pt x="289471" y="122783"/>
                  </a:lnTo>
                  <a:lnTo>
                    <a:pt x="289471" y="85331"/>
                  </a:lnTo>
                  <a:lnTo>
                    <a:pt x="248793" y="85331"/>
                  </a:lnTo>
                  <a:lnTo>
                    <a:pt x="248793" y="64820"/>
                  </a:lnTo>
                  <a:lnTo>
                    <a:pt x="342773" y="64820"/>
                  </a:lnTo>
                  <a:lnTo>
                    <a:pt x="342773" y="28803"/>
                  </a:lnTo>
                  <a:lnTo>
                    <a:pt x="248793" y="28803"/>
                  </a:lnTo>
                  <a:lnTo>
                    <a:pt x="248793" y="15481"/>
                  </a:lnTo>
                  <a:lnTo>
                    <a:pt x="252031" y="14414"/>
                  </a:lnTo>
                  <a:lnTo>
                    <a:pt x="257073" y="12242"/>
                  </a:lnTo>
                  <a:lnTo>
                    <a:pt x="257073" y="5041"/>
                  </a:lnTo>
                  <a:lnTo>
                    <a:pt x="252031" y="3251"/>
                  </a:lnTo>
                  <a:lnTo>
                    <a:pt x="248793" y="3251"/>
                  </a:lnTo>
                  <a:lnTo>
                    <a:pt x="205232" y="1447"/>
                  </a:lnTo>
                  <a:lnTo>
                    <a:pt x="205232" y="28803"/>
                  </a:lnTo>
                  <a:lnTo>
                    <a:pt x="115214" y="28803"/>
                  </a:lnTo>
                  <a:lnTo>
                    <a:pt x="115214" y="64820"/>
                  </a:lnTo>
                  <a:lnTo>
                    <a:pt x="205232" y="64820"/>
                  </a:lnTo>
                  <a:lnTo>
                    <a:pt x="205232" y="85331"/>
                  </a:lnTo>
                  <a:lnTo>
                    <a:pt x="205232" y="122783"/>
                  </a:lnTo>
                  <a:lnTo>
                    <a:pt x="205232" y="160947"/>
                  </a:lnTo>
                  <a:lnTo>
                    <a:pt x="203796" y="160947"/>
                  </a:lnTo>
                  <a:lnTo>
                    <a:pt x="203796" y="198755"/>
                  </a:lnTo>
                  <a:lnTo>
                    <a:pt x="202615" y="206476"/>
                  </a:lnTo>
                  <a:lnTo>
                    <a:pt x="201129" y="213207"/>
                  </a:lnTo>
                  <a:lnTo>
                    <a:pt x="199174" y="219468"/>
                  </a:lnTo>
                  <a:lnTo>
                    <a:pt x="196583" y="225767"/>
                  </a:lnTo>
                  <a:lnTo>
                    <a:pt x="193509" y="222516"/>
                  </a:lnTo>
                  <a:lnTo>
                    <a:pt x="187718" y="216446"/>
                  </a:lnTo>
                  <a:lnTo>
                    <a:pt x="180225" y="208292"/>
                  </a:lnTo>
                  <a:lnTo>
                    <a:pt x="172097" y="198755"/>
                  </a:lnTo>
                  <a:lnTo>
                    <a:pt x="203796" y="198755"/>
                  </a:lnTo>
                  <a:lnTo>
                    <a:pt x="203796" y="160947"/>
                  </a:lnTo>
                  <a:lnTo>
                    <a:pt x="165265" y="160947"/>
                  </a:lnTo>
                  <a:lnTo>
                    <a:pt x="165265" y="122783"/>
                  </a:lnTo>
                  <a:lnTo>
                    <a:pt x="205232" y="122783"/>
                  </a:lnTo>
                  <a:lnTo>
                    <a:pt x="205232" y="85331"/>
                  </a:lnTo>
                  <a:lnTo>
                    <a:pt x="123494" y="85331"/>
                  </a:lnTo>
                  <a:lnTo>
                    <a:pt x="123494" y="198755"/>
                  </a:lnTo>
                  <a:lnTo>
                    <a:pt x="164896" y="198755"/>
                  </a:lnTo>
                  <a:lnTo>
                    <a:pt x="141859" y="217119"/>
                  </a:lnTo>
                  <a:lnTo>
                    <a:pt x="147002" y="224637"/>
                  </a:lnTo>
                  <a:lnTo>
                    <a:pt x="153504" y="233057"/>
                  </a:lnTo>
                  <a:lnTo>
                    <a:pt x="162661" y="243255"/>
                  </a:lnTo>
                  <a:lnTo>
                    <a:pt x="175704" y="256006"/>
                  </a:lnTo>
                  <a:lnTo>
                    <a:pt x="162814" y="266712"/>
                  </a:lnTo>
                  <a:lnTo>
                    <a:pt x="145224" y="277342"/>
                  </a:lnTo>
                  <a:lnTo>
                    <a:pt x="122986" y="287299"/>
                  </a:lnTo>
                  <a:lnTo>
                    <a:pt x="96126" y="295973"/>
                  </a:lnTo>
                  <a:lnTo>
                    <a:pt x="106845" y="305968"/>
                  </a:lnTo>
                  <a:lnTo>
                    <a:pt x="114630" y="315417"/>
                  </a:lnTo>
                  <a:lnTo>
                    <a:pt x="120180" y="324332"/>
                  </a:lnTo>
                  <a:lnTo>
                    <a:pt x="124218" y="332701"/>
                  </a:lnTo>
                  <a:lnTo>
                    <a:pt x="149326" y="322402"/>
                  </a:lnTo>
                  <a:lnTo>
                    <a:pt x="172593" y="309968"/>
                  </a:lnTo>
                  <a:lnTo>
                    <a:pt x="192811" y="296392"/>
                  </a:lnTo>
                  <a:lnTo>
                    <a:pt x="208826" y="282651"/>
                  </a:lnTo>
                  <a:lnTo>
                    <a:pt x="239864" y="300494"/>
                  </a:lnTo>
                  <a:lnTo>
                    <a:pt x="272999" y="314972"/>
                  </a:lnTo>
                  <a:lnTo>
                    <a:pt x="304114" y="325793"/>
                  </a:lnTo>
                  <a:lnTo>
                    <a:pt x="329095" y="332701"/>
                  </a:lnTo>
                  <a:lnTo>
                    <a:pt x="332130" y="324866"/>
                  </a:lnTo>
                  <a:lnTo>
                    <a:pt x="337502" y="313486"/>
                  </a:lnTo>
                  <a:lnTo>
                    <a:pt x="344424" y="301358"/>
                  </a:lnTo>
                  <a:lnTo>
                    <a:pt x="352132" y="291287"/>
                  </a:lnTo>
                  <a:close/>
                </a:path>
                <a:path w="694689" h="332740">
                  <a:moveTo>
                    <a:pt x="694131" y="13690"/>
                  </a:moveTo>
                  <a:lnTo>
                    <a:pt x="648766" y="13690"/>
                  </a:lnTo>
                  <a:lnTo>
                    <a:pt x="648766" y="52578"/>
                  </a:lnTo>
                  <a:lnTo>
                    <a:pt x="648766" y="91821"/>
                  </a:lnTo>
                  <a:lnTo>
                    <a:pt x="648766" y="130708"/>
                  </a:lnTo>
                  <a:lnTo>
                    <a:pt x="648766" y="169951"/>
                  </a:lnTo>
                  <a:lnTo>
                    <a:pt x="577113" y="169951"/>
                  </a:lnTo>
                  <a:lnTo>
                    <a:pt x="577113" y="130708"/>
                  </a:lnTo>
                  <a:lnTo>
                    <a:pt x="648766" y="130708"/>
                  </a:lnTo>
                  <a:lnTo>
                    <a:pt x="648766" y="91821"/>
                  </a:lnTo>
                  <a:lnTo>
                    <a:pt x="577113" y="91821"/>
                  </a:lnTo>
                  <a:lnTo>
                    <a:pt x="577113" y="52578"/>
                  </a:lnTo>
                  <a:lnTo>
                    <a:pt x="648766" y="52578"/>
                  </a:lnTo>
                  <a:lnTo>
                    <a:pt x="648766" y="13690"/>
                  </a:lnTo>
                  <a:lnTo>
                    <a:pt x="532460" y="13690"/>
                  </a:lnTo>
                  <a:lnTo>
                    <a:pt x="532460" y="52565"/>
                  </a:lnTo>
                  <a:lnTo>
                    <a:pt x="532460" y="91808"/>
                  </a:lnTo>
                  <a:lnTo>
                    <a:pt x="532460" y="130708"/>
                  </a:lnTo>
                  <a:lnTo>
                    <a:pt x="532460" y="169951"/>
                  </a:lnTo>
                  <a:lnTo>
                    <a:pt x="461530" y="169951"/>
                  </a:lnTo>
                  <a:lnTo>
                    <a:pt x="461899" y="163830"/>
                  </a:lnTo>
                  <a:lnTo>
                    <a:pt x="462229" y="156260"/>
                  </a:lnTo>
                  <a:lnTo>
                    <a:pt x="462254" y="130708"/>
                  </a:lnTo>
                  <a:lnTo>
                    <a:pt x="532460" y="130708"/>
                  </a:lnTo>
                  <a:lnTo>
                    <a:pt x="532460" y="91808"/>
                  </a:lnTo>
                  <a:lnTo>
                    <a:pt x="462254" y="91808"/>
                  </a:lnTo>
                  <a:lnTo>
                    <a:pt x="462254" y="52565"/>
                  </a:lnTo>
                  <a:lnTo>
                    <a:pt x="532460" y="52565"/>
                  </a:lnTo>
                  <a:lnTo>
                    <a:pt x="532460" y="13690"/>
                  </a:lnTo>
                  <a:lnTo>
                    <a:pt x="414007" y="13690"/>
                  </a:lnTo>
                  <a:lnTo>
                    <a:pt x="414007" y="156260"/>
                  </a:lnTo>
                  <a:lnTo>
                    <a:pt x="412330" y="198793"/>
                  </a:lnTo>
                  <a:lnTo>
                    <a:pt x="406311" y="241249"/>
                  </a:lnTo>
                  <a:lnTo>
                    <a:pt x="394411" y="280733"/>
                  </a:lnTo>
                  <a:lnTo>
                    <a:pt x="375119" y="314337"/>
                  </a:lnTo>
                  <a:lnTo>
                    <a:pt x="382651" y="315633"/>
                  </a:lnTo>
                  <a:lnTo>
                    <a:pt x="394919" y="318744"/>
                  </a:lnTo>
                  <a:lnTo>
                    <a:pt x="409346" y="324167"/>
                  </a:lnTo>
                  <a:lnTo>
                    <a:pt x="423379" y="332333"/>
                  </a:lnTo>
                  <a:lnTo>
                    <a:pt x="439826" y="299707"/>
                  </a:lnTo>
                  <a:lnTo>
                    <a:pt x="449961" y="267843"/>
                  </a:lnTo>
                  <a:lnTo>
                    <a:pt x="455714" y="237807"/>
                  </a:lnTo>
                  <a:lnTo>
                    <a:pt x="459016" y="210629"/>
                  </a:lnTo>
                  <a:lnTo>
                    <a:pt x="532460" y="210629"/>
                  </a:lnTo>
                  <a:lnTo>
                    <a:pt x="532460" y="314693"/>
                  </a:lnTo>
                  <a:lnTo>
                    <a:pt x="577113" y="314693"/>
                  </a:lnTo>
                  <a:lnTo>
                    <a:pt x="577113" y="210629"/>
                  </a:lnTo>
                  <a:lnTo>
                    <a:pt x="648766" y="210629"/>
                  </a:lnTo>
                  <a:lnTo>
                    <a:pt x="648665" y="267843"/>
                  </a:lnTo>
                  <a:lnTo>
                    <a:pt x="631126" y="285889"/>
                  </a:lnTo>
                  <a:lnTo>
                    <a:pt x="622465" y="285597"/>
                  </a:lnTo>
                  <a:lnTo>
                    <a:pt x="614603" y="284861"/>
                  </a:lnTo>
                  <a:lnTo>
                    <a:pt x="607872" y="283921"/>
                  </a:lnTo>
                  <a:lnTo>
                    <a:pt x="602678" y="283006"/>
                  </a:lnTo>
                  <a:lnTo>
                    <a:pt x="607999" y="293319"/>
                  </a:lnTo>
                  <a:lnTo>
                    <a:pt x="612838" y="304939"/>
                  </a:lnTo>
                  <a:lnTo>
                    <a:pt x="616750" y="317296"/>
                  </a:lnTo>
                  <a:lnTo>
                    <a:pt x="619239" y="329819"/>
                  </a:lnTo>
                  <a:lnTo>
                    <a:pt x="648855" y="329857"/>
                  </a:lnTo>
                  <a:lnTo>
                    <a:pt x="688390" y="310222"/>
                  </a:lnTo>
                  <a:lnTo>
                    <a:pt x="694131" y="210629"/>
                  </a:lnTo>
                  <a:lnTo>
                    <a:pt x="694131" y="169951"/>
                  </a:lnTo>
                  <a:lnTo>
                    <a:pt x="694131" y="130708"/>
                  </a:lnTo>
                  <a:lnTo>
                    <a:pt x="694131" y="91821"/>
                  </a:lnTo>
                  <a:lnTo>
                    <a:pt x="694131" y="52578"/>
                  </a:lnTo>
                  <a:lnTo>
                    <a:pt x="694131" y="136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bject 66"/>
            <p:cNvSpPr/>
            <p:nvPr/>
          </p:nvSpPr>
          <p:spPr>
            <a:xfrm>
              <a:off x="3063960" y="658080"/>
              <a:ext cx="329400" cy="315360"/>
            </a:xfrm>
            <a:custGeom>
              <a:avLst/>
              <a:gdLst/>
              <a:ahLst/>
              <a:rect l="l" t="t" r="r" b="b"/>
              <a:pathLst>
                <a:path w="329564" h="315594">
                  <a:moveTo>
                    <a:pt x="128905" y="0"/>
                  </a:moveTo>
                  <a:lnTo>
                    <a:pt x="128905" y="271487"/>
                  </a:lnTo>
                  <a:lnTo>
                    <a:pt x="0" y="271487"/>
                  </a:lnTo>
                  <a:lnTo>
                    <a:pt x="0" y="315417"/>
                  </a:lnTo>
                  <a:lnTo>
                    <a:pt x="329450" y="315417"/>
                  </a:lnTo>
                  <a:lnTo>
                    <a:pt x="329450" y="271487"/>
                  </a:lnTo>
                  <a:lnTo>
                    <a:pt x="177139" y="271487"/>
                  </a:lnTo>
                  <a:lnTo>
                    <a:pt x="177139" y="156984"/>
                  </a:lnTo>
                  <a:lnTo>
                    <a:pt x="309638" y="156984"/>
                  </a:lnTo>
                  <a:lnTo>
                    <a:pt x="309638" y="111975"/>
                  </a:lnTo>
                  <a:lnTo>
                    <a:pt x="177139" y="111975"/>
                  </a:lnTo>
                  <a:lnTo>
                    <a:pt x="177139" y="14046"/>
                  </a:lnTo>
                  <a:lnTo>
                    <a:pt x="185064" y="11518"/>
                  </a:lnTo>
                  <a:lnTo>
                    <a:pt x="186512" y="10807"/>
                  </a:lnTo>
                  <a:lnTo>
                    <a:pt x="186512" y="5041"/>
                  </a:lnTo>
                  <a:lnTo>
                    <a:pt x="182537" y="3594"/>
                  </a:lnTo>
                  <a:lnTo>
                    <a:pt x="180022" y="3594"/>
                  </a:lnTo>
                  <a:lnTo>
                    <a:pt x="1289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bject 67"/>
            <p:cNvSpPr/>
            <p:nvPr/>
          </p:nvSpPr>
          <p:spPr>
            <a:xfrm>
              <a:off x="3440520" y="649440"/>
              <a:ext cx="1819080" cy="340200"/>
            </a:xfrm>
            <a:custGeom>
              <a:avLst/>
              <a:gdLst/>
              <a:ahLst/>
              <a:rect l="l" t="t" r="r" b="b"/>
              <a:pathLst>
                <a:path w="1819275" h="340359">
                  <a:moveTo>
                    <a:pt x="317576" y="163842"/>
                  </a:moveTo>
                  <a:lnTo>
                    <a:pt x="309816" y="116459"/>
                  </a:lnTo>
                  <a:lnTo>
                    <a:pt x="288467" y="78130"/>
                  </a:lnTo>
                  <a:lnTo>
                    <a:pt x="279158" y="69862"/>
                  </a:lnTo>
                  <a:lnTo>
                    <a:pt x="256451" y="49695"/>
                  </a:lnTo>
                  <a:lnTo>
                    <a:pt x="216687" y="32029"/>
                  </a:lnTo>
                  <a:lnTo>
                    <a:pt x="172110" y="25946"/>
                  </a:lnTo>
                  <a:lnTo>
                    <a:pt x="126390" y="32461"/>
                  </a:lnTo>
                  <a:lnTo>
                    <a:pt x="126390" y="78511"/>
                  </a:lnTo>
                  <a:lnTo>
                    <a:pt x="125463" y="96354"/>
                  </a:lnTo>
                  <a:lnTo>
                    <a:pt x="114287" y="160274"/>
                  </a:lnTo>
                  <a:lnTo>
                    <a:pt x="99390" y="203454"/>
                  </a:lnTo>
                  <a:lnTo>
                    <a:pt x="80797" y="238277"/>
                  </a:lnTo>
                  <a:lnTo>
                    <a:pt x="73088" y="242328"/>
                  </a:lnTo>
                  <a:lnTo>
                    <a:pt x="64109" y="238074"/>
                  </a:lnTo>
                  <a:lnTo>
                    <a:pt x="55232" y="226441"/>
                  </a:lnTo>
                  <a:lnTo>
                    <a:pt x="48437" y="209067"/>
                  </a:lnTo>
                  <a:lnTo>
                    <a:pt x="45732" y="187604"/>
                  </a:lnTo>
                  <a:lnTo>
                    <a:pt x="51447" y="156578"/>
                  </a:lnTo>
                  <a:lnTo>
                    <a:pt x="67703" y="124409"/>
                  </a:lnTo>
                  <a:lnTo>
                    <a:pt x="93129" y="96558"/>
                  </a:lnTo>
                  <a:lnTo>
                    <a:pt x="126390" y="78511"/>
                  </a:lnTo>
                  <a:lnTo>
                    <a:pt x="126390" y="32461"/>
                  </a:lnTo>
                  <a:lnTo>
                    <a:pt x="81889" y="51650"/>
                  </a:lnTo>
                  <a:lnTo>
                    <a:pt x="47574" y="79629"/>
                  </a:lnTo>
                  <a:lnTo>
                    <a:pt x="21818" y="114007"/>
                  </a:lnTo>
                  <a:lnTo>
                    <a:pt x="5626" y="151993"/>
                  </a:lnTo>
                  <a:lnTo>
                    <a:pt x="0" y="190842"/>
                  </a:lnTo>
                  <a:lnTo>
                    <a:pt x="8026" y="235191"/>
                  </a:lnTo>
                  <a:lnTo>
                    <a:pt x="27774" y="269913"/>
                  </a:lnTo>
                  <a:lnTo>
                    <a:pt x="52717" y="292557"/>
                  </a:lnTo>
                  <a:lnTo>
                    <a:pt x="76339" y="300659"/>
                  </a:lnTo>
                  <a:lnTo>
                    <a:pt x="95859" y="292887"/>
                  </a:lnTo>
                  <a:lnTo>
                    <a:pt x="132435" y="242328"/>
                  </a:lnTo>
                  <a:lnTo>
                    <a:pt x="154076" y="189382"/>
                  </a:lnTo>
                  <a:lnTo>
                    <a:pt x="168338" y="133591"/>
                  </a:lnTo>
                  <a:lnTo>
                    <a:pt x="176263" y="78511"/>
                  </a:lnTo>
                  <a:lnTo>
                    <a:pt x="177507" y="69862"/>
                  </a:lnTo>
                  <a:lnTo>
                    <a:pt x="219202" y="80035"/>
                  </a:lnTo>
                  <a:lnTo>
                    <a:pt x="247713" y="102400"/>
                  </a:lnTo>
                  <a:lnTo>
                    <a:pt x="264083" y="131991"/>
                  </a:lnTo>
                  <a:lnTo>
                    <a:pt x="269316" y="163842"/>
                  </a:lnTo>
                  <a:lnTo>
                    <a:pt x="264566" y="195846"/>
                  </a:lnTo>
                  <a:lnTo>
                    <a:pt x="247726" y="230619"/>
                  </a:lnTo>
                  <a:lnTo>
                    <a:pt x="214947" y="261353"/>
                  </a:lnTo>
                  <a:lnTo>
                    <a:pt x="162394" y="281216"/>
                  </a:lnTo>
                  <a:lnTo>
                    <a:pt x="171754" y="291909"/>
                  </a:lnTo>
                  <a:lnTo>
                    <a:pt x="179451" y="301688"/>
                  </a:lnTo>
                  <a:lnTo>
                    <a:pt x="186550" y="311950"/>
                  </a:lnTo>
                  <a:lnTo>
                    <a:pt x="194081" y="324065"/>
                  </a:lnTo>
                  <a:lnTo>
                    <a:pt x="214528" y="315569"/>
                  </a:lnTo>
                  <a:lnTo>
                    <a:pt x="255854" y="291147"/>
                  </a:lnTo>
                  <a:lnTo>
                    <a:pt x="289483" y="254774"/>
                  </a:lnTo>
                  <a:lnTo>
                    <a:pt x="313524" y="200634"/>
                  </a:lnTo>
                  <a:lnTo>
                    <a:pt x="317576" y="163842"/>
                  </a:lnTo>
                  <a:close/>
                </a:path>
                <a:path w="1819275" h="340359">
                  <a:moveTo>
                    <a:pt x="442836" y="131419"/>
                  </a:moveTo>
                  <a:lnTo>
                    <a:pt x="425196" y="119964"/>
                  </a:lnTo>
                  <a:lnTo>
                    <a:pt x="406501" y="109639"/>
                  </a:lnTo>
                  <a:lnTo>
                    <a:pt x="388696" y="100952"/>
                  </a:lnTo>
                  <a:lnTo>
                    <a:pt x="373697" y="94335"/>
                  </a:lnTo>
                  <a:lnTo>
                    <a:pt x="354609" y="133578"/>
                  </a:lnTo>
                  <a:lnTo>
                    <a:pt x="371424" y="141401"/>
                  </a:lnTo>
                  <a:lnTo>
                    <a:pt x="384898" y="148259"/>
                  </a:lnTo>
                  <a:lnTo>
                    <a:pt x="400329" y="156883"/>
                  </a:lnTo>
                  <a:lnTo>
                    <a:pt x="423024" y="169951"/>
                  </a:lnTo>
                  <a:lnTo>
                    <a:pt x="426212" y="162928"/>
                  </a:lnTo>
                  <a:lnTo>
                    <a:pt x="430225" y="154749"/>
                  </a:lnTo>
                  <a:lnTo>
                    <a:pt x="435584" y="144538"/>
                  </a:lnTo>
                  <a:lnTo>
                    <a:pt x="442836" y="131419"/>
                  </a:lnTo>
                  <a:close/>
                </a:path>
                <a:path w="1819275" h="340359">
                  <a:moveTo>
                    <a:pt x="461187" y="215684"/>
                  </a:moveTo>
                  <a:lnTo>
                    <a:pt x="456031" y="212102"/>
                  </a:lnTo>
                  <a:lnTo>
                    <a:pt x="448043" y="205917"/>
                  </a:lnTo>
                  <a:lnTo>
                    <a:pt x="438708" y="197510"/>
                  </a:lnTo>
                  <a:lnTo>
                    <a:pt x="429514" y="187236"/>
                  </a:lnTo>
                  <a:lnTo>
                    <a:pt x="416318" y="214274"/>
                  </a:lnTo>
                  <a:lnTo>
                    <a:pt x="397725" y="247142"/>
                  </a:lnTo>
                  <a:lnTo>
                    <a:pt x="376847" y="279946"/>
                  </a:lnTo>
                  <a:lnTo>
                    <a:pt x="356768" y="306768"/>
                  </a:lnTo>
                  <a:lnTo>
                    <a:pt x="399262" y="335216"/>
                  </a:lnTo>
                  <a:lnTo>
                    <a:pt x="403225" y="335216"/>
                  </a:lnTo>
                  <a:lnTo>
                    <a:pt x="404672" y="333781"/>
                  </a:lnTo>
                  <a:lnTo>
                    <a:pt x="404672" y="329095"/>
                  </a:lnTo>
                  <a:lnTo>
                    <a:pt x="403580" y="325856"/>
                  </a:lnTo>
                  <a:lnTo>
                    <a:pt x="402856" y="322618"/>
                  </a:lnTo>
                  <a:lnTo>
                    <a:pt x="420471" y="294474"/>
                  </a:lnTo>
                  <a:lnTo>
                    <a:pt x="436333" y="266458"/>
                  </a:lnTo>
                  <a:lnTo>
                    <a:pt x="450037" y="239788"/>
                  </a:lnTo>
                  <a:lnTo>
                    <a:pt x="461187" y="215684"/>
                  </a:lnTo>
                  <a:close/>
                </a:path>
                <a:path w="1819275" h="340359">
                  <a:moveTo>
                    <a:pt x="469836" y="41046"/>
                  </a:moveTo>
                  <a:lnTo>
                    <a:pt x="452755" y="29032"/>
                  </a:lnTo>
                  <a:lnTo>
                    <a:pt x="434759" y="17780"/>
                  </a:lnTo>
                  <a:lnTo>
                    <a:pt x="419544" y="8902"/>
                  </a:lnTo>
                  <a:lnTo>
                    <a:pt x="410781" y="3962"/>
                  </a:lnTo>
                  <a:lnTo>
                    <a:pt x="387743" y="39611"/>
                  </a:lnTo>
                  <a:lnTo>
                    <a:pt x="403694" y="48780"/>
                  </a:lnTo>
                  <a:lnTo>
                    <a:pt x="419823" y="59194"/>
                  </a:lnTo>
                  <a:lnTo>
                    <a:pt x="434670" y="69545"/>
                  </a:lnTo>
                  <a:lnTo>
                    <a:pt x="446786" y="78498"/>
                  </a:lnTo>
                  <a:lnTo>
                    <a:pt x="452208" y="68503"/>
                  </a:lnTo>
                  <a:lnTo>
                    <a:pt x="457492" y="59512"/>
                  </a:lnTo>
                  <a:lnTo>
                    <a:pt x="463194" y="50660"/>
                  </a:lnTo>
                  <a:lnTo>
                    <a:pt x="469836" y="41046"/>
                  </a:lnTo>
                  <a:close/>
                </a:path>
                <a:path w="1819275" h="340359">
                  <a:moveTo>
                    <a:pt x="693077" y="285889"/>
                  </a:moveTo>
                  <a:lnTo>
                    <a:pt x="596925" y="285889"/>
                  </a:lnTo>
                  <a:lnTo>
                    <a:pt x="596925" y="209194"/>
                  </a:lnTo>
                  <a:lnTo>
                    <a:pt x="668578" y="209194"/>
                  </a:lnTo>
                  <a:lnTo>
                    <a:pt x="668578" y="168148"/>
                  </a:lnTo>
                  <a:lnTo>
                    <a:pt x="596925" y="168148"/>
                  </a:lnTo>
                  <a:lnTo>
                    <a:pt x="596925" y="101904"/>
                  </a:lnTo>
                  <a:lnTo>
                    <a:pt x="687666" y="101904"/>
                  </a:lnTo>
                  <a:lnTo>
                    <a:pt x="687666" y="63373"/>
                  </a:lnTo>
                  <a:lnTo>
                    <a:pt x="589737" y="63373"/>
                  </a:lnTo>
                  <a:lnTo>
                    <a:pt x="595490" y="58331"/>
                  </a:lnTo>
                  <a:lnTo>
                    <a:pt x="601256" y="54737"/>
                  </a:lnTo>
                  <a:lnTo>
                    <a:pt x="610247" y="48615"/>
                  </a:lnTo>
                  <a:lnTo>
                    <a:pt x="596684" y="34950"/>
                  </a:lnTo>
                  <a:lnTo>
                    <a:pt x="584644" y="23507"/>
                  </a:lnTo>
                  <a:lnTo>
                    <a:pt x="571728" y="12458"/>
                  </a:lnTo>
                  <a:lnTo>
                    <a:pt x="555536" y="0"/>
                  </a:lnTo>
                  <a:lnTo>
                    <a:pt x="519518" y="28803"/>
                  </a:lnTo>
                  <a:lnTo>
                    <a:pt x="529844" y="37045"/>
                  </a:lnTo>
                  <a:lnTo>
                    <a:pt x="539775" y="45554"/>
                  </a:lnTo>
                  <a:lnTo>
                    <a:pt x="549287" y="54330"/>
                  </a:lnTo>
                  <a:lnTo>
                    <a:pt x="558406" y="63373"/>
                  </a:lnTo>
                  <a:lnTo>
                    <a:pt x="465518" y="63373"/>
                  </a:lnTo>
                  <a:lnTo>
                    <a:pt x="465518" y="101904"/>
                  </a:lnTo>
                  <a:lnTo>
                    <a:pt x="552284" y="101904"/>
                  </a:lnTo>
                  <a:lnTo>
                    <a:pt x="552284" y="168148"/>
                  </a:lnTo>
                  <a:lnTo>
                    <a:pt x="480275" y="168148"/>
                  </a:lnTo>
                  <a:lnTo>
                    <a:pt x="480275" y="209194"/>
                  </a:lnTo>
                  <a:lnTo>
                    <a:pt x="552284" y="209194"/>
                  </a:lnTo>
                  <a:lnTo>
                    <a:pt x="552284" y="285889"/>
                  </a:lnTo>
                  <a:lnTo>
                    <a:pt x="456158" y="285889"/>
                  </a:lnTo>
                  <a:lnTo>
                    <a:pt x="456158" y="327660"/>
                  </a:lnTo>
                  <a:lnTo>
                    <a:pt x="693077" y="327660"/>
                  </a:lnTo>
                  <a:lnTo>
                    <a:pt x="693077" y="285889"/>
                  </a:lnTo>
                  <a:close/>
                </a:path>
                <a:path w="1819275" h="340359">
                  <a:moveTo>
                    <a:pt x="821918" y="271132"/>
                  </a:moveTo>
                  <a:lnTo>
                    <a:pt x="779780" y="250253"/>
                  </a:lnTo>
                  <a:lnTo>
                    <a:pt x="768502" y="270649"/>
                  </a:lnTo>
                  <a:lnTo>
                    <a:pt x="757237" y="287566"/>
                  </a:lnTo>
                  <a:lnTo>
                    <a:pt x="745909" y="301853"/>
                  </a:lnTo>
                  <a:lnTo>
                    <a:pt x="734415" y="314337"/>
                  </a:lnTo>
                  <a:lnTo>
                    <a:pt x="744435" y="318528"/>
                  </a:lnTo>
                  <a:lnTo>
                    <a:pt x="753008" y="323291"/>
                  </a:lnTo>
                  <a:lnTo>
                    <a:pt x="761098" y="329082"/>
                  </a:lnTo>
                  <a:lnTo>
                    <a:pt x="769696" y="336308"/>
                  </a:lnTo>
                  <a:lnTo>
                    <a:pt x="776312" y="328269"/>
                  </a:lnTo>
                  <a:lnTo>
                    <a:pt x="787323" y="314337"/>
                  </a:lnTo>
                  <a:lnTo>
                    <a:pt x="799680" y="297218"/>
                  </a:lnTo>
                  <a:lnTo>
                    <a:pt x="810755" y="279057"/>
                  </a:lnTo>
                  <a:lnTo>
                    <a:pt x="816508" y="279057"/>
                  </a:lnTo>
                  <a:lnTo>
                    <a:pt x="821918" y="277977"/>
                  </a:lnTo>
                  <a:lnTo>
                    <a:pt x="821918" y="271132"/>
                  </a:lnTo>
                  <a:close/>
                </a:path>
                <a:path w="1819275" h="340359">
                  <a:moveTo>
                    <a:pt x="996175" y="288772"/>
                  </a:moveTo>
                  <a:lnTo>
                    <a:pt x="986955" y="285851"/>
                  </a:lnTo>
                  <a:lnTo>
                    <a:pt x="978001" y="281838"/>
                  </a:lnTo>
                  <a:lnTo>
                    <a:pt x="969048" y="276618"/>
                  </a:lnTo>
                  <a:lnTo>
                    <a:pt x="959815" y="270040"/>
                  </a:lnTo>
                  <a:lnTo>
                    <a:pt x="956424" y="282994"/>
                  </a:lnTo>
                  <a:lnTo>
                    <a:pt x="951852" y="292874"/>
                  </a:lnTo>
                  <a:lnTo>
                    <a:pt x="944778" y="299173"/>
                  </a:lnTo>
                  <a:lnTo>
                    <a:pt x="933881" y="301383"/>
                  </a:lnTo>
                  <a:lnTo>
                    <a:pt x="873391" y="301383"/>
                  </a:lnTo>
                  <a:lnTo>
                    <a:pt x="866914" y="301015"/>
                  </a:lnTo>
                  <a:lnTo>
                    <a:pt x="866914" y="263931"/>
                  </a:lnTo>
                  <a:lnTo>
                    <a:pt x="869442" y="262851"/>
                  </a:lnTo>
                  <a:lnTo>
                    <a:pt x="871956" y="260692"/>
                  </a:lnTo>
                  <a:lnTo>
                    <a:pt x="871956" y="254927"/>
                  </a:lnTo>
                  <a:lnTo>
                    <a:pt x="868718" y="253847"/>
                  </a:lnTo>
                  <a:lnTo>
                    <a:pt x="827671" y="249885"/>
                  </a:lnTo>
                  <a:lnTo>
                    <a:pt x="827671" y="302094"/>
                  </a:lnTo>
                  <a:lnTo>
                    <a:pt x="829233" y="316788"/>
                  </a:lnTo>
                  <a:lnTo>
                    <a:pt x="834961" y="326986"/>
                  </a:lnTo>
                  <a:lnTo>
                    <a:pt x="846505" y="332930"/>
                  </a:lnTo>
                  <a:lnTo>
                    <a:pt x="865466" y="334860"/>
                  </a:lnTo>
                  <a:lnTo>
                    <a:pt x="942162" y="334860"/>
                  </a:lnTo>
                  <a:lnTo>
                    <a:pt x="966965" y="331406"/>
                  </a:lnTo>
                  <a:lnTo>
                    <a:pt x="982002" y="321805"/>
                  </a:lnTo>
                  <a:lnTo>
                    <a:pt x="990625" y="307213"/>
                  </a:lnTo>
                  <a:lnTo>
                    <a:pt x="992378" y="301383"/>
                  </a:lnTo>
                  <a:lnTo>
                    <a:pt x="996175" y="288772"/>
                  </a:lnTo>
                  <a:close/>
                </a:path>
                <a:path w="1819275" h="340359">
                  <a:moveTo>
                    <a:pt x="1011301" y="127469"/>
                  </a:moveTo>
                  <a:lnTo>
                    <a:pt x="969162" y="127469"/>
                  </a:lnTo>
                  <a:lnTo>
                    <a:pt x="969162" y="154838"/>
                  </a:lnTo>
                  <a:lnTo>
                    <a:pt x="969162" y="172478"/>
                  </a:lnTo>
                  <a:lnTo>
                    <a:pt x="969162" y="196951"/>
                  </a:lnTo>
                  <a:lnTo>
                    <a:pt x="969162" y="215684"/>
                  </a:lnTo>
                  <a:lnTo>
                    <a:pt x="831621" y="215684"/>
                  </a:lnTo>
                  <a:lnTo>
                    <a:pt x="831621" y="196951"/>
                  </a:lnTo>
                  <a:lnTo>
                    <a:pt x="969162" y="196951"/>
                  </a:lnTo>
                  <a:lnTo>
                    <a:pt x="969162" y="172478"/>
                  </a:lnTo>
                  <a:lnTo>
                    <a:pt x="831621" y="172478"/>
                  </a:lnTo>
                  <a:lnTo>
                    <a:pt x="831621" y="154838"/>
                  </a:lnTo>
                  <a:lnTo>
                    <a:pt x="969162" y="154838"/>
                  </a:lnTo>
                  <a:lnTo>
                    <a:pt x="969162" y="127469"/>
                  </a:lnTo>
                  <a:lnTo>
                    <a:pt x="788073" y="127469"/>
                  </a:lnTo>
                  <a:lnTo>
                    <a:pt x="788073" y="243039"/>
                  </a:lnTo>
                  <a:lnTo>
                    <a:pt x="899680" y="243039"/>
                  </a:lnTo>
                  <a:lnTo>
                    <a:pt x="883475" y="252768"/>
                  </a:lnTo>
                  <a:lnTo>
                    <a:pt x="890016" y="260121"/>
                  </a:lnTo>
                  <a:lnTo>
                    <a:pt x="897382" y="269151"/>
                  </a:lnTo>
                  <a:lnTo>
                    <a:pt x="905103" y="279806"/>
                  </a:lnTo>
                  <a:lnTo>
                    <a:pt x="912634" y="292011"/>
                  </a:lnTo>
                  <a:lnTo>
                    <a:pt x="920673" y="287007"/>
                  </a:lnTo>
                  <a:lnTo>
                    <a:pt x="943965" y="272935"/>
                  </a:lnTo>
                  <a:lnTo>
                    <a:pt x="936790" y="262851"/>
                  </a:lnTo>
                  <a:lnTo>
                    <a:pt x="930059" y="254342"/>
                  </a:lnTo>
                  <a:lnTo>
                    <a:pt x="924267" y="247561"/>
                  </a:lnTo>
                  <a:lnTo>
                    <a:pt x="920203" y="243039"/>
                  </a:lnTo>
                  <a:lnTo>
                    <a:pt x="1011301" y="243039"/>
                  </a:lnTo>
                  <a:lnTo>
                    <a:pt x="1011301" y="215684"/>
                  </a:lnTo>
                  <a:lnTo>
                    <a:pt x="1011301" y="196951"/>
                  </a:lnTo>
                  <a:lnTo>
                    <a:pt x="1011301" y="172478"/>
                  </a:lnTo>
                  <a:lnTo>
                    <a:pt x="1011301" y="154838"/>
                  </a:lnTo>
                  <a:lnTo>
                    <a:pt x="1011301" y="127469"/>
                  </a:lnTo>
                  <a:close/>
                </a:path>
                <a:path w="1819275" h="340359">
                  <a:moveTo>
                    <a:pt x="1065314" y="80657"/>
                  </a:moveTo>
                  <a:lnTo>
                    <a:pt x="978166" y="80657"/>
                  </a:lnTo>
                  <a:lnTo>
                    <a:pt x="982484" y="73825"/>
                  </a:lnTo>
                  <a:lnTo>
                    <a:pt x="984656" y="69494"/>
                  </a:lnTo>
                  <a:lnTo>
                    <a:pt x="991489" y="68783"/>
                  </a:lnTo>
                  <a:lnTo>
                    <a:pt x="995095" y="67703"/>
                  </a:lnTo>
                  <a:lnTo>
                    <a:pt x="995095" y="64096"/>
                  </a:lnTo>
                  <a:lnTo>
                    <a:pt x="994384" y="62661"/>
                  </a:lnTo>
                  <a:lnTo>
                    <a:pt x="1044422" y="62661"/>
                  </a:lnTo>
                  <a:lnTo>
                    <a:pt x="1044422" y="28816"/>
                  </a:lnTo>
                  <a:lnTo>
                    <a:pt x="939647" y="28816"/>
                  </a:lnTo>
                  <a:lnTo>
                    <a:pt x="939647" y="62661"/>
                  </a:lnTo>
                  <a:lnTo>
                    <a:pt x="935685" y="71666"/>
                  </a:lnTo>
                  <a:lnTo>
                    <a:pt x="933157" y="76339"/>
                  </a:lnTo>
                  <a:lnTo>
                    <a:pt x="930643" y="80657"/>
                  </a:lnTo>
                  <a:lnTo>
                    <a:pt x="858278" y="80657"/>
                  </a:lnTo>
                  <a:lnTo>
                    <a:pt x="867994" y="77787"/>
                  </a:lnTo>
                  <a:lnTo>
                    <a:pt x="863307" y="70586"/>
                  </a:lnTo>
                  <a:lnTo>
                    <a:pt x="859358" y="65544"/>
                  </a:lnTo>
                  <a:lnTo>
                    <a:pt x="856475" y="62661"/>
                  </a:lnTo>
                  <a:lnTo>
                    <a:pt x="939647" y="62661"/>
                  </a:lnTo>
                  <a:lnTo>
                    <a:pt x="939647" y="28816"/>
                  </a:lnTo>
                  <a:lnTo>
                    <a:pt x="922362" y="28816"/>
                  </a:lnTo>
                  <a:lnTo>
                    <a:pt x="922362" y="17284"/>
                  </a:lnTo>
                  <a:lnTo>
                    <a:pt x="925614" y="15849"/>
                  </a:lnTo>
                  <a:lnTo>
                    <a:pt x="928852" y="14058"/>
                  </a:lnTo>
                  <a:lnTo>
                    <a:pt x="928852" y="7569"/>
                  </a:lnTo>
                  <a:lnTo>
                    <a:pt x="924153" y="7213"/>
                  </a:lnTo>
                  <a:lnTo>
                    <a:pt x="921639" y="7213"/>
                  </a:lnTo>
                  <a:lnTo>
                    <a:pt x="875919" y="4686"/>
                  </a:lnTo>
                  <a:lnTo>
                    <a:pt x="875919" y="28816"/>
                  </a:lnTo>
                  <a:lnTo>
                    <a:pt x="754938" y="28816"/>
                  </a:lnTo>
                  <a:lnTo>
                    <a:pt x="754938" y="62661"/>
                  </a:lnTo>
                  <a:lnTo>
                    <a:pt x="822274" y="62661"/>
                  </a:lnTo>
                  <a:lnTo>
                    <a:pt x="808939" y="66255"/>
                  </a:lnTo>
                  <a:lnTo>
                    <a:pt x="812190" y="69862"/>
                  </a:lnTo>
                  <a:lnTo>
                    <a:pt x="814705" y="72745"/>
                  </a:lnTo>
                  <a:lnTo>
                    <a:pt x="820458" y="80657"/>
                  </a:lnTo>
                  <a:lnTo>
                    <a:pt x="735139" y="80657"/>
                  </a:lnTo>
                  <a:lnTo>
                    <a:pt x="735139" y="113792"/>
                  </a:lnTo>
                  <a:lnTo>
                    <a:pt x="1065314" y="113792"/>
                  </a:lnTo>
                  <a:lnTo>
                    <a:pt x="1065314" y="80657"/>
                  </a:lnTo>
                  <a:close/>
                </a:path>
                <a:path w="1819275" h="340359">
                  <a:moveTo>
                    <a:pt x="1066025" y="305333"/>
                  </a:moveTo>
                  <a:lnTo>
                    <a:pt x="1057935" y="293090"/>
                  </a:lnTo>
                  <a:lnTo>
                    <a:pt x="1047673" y="278688"/>
                  </a:lnTo>
                  <a:lnTo>
                    <a:pt x="1035253" y="263207"/>
                  </a:lnTo>
                  <a:lnTo>
                    <a:pt x="1020660" y="247726"/>
                  </a:lnTo>
                  <a:lnTo>
                    <a:pt x="987171" y="266458"/>
                  </a:lnTo>
                  <a:lnTo>
                    <a:pt x="1001204" y="282473"/>
                  </a:lnTo>
                  <a:lnTo>
                    <a:pt x="1014361" y="300024"/>
                  </a:lnTo>
                  <a:lnTo>
                    <a:pt x="1025347" y="316382"/>
                  </a:lnTo>
                  <a:lnTo>
                    <a:pt x="1032903" y="328739"/>
                  </a:lnTo>
                  <a:lnTo>
                    <a:pt x="1040053" y="322707"/>
                  </a:lnTo>
                  <a:lnTo>
                    <a:pt x="1046365" y="317982"/>
                  </a:lnTo>
                  <a:lnTo>
                    <a:pt x="1054227" y="312788"/>
                  </a:lnTo>
                  <a:lnTo>
                    <a:pt x="1066025" y="305333"/>
                  </a:lnTo>
                  <a:close/>
                </a:path>
                <a:path w="1819275" h="340359">
                  <a:moveTo>
                    <a:pt x="1436484" y="203796"/>
                  </a:moveTo>
                  <a:lnTo>
                    <a:pt x="1413446" y="203796"/>
                  </a:lnTo>
                  <a:lnTo>
                    <a:pt x="1413446" y="160235"/>
                  </a:lnTo>
                  <a:lnTo>
                    <a:pt x="1368793" y="160235"/>
                  </a:lnTo>
                  <a:lnTo>
                    <a:pt x="1368793" y="189750"/>
                  </a:lnTo>
                  <a:lnTo>
                    <a:pt x="1368793" y="203796"/>
                  </a:lnTo>
                  <a:lnTo>
                    <a:pt x="1368793" y="233311"/>
                  </a:lnTo>
                  <a:lnTo>
                    <a:pt x="1368793" y="248437"/>
                  </a:lnTo>
                  <a:lnTo>
                    <a:pt x="1294257" y="248437"/>
                  </a:lnTo>
                  <a:lnTo>
                    <a:pt x="1294257" y="233311"/>
                  </a:lnTo>
                  <a:lnTo>
                    <a:pt x="1368793" y="233311"/>
                  </a:lnTo>
                  <a:lnTo>
                    <a:pt x="1368793" y="203796"/>
                  </a:lnTo>
                  <a:lnTo>
                    <a:pt x="1294257" y="203796"/>
                  </a:lnTo>
                  <a:lnTo>
                    <a:pt x="1294257" y="189750"/>
                  </a:lnTo>
                  <a:lnTo>
                    <a:pt x="1368793" y="189750"/>
                  </a:lnTo>
                  <a:lnTo>
                    <a:pt x="1368793" y="160235"/>
                  </a:lnTo>
                  <a:lnTo>
                    <a:pt x="1294257" y="160235"/>
                  </a:lnTo>
                  <a:lnTo>
                    <a:pt x="1294257" y="147624"/>
                  </a:lnTo>
                  <a:lnTo>
                    <a:pt x="1386789" y="147624"/>
                  </a:lnTo>
                  <a:lnTo>
                    <a:pt x="1386789" y="118122"/>
                  </a:lnTo>
                  <a:lnTo>
                    <a:pt x="1386789" y="102984"/>
                  </a:lnTo>
                  <a:lnTo>
                    <a:pt x="1386789" y="74536"/>
                  </a:lnTo>
                  <a:lnTo>
                    <a:pt x="1346111" y="74536"/>
                  </a:lnTo>
                  <a:lnTo>
                    <a:pt x="1346111" y="102984"/>
                  </a:lnTo>
                  <a:lnTo>
                    <a:pt x="1346111" y="118122"/>
                  </a:lnTo>
                  <a:lnTo>
                    <a:pt x="1294257" y="118122"/>
                  </a:lnTo>
                  <a:lnTo>
                    <a:pt x="1294257" y="102984"/>
                  </a:lnTo>
                  <a:lnTo>
                    <a:pt x="1346111" y="102984"/>
                  </a:lnTo>
                  <a:lnTo>
                    <a:pt x="1346111" y="74536"/>
                  </a:lnTo>
                  <a:lnTo>
                    <a:pt x="1294257" y="74536"/>
                  </a:lnTo>
                  <a:lnTo>
                    <a:pt x="1294257" y="61937"/>
                  </a:lnTo>
                  <a:lnTo>
                    <a:pt x="1435404" y="61937"/>
                  </a:lnTo>
                  <a:lnTo>
                    <a:pt x="1435404" y="29527"/>
                  </a:lnTo>
                  <a:lnTo>
                    <a:pt x="1294257" y="29527"/>
                  </a:lnTo>
                  <a:lnTo>
                    <a:pt x="1294257" y="20535"/>
                  </a:lnTo>
                  <a:lnTo>
                    <a:pt x="1298219" y="19088"/>
                  </a:lnTo>
                  <a:lnTo>
                    <a:pt x="1302537" y="16929"/>
                  </a:lnTo>
                  <a:lnTo>
                    <a:pt x="1302537" y="10452"/>
                  </a:lnTo>
                  <a:lnTo>
                    <a:pt x="1298943" y="9372"/>
                  </a:lnTo>
                  <a:lnTo>
                    <a:pt x="1297139" y="9372"/>
                  </a:lnTo>
                  <a:lnTo>
                    <a:pt x="1249972" y="7200"/>
                  </a:lnTo>
                  <a:lnTo>
                    <a:pt x="1249972" y="29527"/>
                  </a:lnTo>
                  <a:lnTo>
                    <a:pt x="1108113" y="29527"/>
                  </a:lnTo>
                  <a:lnTo>
                    <a:pt x="1108113" y="61937"/>
                  </a:lnTo>
                  <a:lnTo>
                    <a:pt x="1249972" y="61937"/>
                  </a:lnTo>
                  <a:lnTo>
                    <a:pt x="1249972" y="74536"/>
                  </a:lnTo>
                  <a:lnTo>
                    <a:pt x="1249972" y="102984"/>
                  </a:lnTo>
                  <a:lnTo>
                    <a:pt x="1249972" y="118122"/>
                  </a:lnTo>
                  <a:lnTo>
                    <a:pt x="1198118" y="118122"/>
                  </a:lnTo>
                  <a:lnTo>
                    <a:pt x="1198118" y="102984"/>
                  </a:lnTo>
                  <a:lnTo>
                    <a:pt x="1249972" y="102984"/>
                  </a:lnTo>
                  <a:lnTo>
                    <a:pt x="1249972" y="74536"/>
                  </a:lnTo>
                  <a:lnTo>
                    <a:pt x="1156716" y="74536"/>
                  </a:lnTo>
                  <a:lnTo>
                    <a:pt x="1156716" y="147624"/>
                  </a:lnTo>
                  <a:lnTo>
                    <a:pt x="1249972" y="147624"/>
                  </a:lnTo>
                  <a:lnTo>
                    <a:pt x="1249972" y="160235"/>
                  </a:lnTo>
                  <a:lnTo>
                    <a:pt x="1132954" y="160235"/>
                  </a:lnTo>
                  <a:lnTo>
                    <a:pt x="1132954" y="189750"/>
                  </a:lnTo>
                  <a:lnTo>
                    <a:pt x="1249972" y="189750"/>
                  </a:lnTo>
                  <a:lnTo>
                    <a:pt x="1249972" y="203796"/>
                  </a:lnTo>
                  <a:lnTo>
                    <a:pt x="1107744" y="203796"/>
                  </a:lnTo>
                  <a:lnTo>
                    <a:pt x="1107744" y="233311"/>
                  </a:lnTo>
                  <a:lnTo>
                    <a:pt x="1249972" y="233311"/>
                  </a:lnTo>
                  <a:lnTo>
                    <a:pt x="1249972" y="248437"/>
                  </a:lnTo>
                  <a:lnTo>
                    <a:pt x="1132954" y="248437"/>
                  </a:lnTo>
                  <a:lnTo>
                    <a:pt x="1132954" y="280492"/>
                  </a:lnTo>
                  <a:lnTo>
                    <a:pt x="1249972" y="280492"/>
                  </a:lnTo>
                  <a:lnTo>
                    <a:pt x="1249972" y="299212"/>
                  </a:lnTo>
                  <a:lnTo>
                    <a:pt x="1243850" y="299935"/>
                  </a:lnTo>
                  <a:lnTo>
                    <a:pt x="1237729" y="299935"/>
                  </a:lnTo>
                  <a:lnTo>
                    <a:pt x="1229791" y="299694"/>
                  </a:lnTo>
                  <a:lnTo>
                    <a:pt x="1221790" y="299034"/>
                  </a:lnTo>
                  <a:lnTo>
                    <a:pt x="1213929" y="298119"/>
                  </a:lnTo>
                  <a:lnTo>
                    <a:pt x="1206411" y="297053"/>
                  </a:lnTo>
                  <a:lnTo>
                    <a:pt x="1211186" y="306273"/>
                  </a:lnTo>
                  <a:lnTo>
                    <a:pt x="1215224" y="316001"/>
                  </a:lnTo>
                  <a:lnTo>
                    <a:pt x="1218450" y="326072"/>
                  </a:lnTo>
                  <a:lnTo>
                    <a:pt x="1220812" y="336296"/>
                  </a:lnTo>
                  <a:lnTo>
                    <a:pt x="1230528" y="337019"/>
                  </a:lnTo>
                  <a:lnTo>
                    <a:pt x="1238453" y="337019"/>
                  </a:lnTo>
                  <a:lnTo>
                    <a:pt x="1265237" y="335521"/>
                  </a:lnTo>
                  <a:lnTo>
                    <a:pt x="1282407" y="330365"/>
                  </a:lnTo>
                  <a:lnTo>
                    <a:pt x="1291551" y="320624"/>
                  </a:lnTo>
                  <a:lnTo>
                    <a:pt x="1294257" y="305333"/>
                  </a:lnTo>
                  <a:lnTo>
                    <a:pt x="1294257" y="299935"/>
                  </a:lnTo>
                  <a:lnTo>
                    <a:pt x="1294257" y="280847"/>
                  </a:lnTo>
                  <a:lnTo>
                    <a:pt x="1368793" y="280847"/>
                  </a:lnTo>
                  <a:lnTo>
                    <a:pt x="1368793" y="293090"/>
                  </a:lnTo>
                  <a:lnTo>
                    <a:pt x="1413446" y="293090"/>
                  </a:lnTo>
                  <a:lnTo>
                    <a:pt x="1413446" y="280847"/>
                  </a:lnTo>
                  <a:lnTo>
                    <a:pt x="1413446" y="233311"/>
                  </a:lnTo>
                  <a:lnTo>
                    <a:pt x="1436484" y="233311"/>
                  </a:lnTo>
                  <a:lnTo>
                    <a:pt x="1436484" y="203796"/>
                  </a:lnTo>
                  <a:close/>
                </a:path>
                <a:path w="1819275" h="340359">
                  <a:moveTo>
                    <a:pt x="1818805" y="305333"/>
                  </a:moveTo>
                  <a:lnTo>
                    <a:pt x="1792617" y="295770"/>
                  </a:lnTo>
                  <a:lnTo>
                    <a:pt x="1770545" y="284365"/>
                  </a:lnTo>
                  <a:lnTo>
                    <a:pt x="1753882" y="273646"/>
                  </a:lnTo>
                  <a:lnTo>
                    <a:pt x="1743913" y="266077"/>
                  </a:lnTo>
                  <a:lnTo>
                    <a:pt x="1790725" y="266077"/>
                  </a:lnTo>
                  <a:lnTo>
                    <a:pt x="1790725" y="232956"/>
                  </a:lnTo>
                  <a:lnTo>
                    <a:pt x="1790725" y="80302"/>
                  </a:lnTo>
                  <a:lnTo>
                    <a:pt x="1746440" y="80302"/>
                  </a:lnTo>
                  <a:lnTo>
                    <a:pt x="1746440" y="112344"/>
                  </a:lnTo>
                  <a:lnTo>
                    <a:pt x="1746440" y="131787"/>
                  </a:lnTo>
                  <a:lnTo>
                    <a:pt x="1746427" y="162750"/>
                  </a:lnTo>
                  <a:lnTo>
                    <a:pt x="1746427" y="182549"/>
                  </a:lnTo>
                  <a:lnTo>
                    <a:pt x="1746427" y="213512"/>
                  </a:lnTo>
                  <a:lnTo>
                    <a:pt x="1746427" y="232956"/>
                  </a:lnTo>
                  <a:lnTo>
                    <a:pt x="1655686" y="232956"/>
                  </a:lnTo>
                  <a:lnTo>
                    <a:pt x="1655686" y="213512"/>
                  </a:lnTo>
                  <a:lnTo>
                    <a:pt x="1746427" y="213512"/>
                  </a:lnTo>
                  <a:lnTo>
                    <a:pt x="1746427" y="182549"/>
                  </a:lnTo>
                  <a:lnTo>
                    <a:pt x="1655686" y="182549"/>
                  </a:lnTo>
                  <a:lnTo>
                    <a:pt x="1655686" y="162750"/>
                  </a:lnTo>
                  <a:lnTo>
                    <a:pt x="1746427" y="162750"/>
                  </a:lnTo>
                  <a:lnTo>
                    <a:pt x="1746427" y="131787"/>
                  </a:lnTo>
                  <a:lnTo>
                    <a:pt x="1655699" y="131787"/>
                  </a:lnTo>
                  <a:lnTo>
                    <a:pt x="1655699" y="112344"/>
                  </a:lnTo>
                  <a:lnTo>
                    <a:pt x="1746440" y="112344"/>
                  </a:lnTo>
                  <a:lnTo>
                    <a:pt x="1746440" y="80302"/>
                  </a:lnTo>
                  <a:lnTo>
                    <a:pt x="1704301" y="80302"/>
                  </a:lnTo>
                  <a:lnTo>
                    <a:pt x="1707134" y="73812"/>
                  </a:lnTo>
                  <a:lnTo>
                    <a:pt x="1710461" y="65862"/>
                  </a:lnTo>
                  <a:lnTo>
                    <a:pt x="1713865" y="57569"/>
                  </a:lnTo>
                  <a:lnTo>
                    <a:pt x="1716900" y="50050"/>
                  </a:lnTo>
                  <a:lnTo>
                    <a:pt x="1805838" y="50050"/>
                  </a:lnTo>
                  <a:lnTo>
                    <a:pt x="1805838" y="14414"/>
                  </a:lnTo>
                  <a:lnTo>
                    <a:pt x="1597012" y="14414"/>
                  </a:lnTo>
                  <a:lnTo>
                    <a:pt x="1597012" y="36017"/>
                  </a:lnTo>
                  <a:lnTo>
                    <a:pt x="1476387" y="36017"/>
                  </a:lnTo>
                  <a:lnTo>
                    <a:pt x="1476387" y="75971"/>
                  </a:lnTo>
                  <a:lnTo>
                    <a:pt x="1512036" y="75971"/>
                  </a:lnTo>
                  <a:lnTo>
                    <a:pt x="1512036" y="216750"/>
                  </a:lnTo>
                  <a:lnTo>
                    <a:pt x="1496783" y="220764"/>
                  </a:lnTo>
                  <a:lnTo>
                    <a:pt x="1485607" y="223380"/>
                  </a:lnTo>
                  <a:lnTo>
                    <a:pt x="1476933" y="225120"/>
                  </a:lnTo>
                  <a:lnTo>
                    <a:pt x="1469186" y="226479"/>
                  </a:lnTo>
                  <a:lnTo>
                    <a:pt x="1479626" y="266446"/>
                  </a:lnTo>
                  <a:lnTo>
                    <a:pt x="1480705" y="270764"/>
                  </a:lnTo>
                  <a:lnTo>
                    <a:pt x="1482153" y="274726"/>
                  </a:lnTo>
                  <a:lnTo>
                    <a:pt x="1490789" y="274726"/>
                  </a:lnTo>
                  <a:lnTo>
                    <a:pt x="1491869" y="268236"/>
                  </a:lnTo>
                  <a:lnTo>
                    <a:pt x="1492237" y="264642"/>
                  </a:lnTo>
                  <a:lnTo>
                    <a:pt x="1567103" y="241973"/>
                  </a:lnTo>
                  <a:lnTo>
                    <a:pt x="1598803" y="231889"/>
                  </a:lnTo>
                  <a:lnTo>
                    <a:pt x="1599514" y="214782"/>
                  </a:lnTo>
                  <a:lnTo>
                    <a:pt x="1600377" y="204520"/>
                  </a:lnTo>
                  <a:lnTo>
                    <a:pt x="1600517" y="202996"/>
                  </a:lnTo>
                  <a:lnTo>
                    <a:pt x="1601635" y="195122"/>
                  </a:lnTo>
                  <a:lnTo>
                    <a:pt x="1602765" y="189750"/>
                  </a:lnTo>
                  <a:lnTo>
                    <a:pt x="1594891" y="192570"/>
                  </a:lnTo>
                  <a:lnTo>
                    <a:pt x="1586865" y="195249"/>
                  </a:lnTo>
                  <a:lnTo>
                    <a:pt x="1556677" y="204520"/>
                  </a:lnTo>
                  <a:lnTo>
                    <a:pt x="1556677" y="75971"/>
                  </a:lnTo>
                  <a:lnTo>
                    <a:pt x="1597367" y="75971"/>
                  </a:lnTo>
                  <a:lnTo>
                    <a:pt x="1597367" y="50050"/>
                  </a:lnTo>
                  <a:lnTo>
                    <a:pt x="1670100" y="50050"/>
                  </a:lnTo>
                  <a:lnTo>
                    <a:pt x="1667624" y="56553"/>
                  </a:lnTo>
                  <a:lnTo>
                    <a:pt x="1664881" y="63423"/>
                  </a:lnTo>
                  <a:lnTo>
                    <a:pt x="1661591" y="71170"/>
                  </a:lnTo>
                  <a:lnTo>
                    <a:pt x="1657489" y="80302"/>
                  </a:lnTo>
                  <a:lnTo>
                    <a:pt x="1611769" y="80302"/>
                  </a:lnTo>
                  <a:lnTo>
                    <a:pt x="1611769" y="266077"/>
                  </a:lnTo>
                  <a:lnTo>
                    <a:pt x="1648485" y="266077"/>
                  </a:lnTo>
                  <a:lnTo>
                    <a:pt x="1639570" y="274091"/>
                  </a:lnTo>
                  <a:lnTo>
                    <a:pt x="1623872" y="285851"/>
                  </a:lnTo>
                  <a:lnTo>
                    <a:pt x="1600949" y="299148"/>
                  </a:lnTo>
                  <a:lnTo>
                    <a:pt x="1570367" y="311810"/>
                  </a:lnTo>
                  <a:lnTo>
                    <a:pt x="1582140" y="318338"/>
                  </a:lnTo>
                  <a:lnTo>
                    <a:pt x="1591691" y="324561"/>
                  </a:lnTo>
                  <a:lnTo>
                    <a:pt x="1600034" y="331520"/>
                  </a:lnTo>
                  <a:lnTo>
                    <a:pt x="1608175" y="340258"/>
                  </a:lnTo>
                  <a:lnTo>
                    <a:pt x="1629219" y="328764"/>
                  </a:lnTo>
                  <a:lnTo>
                    <a:pt x="1649120" y="315201"/>
                  </a:lnTo>
                  <a:lnTo>
                    <a:pt x="1666189" y="301840"/>
                  </a:lnTo>
                  <a:lnTo>
                    <a:pt x="1678736" y="290931"/>
                  </a:lnTo>
                  <a:lnTo>
                    <a:pt x="1682699" y="292011"/>
                  </a:lnTo>
                  <a:lnTo>
                    <a:pt x="1688820" y="292011"/>
                  </a:lnTo>
                  <a:lnTo>
                    <a:pt x="1690255" y="290931"/>
                  </a:lnTo>
                  <a:lnTo>
                    <a:pt x="1690255" y="286245"/>
                  </a:lnTo>
                  <a:lnTo>
                    <a:pt x="1688109" y="284454"/>
                  </a:lnTo>
                  <a:lnTo>
                    <a:pt x="1685582" y="282651"/>
                  </a:lnTo>
                  <a:lnTo>
                    <a:pt x="1663255" y="266077"/>
                  </a:lnTo>
                  <a:lnTo>
                    <a:pt x="1734553" y="266077"/>
                  </a:lnTo>
                  <a:lnTo>
                    <a:pt x="1711147" y="287693"/>
                  </a:lnTo>
                  <a:lnTo>
                    <a:pt x="1727733" y="301434"/>
                  </a:lnTo>
                  <a:lnTo>
                    <a:pt x="1746656" y="314921"/>
                  </a:lnTo>
                  <a:lnTo>
                    <a:pt x="1767801" y="327139"/>
                  </a:lnTo>
                  <a:lnTo>
                    <a:pt x="1791081" y="337019"/>
                  </a:lnTo>
                  <a:lnTo>
                    <a:pt x="1796719" y="327621"/>
                  </a:lnTo>
                  <a:lnTo>
                    <a:pt x="1803311" y="319290"/>
                  </a:lnTo>
                  <a:lnTo>
                    <a:pt x="1810715" y="311912"/>
                  </a:lnTo>
                  <a:lnTo>
                    <a:pt x="1818805" y="305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object 68" descr=""/>
            <p:cNvPicPr/>
            <p:nvPr/>
          </p:nvPicPr>
          <p:blipFill>
            <a:blip r:embed="rId23"/>
            <a:stretch/>
          </p:blipFill>
          <p:spPr>
            <a:xfrm>
              <a:off x="3556080" y="3524040"/>
              <a:ext cx="77868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object 69" descr=""/>
            <p:cNvPicPr/>
            <p:nvPr/>
          </p:nvPicPr>
          <p:blipFill>
            <a:blip r:embed="rId24"/>
            <a:stretch/>
          </p:blipFill>
          <p:spPr>
            <a:xfrm>
              <a:off x="4865760" y="3790800"/>
              <a:ext cx="491400" cy="63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object 70"/>
            <p:cNvGrpSpPr/>
            <p:nvPr/>
          </p:nvGrpSpPr>
          <p:grpSpPr>
            <a:xfrm>
              <a:off x="3649680" y="4498920"/>
              <a:ext cx="591480" cy="282240"/>
              <a:chOff x="3649680" y="4498920"/>
              <a:chExt cx="591480" cy="282240"/>
            </a:xfrm>
          </p:grpSpPr>
          <p:sp>
            <p:nvSpPr>
              <p:cNvPr id="111" name="object 71"/>
              <p:cNvSpPr/>
              <p:nvPr/>
            </p:nvSpPr>
            <p:spPr>
              <a:xfrm>
                <a:off x="3649680" y="4498920"/>
                <a:ext cx="591480" cy="245520"/>
              </a:xfrm>
              <a:custGeom>
                <a:avLst/>
                <a:gdLst/>
                <a:ahLst/>
                <a:rect l="l" t="t" r="r" b="b"/>
                <a:pathLst>
                  <a:path w="588645" h="244475">
                    <a:moveTo>
                      <a:pt x="0" y="2044"/>
                    </a:moveTo>
                    <a:lnTo>
                      <a:pt x="0" y="244043"/>
                    </a:lnTo>
                    <a:lnTo>
                      <a:pt x="588429" y="244043"/>
                    </a:lnTo>
                    <a:lnTo>
                      <a:pt x="588429" y="0"/>
                    </a:lnTo>
                  </a:path>
                </a:pathLst>
              </a:custGeom>
              <a:noFill/>
              <a:ln w="3240">
                <a:solidFill>
                  <a:srgbClr val="005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bject 72"/>
              <p:cNvSpPr/>
              <p:nvPr/>
            </p:nvSpPr>
            <p:spPr>
              <a:xfrm>
                <a:off x="3808800" y="4700880"/>
                <a:ext cx="276840" cy="80280"/>
              </a:xfrm>
              <a:custGeom>
                <a:avLst/>
                <a:gdLst/>
                <a:ahLst/>
                <a:rect l="l" t="t" r="r" b="b"/>
                <a:pathLst>
                  <a:path w="275589" h="80010">
                    <a:moveTo>
                      <a:pt x="275145" y="0"/>
                    </a:moveTo>
                    <a:lnTo>
                      <a:pt x="0" y="0"/>
                    </a:lnTo>
                    <a:lnTo>
                      <a:pt x="0" y="79387"/>
                    </a:lnTo>
                    <a:lnTo>
                      <a:pt x="275145" y="79387"/>
                    </a:lnTo>
                    <a:lnTo>
                      <a:pt x="275145" y="0"/>
                    </a:lnTo>
                    <a:close/>
                  </a:path>
                </a:pathLst>
              </a:custGeom>
              <a:solidFill>
                <a:srgbClr val="e6e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bject 73"/>
              <p:cNvSpPr/>
              <p:nvPr/>
            </p:nvSpPr>
            <p:spPr>
              <a:xfrm>
                <a:off x="3832560" y="4707000"/>
                <a:ext cx="219960" cy="61200"/>
              </a:xfrm>
              <a:custGeom>
                <a:avLst/>
                <a:gdLst/>
                <a:ahLst/>
                <a:rect l="l" t="t" r="r" b="b"/>
                <a:pathLst>
                  <a:path w="219075" h="60960">
                    <a:moveTo>
                      <a:pt x="22110" y="1574"/>
                    </a:moveTo>
                    <a:lnTo>
                      <a:pt x="20688" y="0"/>
                    </a:lnTo>
                    <a:lnTo>
                      <a:pt x="15773" y="0"/>
                    </a:lnTo>
                    <a:lnTo>
                      <a:pt x="15278" y="1727"/>
                    </a:lnTo>
                    <a:lnTo>
                      <a:pt x="13462" y="6921"/>
                    </a:lnTo>
                    <a:lnTo>
                      <a:pt x="10947" y="10591"/>
                    </a:lnTo>
                    <a:lnTo>
                      <a:pt x="1206" y="12319"/>
                    </a:lnTo>
                    <a:lnTo>
                      <a:pt x="0" y="12611"/>
                    </a:lnTo>
                    <a:lnTo>
                      <a:pt x="0" y="17945"/>
                    </a:lnTo>
                    <a:lnTo>
                      <a:pt x="2082" y="18516"/>
                    </a:lnTo>
                    <a:lnTo>
                      <a:pt x="3009" y="18516"/>
                    </a:lnTo>
                    <a:lnTo>
                      <a:pt x="13462" y="18516"/>
                    </a:lnTo>
                    <a:lnTo>
                      <a:pt x="13462" y="59905"/>
                    </a:lnTo>
                    <a:lnTo>
                      <a:pt x="15341" y="60909"/>
                    </a:lnTo>
                    <a:lnTo>
                      <a:pt x="19672" y="60909"/>
                    </a:lnTo>
                    <a:lnTo>
                      <a:pt x="22110" y="60261"/>
                    </a:lnTo>
                    <a:lnTo>
                      <a:pt x="22110" y="1574"/>
                    </a:lnTo>
                    <a:close/>
                  </a:path>
                  <a:path w="219075" h="60960">
                    <a:moveTo>
                      <a:pt x="81038" y="4102"/>
                    </a:moveTo>
                    <a:lnTo>
                      <a:pt x="79883" y="1574"/>
                    </a:lnTo>
                    <a:lnTo>
                      <a:pt x="75488" y="1574"/>
                    </a:lnTo>
                    <a:lnTo>
                      <a:pt x="42532" y="1574"/>
                    </a:lnTo>
                    <a:lnTo>
                      <a:pt x="41821" y="3441"/>
                    </a:lnTo>
                    <a:lnTo>
                      <a:pt x="41821" y="5257"/>
                    </a:lnTo>
                    <a:lnTo>
                      <a:pt x="42037" y="8928"/>
                    </a:lnTo>
                    <a:lnTo>
                      <a:pt x="68630" y="8928"/>
                    </a:lnTo>
                    <a:lnTo>
                      <a:pt x="70078" y="9080"/>
                    </a:lnTo>
                    <a:lnTo>
                      <a:pt x="70078" y="10363"/>
                    </a:lnTo>
                    <a:lnTo>
                      <a:pt x="68783" y="12026"/>
                    </a:lnTo>
                    <a:lnTo>
                      <a:pt x="61429" y="23177"/>
                    </a:lnTo>
                    <a:lnTo>
                      <a:pt x="55448" y="35941"/>
                    </a:lnTo>
                    <a:lnTo>
                      <a:pt x="51435" y="48018"/>
                    </a:lnTo>
                    <a:lnTo>
                      <a:pt x="49961" y="57086"/>
                    </a:lnTo>
                    <a:lnTo>
                      <a:pt x="49961" y="60909"/>
                    </a:lnTo>
                    <a:lnTo>
                      <a:pt x="58547" y="60909"/>
                    </a:lnTo>
                    <a:lnTo>
                      <a:pt x="59347" y="52908"/>
                    </a:lnTo>
                    <a:lnTo>
                      <a:pt x="60198" y="49161"/>
                    </a:lnTo>
                    <a:lnTo>
                      <a:pt x="77343" y="12611"/>
                    </a:lnTo>
                    <a:lnTo>
                      <a:pt x="81038" y="8572"/>
                    </a:lnTo>
                    <a:lnTo>
                      <a:pt x="81038" y="4102"/>
                    </a:lnTo>
                    <a:close/>
                  </a:path>
                  <a:path w="219075" h="60960">
                    <a:moveTo>
                      <a:pt x="148297" y="20116"/>
                    </a:moveTo>
                    <a:lnTo>
                      <a:pt x="142316" y="15290"/>
                    </a:lnTo>
                    <a:lnTo>
                      <a:pt x="126606" y="15290"/>
                    </a:lnTo>
                    <a:lnTo>
                      <a:pt x="121996" y="22783"/>
                    </a:lnTo>
                    <a:lnTo>
                      <a:pt x="118313" y="15290"/>
                    </a:lnTo>
                    <a:lnTo>
                      <a:pt x="103543" y="15290"/>
                    </a:lnTo>
                    <a:lnTo>
                      <a:pt x="98983" y="22212"/>
                    </a:lnTo>
                    <a:lnTo>
                      <a:pt x="98983" y="16294"/>
                    </a:lnTo>
                    <a:lnTo>
                      <a:pt x="97193" y="15290"/>
                    </a:lnTo>
                    <a:lnTo>
                      <a:pt x="90551" y="15417"/>
                    </a:lnTo>
                    <a:lnTo>
                      <a:pt x="90551" y="59766"/>
                    </a:lnTo>
                    <a:lnTo>
                      <a:pt x="92214" y="60909"/>
                    </a:lnTo>
                    <a:lnTo>
                      <a:pt x="96685" y="60909"/>
                    </a:lnTo>
                    <a:lnTo>
                      <a:pt x="98983" y="60274"/>
                    </a:lnTo>
                    <a:lnTo>
                      <a:pt x="98983" y="33159"/>
                    </a:lnTo>
                    <a:lnTo>
                      <a:pt x="99491" y="22707"/>
                    </a:lnTo>
                    <a:lnTo>
                      <a:pt x="110820" y="22707"/>
                    </a:lnTo>
                    <a:lnTo>
                      <a:pt x="115214" y="23863"/>
                    </a:lnTo>
                    <a:lnTo>
                      <a:pt x="115214" y="59905"/>
                    </a:lnTo>
                    <a:lnTo>
                      <a:pt x="117081" y="60909"/>
                    </a:lnTo>
                    <a:lnTo>
                      <a:pt x="123647" y="60845"/>
                    </a:lnTo>
                    <a:lnTo>
                      <a:pt x="123647" y="28105"/>
                    </a:lnTo>
                    <a:lnTo>
                      <a:pt x="126746" y="22644"/>
                    </a:lnTo>
                    <a:lnTo>
                      <a:pt x="135115" y="22644"/>
                    </a:lnTo>
                    <a:lnTo>
                      <a:pt x="139865" y="23799"/>
                    </a:lnTo>
                    <a:lnTo>
                      <a:pt x="139865" y="59982"/>
                    </a:lnTo>
                    <a:lnTo>
                      <a:pt x="141668" y="60909"/>
                    </a:lnTo>
                    <a:lnTo>
                      <a:pt x="145770" y="60909"/>
                    </a:lnTo>
                    <a:lnTo>
                      <a:pt x="148297" y="60401"/>
                    </a:lnTo>
                    <a:lnTo>
                      <a:pt x="148297" y="56946"/>
                    </a:lnTo>
                    <a:lnTo>
                      <a:pt x="148297" y="20116"/>
                    </a:lnTo>
                    <a:close/>
                  </a:path>
                  <a:path w="219075" h="60960">
                    <a:moveTo>
                      <a:pt x="219011" y="20116"/>
                    </a:moveTo>
                    <a:lnTo>
                      <a:pt x="213029" y="15290"/>
                    </a:lnTo>
                    <a:lnTo>
                      <a:pt x="197319" y="15290"/>
                    </a:lnTo>
                    <a:lnTo>
                      <a:pt x="192709" y="22783"/>
                    </a:lnTo>
                    <a:lnTo>
                      <a:pt x="189026" y="15290"/>
                    </a:lnTo>
                    <a:lnTo>
                      <a:pt x="174256" y="15290"/>
                    </a:lnTo>
                    <a:lnTo>
                      <a:pt x="169697" y="22212"/>
                    </a:lnTo>
                    <a:lnTo>
                      <a:pt x="169697" y="16294"/>
                    </a:lnTo>
                    <a:lnTo>
                      <a:pt x="167906" y="15290"/>
                    </a:lnTo>
                    <a:lnTo>
                      <a:pt x="161264" y="15417"/>
                    </a:lnTo>
                    <a:lnTo>
                      <a:pt x="161264" y="59766"/>
                    </a:lnTo>
                    <a:lnTo>
                      <a:pt x="162928" y="60909"/>
                    </a:lnTo>
                    <a:lnTo>
                      <a:pt x="167398" y="60909"/>
                    </a:lnTo>
                    <a:lnTo>
                      <a:pt x="169697" y="60274"/>
                    </a:lnTo>
                    <a:lnTo>
                      <a:pt x="169697" y="33159"/>
                    </a:lnTo>
                    <a:lnTo>
                      <a:pt x="170205" y="22707"/>
                    </a:lnTo>
                    <a:lnTo>
                      <a:pt x="181533" y="22707"/>
                    </a:lnTo>
                    <a:lnTo>
                      <a:pt x="185928" y="23863"/>
                    </a:lnTo>
                    <a:lnTo>
                      <a:pt x="185928" y="59905"/>
                    </a:lnTo>
                    <a:lnTo>
                      <a:pt x="187794" y="60909"/>
                    </a:lnTo>
                    <a:lnTo>
                      <a:pt x="194360" y="60845"/>
                    </a:lnTo>
                    <a:lnTo>
                      <a:pt x="194360" y="28105"/>
                    </a:lnTo>
                    <a:lnTo>
                      <a:pt x="197459" y="22644"/>
                    </a:lnTo>
                    <a:lnTo>
                      <a:pt x="205828" y="22644"/>
                    </a:lnTo>
                    <a:lnTo>
                      <a:pt x="210578" y="23799"/>
                    </a:lnTo>
                    <a:lnTo>
                      <a:pt x="210578" y="59982"/>
                    </a:lnTo>
                    <a:lnTo>
                      <a:pt x="212382" y="60909"/>
                    </a:lnTo>
                    <a:lnTo>
                      <a:pt x="216484" y="60909"/>
                    </a:lnTo>
                    <a:lnTo>
                      <a:pt x="219011" y="60401"/>
                    </a:lnTo>
                    <a:lnTo>
                      <a:pt x="219011" y="56946"/>
                    </a:lnTo>
                    <a:lnTo>
                      <a:pt x="219011" y="20116"/>
                    </a:lnTo>
                    <a:close/>
                  </a:path>
                </a:pathLst>
              </a:custGeom>
              <a:solidFill>
                <a:srgbClr val="005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bject 74"/>
            <p:cNvGrpSpPr/>
            <p:nvPr/>
          </p:nvGrpSpPr>
          <p:grpSpPr>
            <a:xfrm>
              <a:off x="4919400" y="4336200"/>
              <a:ext cx="381960" cy="207360"/>
              <a:chOff x="4919400" y="4336200"/>
              <a:chExt cx="381960" cy="207360"/>
            </a:xfrm>
          </p:grpSpPr>
          <p:sp>
            <p:nvSpPr>
              <p:cNvPr id="115" name="object 75"/>
              <p:cNvSpPr/>
              <p:nvPr/>
            </p:nvSpPr>
            <p:spPr>
              <a:xfrm>
                <a:off x="4919400" y="4336200"/>
                <a:ext cx="381960" cy="169920"/>
              </a:xfrm>
              <a:custGeom>
                <a:avLst/>
                <a:gdLst/>
                <a:ahLst/>
                <a:rect l="l" t="t" r="r" b="b"/>
                <a:pathLst>
                  <a:path w="380364" h="169545">
                    <a:moveTo>
                      <a:pt x="0" y="1409"/>
                    </a:moveTo>
                    <a:lnTo>
                      <a:pt x="0" y="169329"/>
                    </a:lnTo>
                    <a:lnTo>
                      <a:pt x="380199" y="169329"/>
                    </a:lnTo>
                    <a:lnTo>
                      <a:pt x="380199" y="0"/>
                    </a:lnTo>
                  </a:path>
                </a:pathLst>
              </a:custGeom>
              <a:noFill/>
              <a:ln w="3240">
                <a:solidFill>
                  <a:srgbClr val="005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bject 76"/>
              <p:cNvSpPr/>
              <p:nvPr/>
            </p:nvSpPr>
            <p:spPr>
              <a:xfrm>
                <a:off x="4972680" y="4463640"/>
                <a:ext cx="276840" cy="79920"/>
              </a:xfrm>
              <a:custGeom>
                <a:avLst/>
                <a:gdLst/>
                <a:ahLst/>
                <a:rect l="l" t="t" r="r" b="b"/>
                <a:pathLst>
                  <a:path w="275589" h="80010">
                    <a:moveTo>
                      <a:pt x="275158" y="0"/>
                    </a:moveTo>
                    <a:lnTo>
                      <a:pt x="0" y="0"/>
                    </a:lnTo>
                    <a:lnTo>
                      <a:pt x="0" y="79387"/>
                    </a:lnTo>
                    <a:lnTo>
                      <a:pt x="275158" y="79387"/>
                    </a:lnTo>
                    <a:lnTo>
                      <a:pt x="275158" y="0"/>
                    </a:lnTo>
                    <a:close/>
                  </a:path>
                </a:pathLst>
              </a:custGeom>
              <a:solidFill>
                <a:srgbClr val="e6e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bject 77"/>
              <p:cNvSpPr/>
              <p:nvPr/>
            </p:nvSpPr>
            <p:spPr>
              <a:xfrm>
                <a:off x="5017320" y="4473000"/>
                <a:ext cx="187560" cy="52200"/>
              </a:xfrm>
              <a:custGeom>
                <a:avLst/>
                <a:gdLst/>
                <a:ahLst/>
                <a:rect l="l" t="t" r="r" b="b"/>
                <a:pathLst>
                  <a:path w="186689" h="52070">
                    <a:moveTo>
                      <a:pt x="18796" y="1346"/>
                    </a:moveTo>
                    <a:lnTo>
                      <a:pt x="17576" y="0"/>
                    </a:lnTo>
                    <a:lnTo>
                      <a:pt x="13411" y="0"/>
                    </a:lnTo>
                    <a:lnTo>
                      <a:pt x="12979" y="1473"/>
                    </a:lnTo>
                    <a:lnTo>
                      <a:pt x="11442" y="5880"/>
                    </a:lnTo>
                    <a:lnTo>
                      <a:pt x="9309" y="9004"/>
                    </a:lnTo>
                    <a:lnTo>
                      <a:pt x="0" y="10718"/>
                    </a:lnTo>
                    <a:lnTo>
                      <a:pt x="0" y="15252"/>
                    </a:lnTo>
                    <a:lnTo>
                      <a:pt x="1778" y="15735"/>
                    </a:lnTo>
                    <a:lnTo>
                      <a:pt x="2565" y="15735"/>
                    </a:lnTo>
                    <a:lnTo>
                      <a:pt x="11442" y="15735"/>
                    </a:lnTo>
                    <a:lnTo>
                      <a:pt x="11442" y="50901"/>
                    </a:lnTo>
                    <a:lnTo>
                      <a:pt x="13042" y="51752"/>
                    </a:lnTo>
                    <a:lnTo>
                      <a:pt x="16713" y="51752"/>
                    </a:lnTo>
                    <a:lnTo>
                      <a:pt x="18796" y="51193"/>
                    </a:lnTo>
                    <a:lnTo>
                      <a:pt x="18796" y="1346"/>
                    </a:lnTo>
                    <a:close/>
                  </a:path>
                  <a:path w="186689" h="52070">
                    <a:moveTo>
                      <a:pt x="57353" y="1346"/>
                    </a:moveTo>
                    <a:lnTo>
                      <a:pt x="56146" y="0"/>
                    </a:lnTo>
                    <a:lnTo>
                      <a:pt x="51981" y="0"/>
                    </a:lnTo>
                    <a:lnTo>
                      <a:pt x="50012" y="5880"/>
                    </a:lnTo>
                    <a:lnTo>
                      <a:pt x="47866" y="9004"/>
                    </a:lnTo>
                    <a:lnTo>
                      <a:pt x="38569" y="10718"/>
                    </a:lnTo>
                    <a:lnTo>
                      <a:pt x="38569" y="15252"/>
                    </a:lnTo>
                    <a:lnTo>
                      <a:pt x="40347" y="15735"/>
                    </a:lnTo>
                    <a:lnTo>
                      <a:pt x="41135" y="15735"/>
                    </a:lnTo>
                    <a:lnTo>
                      <a:pt x="50012" y="15735"/>
                    </a:lnTo>
                    <a:lnTo>
                      <a:pt x="50012" y="50901"/>
                    </a:lnTo>
                    <a:lnTo>
                      <a:pt x="51600" y="51752"/>
                    </a:lnTo>
                    <a:lnTo>
                      <a:pt x="55270" y="51752"/>
                    </a:lnTo>
                    <a:lnTo>
                      <a:pt x="57353" y="51193"/>
                    </a:lnTo>
                    <a:lnTo>
                      <a:pt x="57353" y="1346"/>
                    </a:lnTo>
                    <a:close/>
                  </a:path>
                  <a:path w="186689" h="52070">
                    <a:moveTo>
                      <a:pt x="126047" y="17081"/>
                    </a:moveTo>
                    <a:lnTo>
                      <a:pt x="120967" y="12979"/>
                    </a:lnTo>
                    <a:lnTo>
                      <a:pt x="107607" y="12979"/>
                    </a:lnTo>
                    <a:lnTo>
                      <a:pt x="103682" y="19354"/>
                    </a:lnTo>
                    <a:lnTo>
                      <a:pt x="100571" y="12979"/>
                    </a:lnTo>
                    <a:lnTo>
                      <a:pt x="88011" y="12979"/>
                    </a:lnTo>
                    <a:lnTo>
                      <a:pt x="84150" y="18859"/>
                    </a:lnTo>
                    <a:lnTo>
                      <a:pt x="84150" y="13830"/>
                    </a:lnTo>
                    <a:lnTo>
                      <a:pt x="82626" y="12979"/>
                    </a:lnTo>
                    <a:lnTo>
                      <a:pt x="77000" y="13106"/>
                    </a:lnTo>
                    <a:lnTo>
                      <a:pt x="77000" y="50761"/>
                    </a:lnTo>
                    <a:lnTo>
                      <a:pt x="78397" y="51752"/>
                    </a:lnTo>
                    <a:lnTo>
                      <a:pt x="82194" y="51752"/>
                    </a:lnTo>
                    <a:lnTo>
                      <a:pt x="84150" y="51193"/>
                    </a:lnTo>
                    <a:lnTo>
                      <a:pt x="84150" y="28168"/>
                    </a:lnTo>
                    <a:lnTo>
                      <a:pt x="84582" y="19291"/>
                    </a:lnTo>
                    <a:lnTo>
                      <a:pt x="94195" y="19291"/>
                    </a:lnTo>
                    <a:lnTo>
                      <a:pt x="97929" y="20269"/>
                    </a:lnTo>
                    <a:lnTo>
                      <a:pt x="97929" y="50888"/>
                    </a:lnTo>
                    <a:lnTo>
                      <a:pt x="99529" y="51752"/>
                    </a:lnTo>
                    <a:lnTo>
                      <a:pt x="105105" y="51689"/>
                    </a:lnTo>
                    <a:lnTo>
                      <a:pt x="105105" y="23876"/>
                    </a:lnTo>
                    <a:lnTo>
                      <a:pt x="107734" y="19227"/>
                    </a:lnTo>
                    <a:lnTo>
                      <a:pt x="114833" y="19227"/>
                    </a:lnTo>
                    <a:lnTo>
                      <a:pt x="118884" y="20205"/>
                    </a:lnTo>
                    <a:lnTo>
                      <a:pt x="118884" y="50939"/>
                    </a:lnTo>
                    <a:lnTo>
                      <a:pt x="120408" y="51752"/>
                    </a:lnTo>
                    <a:lnTo>
                      <a:pt x="123901" y="51752"/>
                    </a:lnTo>
                    <a:lnTo>
                      <a:pt x="126047" y="51308"/>
                    </a:lnTo>
                    <a:lnTo>
                      <a:pt x="126047" y="48374"/>
                    </a:lnTo>
                    <a:lnTo>
                      <a:pt x="126047" y="17081"/>
                    </a:lnTo>
                    <a:close/>
                  </a:path>
                  <a:path w="186689" h="52070">
                    <a:moveTo>
                      <a:pt x="186143" y="17081"/>
                    </a:moveTo>
                    <a:lnTo>
                      <a:pt x="181063" y="12979"/>
                    </a:lnTo>
                    <a:lnTo>
                      <a:pt x="167716" y="12979"/>
                    </a:lnTo>
                    <a:lnTo>
                      <a:pt x="163791" y="19354"/>
                    </a:lnTo>
                    <a:lnTo>
                      <a:pt x="160667" y="12979"/>
                    </a:lnTo>
                    <a:lnTo>
                      <a:pt x="148120" y="12979"/>
                    </a:lnTo>
                    <a:lnTo>
                      <a:pt x="144259" y="18859"/>
                    </a:lnTo>
                    <a:lnTo>
                      <a:pt x="144259" y="13830"/>
                    </a:lnTo>
                    <a:lnTo>
                      <a:pt x="142722" y="12979"/>
                    </a:lnTo>
                    <a:lnTo>
                      <a:pt x="137096" y="13106"/>
                    </a:lnTo>
                    <a:lnTo>
                      <a:pt x="137096" y="50761"/>
                    </a:lnTo>
                    <a:lnTo>
                      <a:pt x="138506" y="51752"/>
                    </a:lnTo>
                    <a:lnTo>
                      <a:pt x="142303" y="51752"/>
                    </a:lnTo>
                    <a:lnTo>
                      <a:pt x="144259" y="51193"/>
                    </a:lnTo>
                    <a:lnTo>
                      <a:pt x="144259" y="28168"/>
                    </a:lnTo>
                    <a:lnTo>
                      <a:pt x="144678" y="19291"/>
                    </a:lnTo>
                    <a:lnTo>
                      <a:pt x="154305" y="19291"/>
                    </a:lnTo>
                    <a:lnTo>
                      <a:pt x="158038" y="20269"/>
                    </a:lnTo>
                    <a:lnTo>
                      <a:pt x="158038" y="50888"/>
                    </a:lnTo>
                    <a:lnTo>
                      <a:pt x="159626" y="51752"/>
                    </a:lnTo>
                    <a:lnTo>
                      <a:pt x="165201" y="51689"/>
                    </a:lnTo>
                    <a:lnTo>
                      <a:pt x="165201" y="23876"/>
                    </a:lnTo>
                    <a:lnTo>
                      <a:pt x="167843" y="19227"/>
                    </a:lnTo>
                    <a:lnTo>
                      <a:pt x="174942" y="19227"/>
                    </a:lnTo>
                    <a:lnTo>
                      <a:pt x="178981" y="20205"/>
                    </a:lnTo>
                    <a:lnTo>
                      <a:pt x="178981" y="50939"/>
                    </a:lnTo>
                    <a:lnTo>
                      <a:pt x="180517" y="51752"/>
                    </a:lnTo>
                    <a:lnTo>
                      <a:pt x="183997" y="51752"/>
                    </a:lnTo>
                    <a:lnTo>
                      <a:pt x="186143" y="51308"/>
                    </a:lnTo>
                    <a:lnTo>
                      <a:pt x="186143" y="48374"/>
                    </a:lnTo>
                    <a:lnTo>
                      <a:pt x="186143" y="17081"/>
                    </a:lnTo>
                    <a:close/>
                  </a:path>
                </a:pathLst>
              </a:custGeom>
              <a:solidFill>
                <a:srgbClr val="005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8" name="object 78" descr=""/>
            <p:cNvPicPr/>
            <p:nvPr/>
          </p:nvPicPr>
          <p:blipFill>
            <a:blip r:embed="rId25"/>
            <a:stretch/>
          </p:blipFill>
          <p:spPr>
            <a:xfrm>
              <a:off x="78840" y="1448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object 79"/>
            <p:cNvGrpSpPr/>
            <p:nvPr/>
          </p:nvGrpSpPr>
          <p:grpSpPr>
            <a:xfrm>
              <a:off x="327600" y="1423440"/>
              <a:ext cx="4386240" cy="196200"/>
              <a:chOff x="327600" y="1423440"/>
              <a:chExt cx="4386240" cy="196200"/>
            </a:xfrm>
          </p:grpSpPr>
          <p:pic>
            <p:nvPicPr>
              <p:cNvPr id="120" name="object 80" descr=""/>
              <p:cNvPicPr/>
              <p:nvPr/>
            </p:nvPicPr>
            <p:blipFill>
              <a:blip r:embed="rId26"/>
              <a:stretch/>
            </p:blipFill>
            <p:spPr>
              <a:xfrm>
                <a:off x="327600" y="1423440"/>
                <a:ext cx="3306960" cy="19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object 81"/>
              <p:cNvSpPr/>
              <p:nvPr/>
            </p:nvSpPr>
            <p:spPr>
              <a:xfrm>
                <a:off x="3657240" y="1431000"/>
                <a:ext cx="566280" cy="180000"/>
              </a:xfrm>
              <a:custGeom>
                <a:avLst/>
                <a:gdLst/>
                <a:ahLst/>
                <a:rect l="l" t="t" r="r" b="b"/>
                <a:pathLst>
                  <a:path w="566420" h="179705">
                    <a:moveTo>
                      <a:pt x="162737" y="3594"/>
                    </a:moveTo>
                    <a:lnTo>
                      <a:pt x="15798" y="3594"/>
                    </a:lnTo>
                    <a:lnTo>
                      <a:pt x="15798" y="17564"/>
                    </a:lnTo>
                    <a:lnTo>
                      <a:pt x="15798" y="30264"/>
                    </a:lnTo>
                    <a:lnTo>
                      <a:pt x="15798" y="45504"/>
                    </a:lnTo>
                    <a:lnTo>
                      <a:pt x="162737" y="45504"/>
                    </a:lnTo>
                    <a:lnTo>
                      <a:pt x="162737" y="30378"/>
                    </a:lnTo>
                    <a:lnTo>
                      <a:pt x="162737" y="17856"/>
                    </a:lnTo>
                    <a:lnTo>
                      <a:pt x="139750" y="17856"/>
                    </a:lnTo>
                    <a:lnTo>
                      <a:pt x="139750" y="30264"/>
                    </a:lnTo>
                    <a:lnTo>
                      <a:pt x="119227" y="30264"/>
                    </a:lnTo>
                    <a:lnTo>
                      <a:pt x="119227" y="17856"/>
                    </a:lnTo>
                    <a:lnTo>
                      <a:pt x="99110" y="17856"/>
                    </a:lnTo>
                    <a:lnTo>
                      <a:pt x="99110" y="30264"/>
                    </a:lnTo>
                    <a:lnTo>
                      <a:pt x="78994" y="30264"/>
                    </a:lnTo>
                    <a:lnTo>
                      <a:pt x="78994" y="17856"/>
                    </a:lnTo>
                    <a:lnTo>
                      <a:pt x="58686" y="17856"/>
                    </a:lnTo>
                    <a:lnTo>
                      <a:pt x="58686" y="30264"/>
                    </a:lnTo>
                    <a:lnTo>
                      <a:pt x="38785" y="30264"/>
                    </a:lnTo>
                    <a:lnTo>
                      <a:pt x="38785" y="17564"/>
                    </a:lnTo>
                    <a:lnTo>
                      <a:pt x="162737" y="17564"/>
                    </a:lnTo>
                    <a:lnTo>
                      <a:pt x="162737" y="3594"/>
                    </a:lnTo>
                    <a:close/>
                  </a:path>
                  <a:path w="566420" h="179705">
                    <a:moveTo>
                      <a:pt x="175463" y="52946"/>
                    </a:moveTo>
                    <a:lnTo>
                      <a:pt x="105689" y="52946"/>
                    </a:lnTo>
                    <a:lnTo>
                      <a:pt x="105689" y="45770"/>
                    </a:lnTo>
                    <a:lnTo>
                      <a:pt x="82080" y="45770"/>
                    </a:lnTo>
                    <a:lnTo>
                      <a:pt x="82080" y="52946"/>
                    </a:lnTo>
                    <a:lnTo>
                      <a:pt x="0" y="52946"/>
                    </a:lnTo>
                    <a:lnTo>
                      <a:pt x="0" y="68961"/>
                    </a:lnTo>
                    <a:lnTo>
                      <a:pt x="82080" y="68961"/>
                    </a:lnTo>
                    <a:lnTo>
                      <a:pt x="82080" y="74714"/>
                    </a:lnTo>
                    <a:lnTo>
                      <a:pt x="43916" y="74714"/>
                    </a:lnTo>
                    <a:lnTo>
                      <a:pt x="43916" y="88684"/>
                    </a:lnTo>
                    <a:lnTo>
                      <a:pt x="43916" y="147104"/>
                    </a:lnTo>
                    <a:lnTo>
                      <a:pt x="155155" y="147104"/>
                    </a:lnTo>
                    <a:lnTo>
                      <a:pt x="155155" y="134835"/>
                    </a:lnTo>
                    <a:lnTo>
                      <a:pt x="155155" y="134404"/>
                    </a:lnTo>
                    <a:lnTo>
                      <a:pt x="155155" y="126834"/>
                    </a:lnTo>
                    <a:lnTo>
                      <a:pt x="131953" y="126834"/>
                    </a:lnTo>
                    <a:lnTo>
                      <a:pt x="131953" y="134404"/>
                    </a:lnTo>
                    <a:lnTo>
                      <a:pt x="66687" y="134404"/>
                    </a:lnTo>
                    <a:lnTo>
                      <a:pt x="66687" y="126784"/>
                    </a:lnTo>
                    <a:lnTo>
                      <a:pt x="155155" y="126784"/>
                    </a:lnTo>
                    <a:lnTo>
                      <a:pt x="155155" y="115354"/>
                    </a:lnTo>
                    <a:lnTo>
                      <a:pt x="66687" y="115354"/>
                    </a:lnTo>
                    <a:lnTo>
                      <a:pt x="66687" y="107734"/>
                    </a:lnTo>
                    <a:lnTo>
                      <a:pt x="131953" y="107734"/>
                    </a:lnTo>
                    <a:lnTo>
                      <a:pt x="131953" y="114922"/>
                    </a:lnTo>
                    <a:lnTo>
                      <a:pt x="155155" y="114922"/>
                    </a:lnTo>
                    <a:lnTo>
                      <a:pt x="155155" y="74714"/>
                    </a:lnTo>
                    <a:lnTo>
                      <a:pt x="131953" y="74714"/>
                    </a:lnTo>
                    <a:lnTo>
                      <a:pt x="131953" y="88684"/>
                    </a:lnTo>
                    <a:lnTo>
                      <a:pt x="131953" y="95034"/>
                    </a:lnTo>
                    <a:lnTo>
                      <a:pt x="66687" y="95034"/>
                    </a:lnTo>
                    <a:lnTo>
                      <a:pt x="66687" y="88684"/>
                    </a:lnTo>
                    <a:lnTo>
                      <a:pt x="131953" y="88684"/>
                    </a:lnTo>
                    <a:lnTo>
                      <a:pt x="131953" y="74714"/>
                    </a:lnTo>
                    <a:lnTo>
                      <a:pt x="105689" y="74714"/>
                    </a:lnTo>
                    <a:lnTo>
                      <a:pt x="105689" y="68961"/>
                    </a:lnTo>
                    <a:lnTo>
                      <a:pt x="175463" y="68961"/>
                    </a:lnTo>
                    <a:lnTo>
                      <a:pt x="175463" y="52946"/>
                    </a:lnTo>
                    <a:close/>
                  </a:path>
                  <a:path w="566420" h="179705">
                    <a:moveTo>
                      <a:pt x="176072" y="153454"/>
                    </a:moveTo>
                    <a:lnTo>
                      <a:pt x="32004" y="153454"/>
                    </a:lnTo>
                    <a:lnTo>
                      <a:pt x="32004" y="87414"/>
                    </a:lnTo>
                    <a:lnTo>
                      <a:pt x="32512" y="87414"/>
                    </a:lnTo>
                    <a:lnTo>
                      <a:pt x="32512" y="86144"/>
                    </a:lnTo>
                    <a:lnTo>
                      <a:pt x="34124" y="86144"/>
                    </a:lnTo>
                    <a:lnTo>
                      <a:pt x="34124" y="84874"/>
                    </a:lnTo>
                    <a:lnTo>
                      <a:pt x="35496" y="84874"/>
                    </a:lnTo>
                    <a:lnTo>
                      <a:pt x="35496" y="81064"/>
                    </a:lnTo>
                    <a:lnTo>
                      <a:pt x="9232" y="81064"/>
                    </a:lnTo>
                    <a:lnTo>
                      <a:pt x="9232" y="84874"/>
                    </a:lnTo>
                    <a:lnTo>
                      <a:pt x="9232" y="86144"/>
                    </a:lnTo>
                    <a:lnTo>
                      <a:pt x="9232" y="87414"/>
                    </a:lnTo>
                    <a:lnTo>
                      <a:pt x="9232" y="153454"/>
                    </a:lnTo>
                    <a:lnTo>
                      <a:pt x="9232" y="172504"/>
                    </a:lnTo>
                    <a:lnTo>
                      <a:pt x="9232" y="178854"/>
                    </a:lnTo>
                    <a:lnTo>
                      <a:pt x="32004" y="178854"/>
                    </a:lnTo>
                    <a:lnTo>
                      <a:pt x="32004" y="172504"/>
                    </a:lnTo>
                    <a:lnTo>
                      <a:pt x="176072" y="172504"/>
                    </a:lnTo>
                    <a:lnTo>
                      <a:pt x="176072" y="153454"/>
                    </a:lnTo>
                    <a:close/>
                  </a:path>
                  <a:path w="566420" h="179705">
                    <a:moveTo>
                      <a:pt x="372249" y="127863"/>
                    </a:moveTo>
                    <a:lnTo>
                      <a:pt x="353758" y="113728"/>
                    </a:lnTo>
                    <a:lnTo>
                      <a:pt x="335127" y="96456"/>
                    </a:lnTo>
                    <a:lnTo>
                      <a:pt x="314375" y="74587"/>
                    </a:lnTo>
                    <a:lnTo>
                      <a:pt x="283019" y="39217"/>
                    </a:lnTo>
                    <a:lnTo>
                      <a:pt x="277558" y="34175"/>
                    </a:lnTo>
                    <a:lnTo>
                      <a:pt x="272135" y="31305"/>
                    </a:lnTo>
                    <a:lnTo>
                      <a:pt x="265734" y="30378"/>
                    </a:lnTo>
                    <a:lnTo>
                      <a:pt x="257797" y="32016"/>
                    </a:lnTo>
                    <a:lnTo>
                      <a:pt x="251523" y="35928"/>
                    </a:lnTo>
                    <a:lnTo>
                      <a:pt x="246862" y="40601"/>
                    </a:lnTo>
                    <a:lnTo>
                      <a:pt x="229933" y="63093"/>
                    </a:lnTo>
                    <a:lnTo>
                      <a:pt x="217690" y="78740"/>
                    </a:lnTo>
                    <a:lnTo>
                      <a:pt x="205714" y="92417"/>
                    </a:lnTo>
                    <a:lnTo>
                      <a:pt x="192671" y="105079"/>
                    </a:lnTo>
                    <a:lnTo>
                      <a:pt x="215658" y="119862"/>
                    </a:lnTo>
                    <a:lnTo>
                      <a:pt x="225513" y="108191"/>
                    </a:lnTo>
                    <a:lnTo>
                      <a:pt x="237109" y="93408"/>
                    </a:lnTo>
                    <a:lnTo>
                      <a:pt x="247929" y="79133"/>
                    </a:lnTo>
                    <a:lnTo>
                      <a:pt x="261632" y="60553"/>
                    </a:lnTo>
                    <a:lnTo>
                      <a:pt x="272516" y="60553"/>
                    </a:lnTo>
                    <a:lnTo>
                      <a:pt x="298348" y="92964"/>
                    </a:lnTo>
                    <a:lnTo>
                      <a:pt x="315683" y="113055"/>
                    </a:lnTo>
                    <a:lnTo>
                      <a:pt x="334073" y="132194"/>
                    </a:lnTo>
                    <a:lnTo>
                      <a:pt x="353771" y="150025"/>
                    </a:lnTo>
                    <a:lnTo>
                      <a:pt x="372249" y="127863"/>
                    </a:lnTo>
                    <a:close/>
                  </a:path>
                  <a:path w="566420" h="179705">
                    <a:moveTo>
                      <a:pt x="461505" y="6565"/>
                    </a:moveTo>
                    <a:lnTo>
                      <a:pt x="440994" y="6565"/>
                    </a:lnTo>
                    <a:lnTo>
                      <a:pt x="440994" y="26073"/>
                    </a:lnTo>
                    <a:lnTo>
                      <a:pt x="440994" y="41465"/>
                    </a:lnTo>
                    <a:lnTo>
                      <a:pt x="440994" y="60744"/>
                    </a:lnTo>
                    <a:lnTo>
                      <a:pt x="440994" y="76949"/>
                    </a:lnTo>
                    <a:lnTo>
                      <a:pt x="440994" y="95427"/>
                    </a:lnTo>
                    <a:lnTo>
                      <a:pt x="440994" y="112458"/>
                    </a:lnTo>
                    <a:lnTo>
                      <a:pt x="414921" y="112458"/>
                    </a:lnTo>
                    <a:lnTo>
                      <a:pt x="414921" y="95427"/>
                    </a:lnTo>
                    <a:lnTo>
                      <a:pt x="440994" y="95427"/>
                    </a:lnTo>
                    <a:lnTo>
                      <a:pt x="440994" y="76949"/>
                    </a:lnTo>
                    <a:lnTo>
                      <a:pt x="414921" y="76949"/>
                    </a:lnTo>
                    <a:lnTo>
                      <a:pt x="414921" y="60744"/>
                    </a:lnTo>
                    <a:lnTo>
                      <a:pt x="440994" y="60744"/>
                    </a:lnTo>
                    <a:lnTo>
                      <a:pt x="440994" y="41465"/>
                    </a:lnTo>
                    <a:lnTo>
                      <a:pt x="414921" y="41465"/>
                    </a:lnTo>
                    <a:lnTo>
                      <a:pt x="414921" y="26073"/>
                    </a:lnTo>
                    <a:lnTo>
                      <a:pt x="440994" y="26073"/>
                    </a:lnTo>
                    <a:lnTo>
                      <a:pt x="440994" y="6565"/>
                    </a:lnTo>
                    <a:lnTo>
                      <a:pt x="393573" y="6565"/>
                    </a:lnTo>
                    <a:lnTo>
                      <a:pt x="393573" y="130721"/>
                    </a:lnTo>
                    <a:lnTo>
                      <a:pt x="461505" y="130721"/>
                    </a:lnTo>
                    <a:lnTo>
                      <a:pt x="461505" y="112458"/>
                    </a:lnTo>
                    <a:lnTo>
                      <a:pt x="461505" y="95427"/>
                    </a:lnTo>
                    <a:lnTo>
                      <a:pt x="461505" y="76949"/>
                    </a:lnTo>
                    <a:lnTo>
                      <a:pt x="461505" y="60744"/>
                    </a:lnTo>
                    <a:lnTo>
                      <a:pt x="461505" y="41465"/>
                    </a:lnTo>
                    <a:lnTo>
                      <a:pt x="461505" y="26073"/>
                    </a:lnTo>
                    <a:lnTo>
                      <a:pt x="461505" y="6565"/>
                    </a:lnTo>
                    <a:close/>
                  </a:path>
                  <a:path w="566420" h="179705">
                    <a:moveTo>
                      <a:pt x="464172" y="163766"/>
                    </a:moveTo>
                    <a:lnTo>
                      <a:pt x="459714" y="158051"/>
                    </a:lnTo>
                    <a:lnTo>
                      <a:pt x="454494" y="150418"/>
                    </a:lnTo>
                    <a:lnTo>
                      <a:pt x="451396" y="145097"/>
                    </a:lnTo>
                    <a:lnTo>
                      <a:pt x="449351" y="141605"/>
                    </a:lnTo>
                    <a:lnTo>
                      <a:pt x="449148" y="141198"/>
                    </a:lnTo>
                    <a:lnTo>
                      <a:pt x="444677" y="131546"/>
                    </a:lnTo>
                    <a:lnTo>
                      <a:pt x="426415" y="141605"/>
                    </a:lnTo>
                    <a:lnTo>
                      <a:pt x="425602" y="141198"/>
                    </a:lnTo>
                    <a:lnTo>
                      <a:pt x="424980" y="140779"/>
                    </a:lnTo>
                    <a:lnTo>
                      <a:pt x="405269" y="130937"/>
                    </a:lnTo>
                    <a:lnTo>
                      <a:pt x="401485" y="140017"/>
                    </a:lnTo>
                    <a:lnTo>
                      <a:pt x="396392" y="149771"/>
                    </a:lnTo>
                    <a:lnTo>
                      <a:pt x="390144" y="159448"/>
                    </a:lnTo>
                    <a:lnTo>
                      <a:pt x="382905" y="168287"/>
                    </a:lnTo>
                    <a:lnTo>
                      <a:pt x="404037" y="179158"/>
                    </a:lnTo>
                    <a:lnTo>
                      <a:pt x="409981" y="171577"/>
                    </a:lnTo>
                    <a:lnTo>
                      <a:pt x="415036" y="163372"/>
                    </a:lnTo>
                    <a:lnTo>
                      <a:pt x="419354" y="154698"/>
                    </a:lnTo>
                    <a:lnTo>
                      <a:pt x="423125" y="145707"/>
                    </a:lnTo>
                    <a:lnTo>
                      <a:pt x="426212" y="145707"/>
                    </a:lnTo>
                    <a:lnTo>
                      <a:pt x="427240" y="145097"/>
                    </a:lnTo>
                    <a:lnTo>
                      <a:pt x="429628" y="150431"/>
                    </a:lnTo>
                    <a:lnTo>
                      <a:pt x="434022" y="158673"/>
                    </a:lnTo>
                    <a:lnTo>
                      <a:pt x="439547" y="167589"/>
                    </a:lnTo>
                    <a:lnTo>
                      <a:pt x="445287" y="174853"/>
                    </a:lnTo>
                    <a:lnTo>
                      <a:pt x="464172" y="163766"/>
                    </a:lnTo>
                    <a:close/>
                  </a:path>
                  <a:path w="566420" h="179705">
                    <a:moveTo>
                      <a:pt x="566166" y="34074"/>
                    </a:moveTo>
                    <a:lnTo>
                      <a:pt x="520407" y="34074"/>
                    </a:lnTo>
                    <a:lnTo>
                      <a:pt x="520407" y="10261"/>
                    </a:lnTo>
                    <a:lnTo>
                      <a:pt x="523684" y="7810"/>
                    </a:lnTo>
                    <a:lnTo>
                      <a:pt x="524510" y="7391"/>
                    </a:lnTo>
                    <a:lnTo>
                      <a:pt x="525322" y="6769"/>
                    </a:lnTo>
                    <a:lnTo>
                      <a:pt x="526148" y="5956"/>
                    </a:lnTo>
                    <a:lnTo>
                      <a:pt x="526148" y="2260"/>
                    </a:lnTo>
                    <a:lnTo>
                      <a:pt x="522046" y="1854"/>
                    </a:lnTo>
                    <a:lnTo>
                      <a:pt x="520814" y="1854"/>
                    </a:lnTo>
                    <a:lnTo>
                      <a:pt x="495363" y="0"/>
                    </a:lnTo>
                    <a:lnTo>
                      <a:pt x="495363" y="89065"/>
                    </a:lnTo>
                    <a:lnTo>
                      <a:pt x="469519" y="89065"/>
                    </a:lnTo>
                    <a:lnTo>
                      <a:pt x="469519" y="179362"/>
                    </a:lnTo>
                    <a:lnTo>
                      <a:pt x="492290" y="179362"/>
                    </a:lnTo>
                    <a:lnTo>
                      <a:pt x="492290" y="170129"/>
                    </a:lnTo>
                    <a:lnTo>
                      <a:pt x="534758" y="170129"/>
                    </a:lnTo>
                    <a:lnTo>
                      <a:pt x="534758" y="178955"/>
                    </a:lnTo>
                    <a:lnTo>
                      <a:pt x="558165" y="178955"/>
                    </a:lnTo>
                    <a:lnTo>
                      <a:pt x="558165" y="170129"/>
                    </a:lnTo>
                    <a:lnTo>
                      <a:pt x="558165" y="146939"/>
                    </a:lnTo>
                    <a:lnTo>
                      <a:pt x="558165" y="111429"/>
                    </a:lnTo>
                    <a:lnTo>
                      <a:pt x="558165" y="89065"/>
                    </a:lnTo>
                    <a:lnTo>
                      <a:pt x="534758" y="89065"/>
                    </a:lnTo>
                    <a:lnTo>
                      <a:pt x="534758" y="111429"/>
                    </a:lnTo>
                    <a:lnTo>
                      <a:pt x="534758" y="146939"/>
                    </a:lnTo>
                    <a:lnTo>
                      <a:pt x="492277" y="146939"/>
                    </a:lnTo>
                    <a:lnTo>
                      <a:pt x="492277" y="111429"/>
                    </a:lnTo>
                    <a:lnTo>
                      <a:pt x="534758" y="111429"/>
                    </a:lnTo>
                    <a:lnTo>
                      <a:pt x="534758" y="89065"/>
                    </a:lnTo>
                    <a:lnTo>
                      <a:pt x="520407" y="89065"/>
                    </a:lnTo>
                    <a:lnTo>
                      <a:pt x="520407" y="56235"/>
                    </a:lnTo>
                    <a:lnTo>
                      <a:pt x="566166" y="56235"/>
                    </a:lnTo>
                    <a:lnTo>
                      <a:pt x="566166" y="34074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" name="object 82" descr=""/>
              <p:cNvPicPr/>
              <p:nvPr/>
            </p:nvPicPr>
            <p:blipFill>
              <a:blip r:embed="rId27"/>
              <a:stretch/>
            </p:blipFill>
            <p:spPr>
              <a:xfrm>
                <a:off x="4251600" y="1440360"/>
                <a:ext cx="11520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83" descr=""/>
              <p:cNvPicPr/>
              <p:nvPr/>
            </p:nvPicPr>
            <p:blipFill>
              <a:blip r:embed="rId28"/>
              <a:stretch/>
            </p:blipFill>
            <p:spPr>
              <a:xfrm>
                <a:off x="4395600" y="1448280"/>
                <a:ext cx="1299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84" descr=""/>
              <p:cNvPicPr/>
              <p:nvPr/>
            </p:nvPicPr>
            <p:blipFill>
              <a:blip r:embed="rId29"/>
              <a:stretch/>
            </p:blipFill>
            <p:spPr>
              <a:xfrm>
                <a:off x="4547880" y="1440000"/>
                <a:ext cx="165960" cy="164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" name="object 85"/>
            <p:cNvGrpSpPr/>
            <p:nvPr/>
          </p:nvGrpSpPr>
          <p:grpSpPr>
            <a:xfrm>
              <a:off x="4766040" y="1423440"/>
              <a:ext cx="526320" cy="196200"/>
              <a:chOff x="4766040" y="1423440"/>
              <a:chExt cx="526320" cy="196200"/>
            </a:xfrm>
          </p:grpSpPr>
          <p:sp>
            <p:nvSpPr>
              <p:cNvPr id="126" name="object 86"/>
              <p:cNvSpPr/>
              <p:nvPr/>
            </p:nvSpPr>
            <p:spPr>
              <a:xfrm>
                <a:off x="4766040" y="1423440"/>
                <a:ext cx="53640" cy="196200"/>
              </a:xfrm>
              <a:custGeom>
                <a:avLst/>
                <a:gdLst/>
                <a:ahLst/>
                <a:rect l="l" t="t" r="r" b="b"/>
                <a:pathLst>
                  <a:path w="53975" h="196215">
                    <a:moveTo>
                      <a:pt x="37769" y="0"/>
                    </a:moveTo>
                    <a:lnTo>
                      <a:pt x="26762" y="14112"/>
                    </a:lnTo>
                    <a:lnTo>
                      <a:pt x="14346" y="34883"/>
                    </a:lnTo>
                    <a:lnTo>
                      <a:pt x="4199" y="62736"/>
                    </a:lnTo>
                    <a:lnTo>
                      <a:pt x="0" y="98094"/>
                    </a:lnTo>
                    <a:lnTo>
                      <a:pt x="4199" y="133331"/>
                    </a:lnTo>
                    <a:lnTo>
                      <a:pt x="14346" y="161143"/>
                    </a:lnTo>
                    <a:lnTo>
                      <a:pt x="26762" y="181955"/>
                    </a:lnTo>
                    <a:lnTo>
                      <a:pt x="37769" y="196189"/>
                    </a:lnTo>
                    <a:lnTo>
                      <a:pt x="53378" y="182435"/>
                    </a:lnTo>
                    <a:lnTo>
                      <a:pt x="43953" y="170123"/>
                    </a:lnTo>
                    <a:lnTo>
                      <a:pt x="33434" y="152271"/>
                    </a:lnTo>
                    <a:lnTo>
                      <a:pt x="24879" y="128416"/>
                    </a:lnTo>
                    <a:lnTo>
                      <a:pt x="21348" y="98094"/>
                    </a:lnTo>
                    <a:lnTo>
                      <a:pt x="24879" y="67859"/>
                    </a:lnTo>
                    <a:lnTo>
                      <a:pt x="33434" y="43994"/>
                    </a:lnTo>
                    <a:lnTo>
                      <a:pt x="43953" y="26094"/>
                    </a:lnTo>
                    <a:lnTo>
                      <a:pt x="53378" y="13754"/>
                    </a:lnTo>
                    <a:lnTo>
                      <a:pt x="37769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object 87" descr=""/>
              <p:cNvPicPr/>
              <p:nvPr/>
            </p:nvPicPr>
            <p:blipFill>
              <a:blip r:embed="rId30"/>
              <a:stretch/>
            </p:blipFill>
            <p:spPr>
              <a:xfrm>
                <a:off x="4843080" y="1438920"/>
                <a:ext cx="177480" cy="1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object 88"/>
              <p:cNvSpPr/>
              <p:nvPr/>
            </p:nvSpPr>
            <p:spPr>
              <a:xfrm>
                <a:off x="5041080" y="1423440"/>
                <a:ext cx="251280" cy="196200"/>
              </a:xfrm>
              <a:custGeom>
                <a:avLst/>
                <a:gdLst/>
                <a:ahLst/>
                <a:rect l="l" t="t" r="r" b="b"/>
                <a:pathLst>
                  <a:path w="251460" h="196215">
                    <a:moveTo>
                      <a:pt x="162750" y="11379"/>
                    </a:moveTo>
                    <a:lnTo>
                      <a:pt x="15811" y="11379"/>
                    </a:lnTo>
                    <a:lnTo>
                      <a:pt x="15811" y="25349"/>
                    </a:lnTo>
                    <a:lnTo>
                      <a:pt x="15811" y="38049"/>
                    </a:lnTo>
                    <a:lnTo>
                      <a:pt x="15811" y="53289"/>
                    </a:lnTo>
                    <a:lnTo>
                      <a:pt x="162750" y="53289"/>
                    </a:lnTo>
                    <a:lnTo>
                      <a:pt x="162750" y="38163"/>
                    </a:lnTo>
                    <a:lnTo>
                      <a:pt x="162750" y="25641"/>
                    </a:lnTo>
                    <a:lnTo>
                      <a:pt x="139763" y="25641"/>
                    </a:lnTo>
                    <a:lnTo>
                      <a:pt x="139763" y="38049"/>
                    </a:lnTo>
                    <a:lnTo>
                      <a:pt x="119240" y="38049"/>
                    </a:lnTo>
                    <a:lnTo>
                      <a:pt x="119240" y="25641"/>
                    </a:lnTo>
                    <a:lnTo>
                      <a:pt x="99123" y="25641"/>
                    </a:lnTo>
                    <a:lnTo>
                      <a:pt x="99123" y="38049"/>
                    </a:lnTo>
                    <a:lnTo>
                      <a:pt x="79006" y="38049"/>
                    </a:lnTo>
                    <a:lnTo>
                      <a:pt x="79006" y="25641"/>
                    </a:lnTo>
                    <a:lnTo>
                      <a:pt x="58699" y="25641"/>
                    </a:lnTo>
                    <a:lnTo>
                      <a:pt x="58699" y="38049"/>
                    </a:lnTo>
                    <a:lnTo>
                      <a:pt x="38798" y="38049"/>
                    </a:lnTo>
                    <a:lnTo>
                      <a:pt x="38798" y="25349"/>
                    </a:lnTo>
                    <a:lnTo>
                      <a:pt x="162750" y="25349"/>
                    </a:lnTo>
                    <a:lnTo>
                      <a:pt x="162750" y="11379"/>
                    </a:lnTo>
                    <a:close/>
                  </a:path>
                  <a:path w="251460" h="196215">
                    <a:moveTo>
                      <a:pt x="175475" y="60731"/>
                    </a:moveTo>
                    <a:lnTo>
                      <a:pt x="105702" y="60731"/>
                    </a:lnTo>
                    <a:lnTo>
                      <a:pt x="105702" y="53555"/>
                    </a:lnTo>
                    <a:lnTo>
                      <a:pt x="82092" y="53555"/>
                    </a:lnTo>
                    <a:lnTo>
                      <a:pt x="82092" y="60731"/>
                    </a:lnTo>
                    <a:lnTo>
                      <a:pt x="0" y="60731"/>
                    </a:lnTo>
                    <a:lnTo>
                      <a:pt x="0" y="76746"/>
                    </a:lnTo>
                    <a:lnTo>
                      <a:pt x="82092" y="76746"/>
                    </a:lnTo>
                    <a:lnTo>
                      <a:pt x="82092" y="82499"/>
                    </a:lnTo>
                    <a:lnTo>
                      <a:pt x="43916" y="82499"/>
                    </a:lnTo>
                    <a:lnTo>
                      <a:pt x="43916" y="96469"/>
                    </a:lnTo>
                    <a:lnTo>
                      <a:pt x="43916" y="154889"/>
                    </a:lnTo>
                    <a:lnTo>
                      <a:pt x="155155" y="154889"/>
                    </a:lnTo>
                    <a:lnTo>
                      <a:pt x="155155" y="142621"/>
                    </a:lnTo>
                    <a:lnTo>
                      <a:pt x="155155" y="142189"/>
                    </a:lnTo>
                    <a:lnTo>
                      <a:pt x="155155" y="134620"/>
                    </a:lnTo>
                    <a:lnTo>
                      <a:pt x="131965" y="134620"/>
                    </a:lnTo>
                    <a:lnTo>
                      <a:pt x="131965" y="142189"/>
                    </a:lnTo>
                    <a:lnTo>
                      <a:pt x="66700" y="142189"/>
                    </a:lnTo>
                    <a:lnTo>
                      <a:pt x="66700" y="134569"/>
                    </a:lnTo>
                    <a:lnTo>
                      <a:pt x="155155" y="134569"/>
                    </a:lnTo>
                    <a:lnTo>
                      <a:pt x="155155" y="123139"/>
                    </a:lnTo>
                    <a:lnTo>
                      <a:pt x="66700" y="123139"/>
                    </a:lnTo>
                    <a:lnTo>
                      <a:pt x="66700" y="115519"/>
                    </a:lnTo>
                    <a:lnTo>
                      <a:pt x="131965" y="115519"/>
                    </a:lnTo>
                    <a:lnTo>
                      <a:pt x="131965" y="122707"/>
                    </a:lnTo>
                    <a:lnTo>
                      <a:pt x="155155" y="122707"/>
                    </a:lnTo>
                    <a:lnTo>
                      <a:pt x="155155" y="82499"/>
                    </a:lnTo>
                    <a:lnTo>
                      <a:pt x="131965" y="82499"/>
                    </a:lnTo>
                    <a:lnTo>
                      <a:pt x="131965" y="96469"/>
                    </a:lnTo>
                    <a:lnTo>
                      <a:pt x="131965" y="102819"/>
                    </a:lnTo>
                    <a:lnTo>
                      <a:pt x="66700" y="102819"/>
                    </a:lnTo>
                    <a:lnTo>
                      <a:pt x="66700" y="96469"/>
                    </a:lnTo>
                    <a:lnTo>
                      <a:pt x="131965" y="96469"/>
                    </a:lnTo>
                    <a:lnTo>
                      <a:pt x="131965" y="82499"/>
                    </a:lnTo>
                    <a:lnTo>
                      <a:pt x="105702" y="82499"/>
                    </a:lnTo>
                    <a:lnTo>
                      <a:pt x="105702" y="76746"/>
                    </a:lnTo>
                    <a:lnTo>
                      <a:pt x="175475" y="76746"/>
                    </a:lnTo>
                    <a:lnTo>
                      <a:pt x="175475" y="60731"/>
                    </a:lnTo>
                    <a:close/>
                  </a:path>
                  <a:path w="251460" h="196215">
                    <a:moveTo>
                      <a:pt x="176098" y="161239"/>
                    </a:moveTo>
                    <a:lnTo>
                      <a:pt x="32029" y="161239"/>
                    </a:lnTo>
                    <a:lnTo>
                      <a:pt x="32029" y="95199"/>
                    </a:lnTo>
                    <a:lnTo>
                      <a:pt x="32537" y="95199"/>
                    </a:lnTo>
                    <a:lnTo>
                      <a:pt x="32537" y="93929"/>
                    </a:lnTo>
                    <a:lnTo>
                      <a:pt x="34150" y="93929"/>
                    </a:lnTo>
                    <a:lnTo>
                      <a:pt x="34150" y="92659"/>
                    </a:lnTo>
                    <a:lnTo>
                      <a:pt x="35509" y="92659"/>
                    </a:lnTo>
                    <a:lnTo>
                      <a:pt x="35509" y="88849"/>
                    </a:lnTo>
                    <a:lnTo>
                      <a:pt x="9245" y="88849"/>
                    </a:lnTo>
                    <a:lnTo>
                      <a:pt x="9245" y="92659"/>
                    </a:lnTo>
                    <a:lnTo>
                      <a:pt x="9245" y="93929"/>
                    </a:lnTo>
                    <a:lnTo>
                      <a:pt x="9245" y="95199"/>
                    </a:lnTo>
                    <a:lnTo>
                      <a:pt x="9245" y="161239"/>
                    </a:lnTo>
                    <a:lnTo>
                      <a:pt x="9245" y="180289"/>
                    </a:lnTo>
                    <a:lnTo>
                      <a:pt x="9245" y="186639"/>
                    </a:lnTo>
                    <a:lnTo>
                      <a:pt x="32029" y="186639"/>
                    </a:lnTo>
                    <a:lnTo>
                      <a:pt x="32029" y="180289"/>
                    </a:lnTo>
                    <a:lnTo>
                      <a:pt x="176098" y="180289"/>
                    </a:lnTo>
                    <a:lnTo>
                      <a:pt x="176098" y="161239"/>
                    </a:lnTo>
                    <a:close/>
                  </a:path>
                  <a:path w="251460" h="196215">
                    <a:moveTo>
                      <a:pt x="251180" y="98094"/>
                    </a:moveTo>
                    <a:lnTo>
                      <a:pt x="246976" y="62852"/>
                    </a:lnTo>
                    <a:lnTo>
                      <a:pt x="236829" y="35039"/>
                    </a:lnTo>
                    <a:lnTo>
                      <a:pt x="224421" y="14224"/>
                    </a:lnTo>
                    <a:lnTo>
                      <a:pt x="213423" y="0"/>
                    </a:lnTo>
                    <a:lnTo>
                      <a:pt x="197815" y="13754"/>
                    </a:lnTo>
                    <a:lnTo>
                      <a:pt x="207238" y="26085"/>
                    </a:lnTo>
                    <a:lnTo>
                      <a:pt x="217741" y="43992"/>
                    </a:lnTo>
                    <a:lnTo>
                      <a:pt x="226301" y="67856"/>
                    </a:lnTo>
                    <a:lnTo>
                      <a:pt x="229831" y="98094"/>
                    </a:lnTo>
                    <a:lnTo>
                      <a:pt x="226301" y="128409"/>
                    </a:lnTo>
                    <a:lnTo>
                      <a:pt x="217741" y="152273"/>
                    </a:lnTo>
                    <a:lnTo>
                      <a:pt x="207238" y="170116"/>
                    </a:lnTo>
                    <a:lnTo>
                      <a:pt x="197815" y="182435"/>
                    </a:lnTo>
                    <a:lnTo>
                      <a:pt x="213423" y="196189"/>
                    </a:lnTo>
                    <a:lnTo>
                      <a:pt x="224421" y="182067"/>
                    </a:lnTo>
                    <a:lnTo>
                      <a:pt x="236829" y="161302"/>
                    </a:lnTo>
                    <a:lnTo>
                      <a:pt x="246976" y="133438"/>
                    </a:lnTo>
                    <a:lnTo>
                      <a:pt x="251180" y="98094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object 89"/>
            <p:cNvGrpSpPr/>
            <p:nvPr/>
          </p:nvGrpSpPr>
          <p:grpSpPr>
            <a:xfrm>
              <a:off x="5345640" y="1429560"/>
              <a:ext cx="695880" cy="185400"/>
              <a:chOff x="5345640" y="1429560"/>
              <a:chExt cx="695880" cy="185400"/>
            </a:xfrm>
          </p:grpSpPr>
          <p:pic>
            <p:nvPicPr>
              <p:cNvPr id="130" name="object 90" descr=""/>
              <p:cNvPicPr/>
              <p:nvPr/>
            </p:nvPicPr>
            <p:blipFill>
              <a:blip r:embed="rId31"/>
              <a:stretch/>
            </p:blipFill>
            <p:spPr>
              <a:xfrm>
                <a:off x="5345640" y="1429560"/>
                <a:ext cx="102960" cy="18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91" descr=""/>
              <p:cNvPicPr/>
              <p:nvPr/>
            </p:nvPicPr>
            <p:blipFill>
              <a:blip r:embed="rId32"/>
              <a:stretch/>
            </p:blipFill>
            <p:spPr>
              <a:xfrm>
                <a:off x="5470920" y="1432080"/>
                <a:ext cx="29484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92" descr=""/>
              <p:cNvPicPr/>
              <p:nvPr/>
            </p:nvPicPr>
            <p:blipFill>
              <a:blip r:embed="rId33"/>
              <a:stretch/>
            </p:blipFill>
            <p:spPr>
              <a:xfrm>
                <a:off x="5794560" y="1452600"/>
                <a:ext cx="246960" cy="159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3" name="object 93" descr=""/>
            <p:cNvPicPr/>
            <p:nvPr/>
          </p:nvPicPr>
          <p:blipFill>
            <a:blip r:embed="rId34"/>
            <a:stretch/>
          </p:blipFill>
          <p:spPr>
            <a:xfrm>
              <a:off x="78840" y="1826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object 94" descr=""/>
            <p:cNvPicPr/>
            <p:nvPr/>
          </p:nvPicPr>
          <p:blipFill>
            <a:blip r:embed="rId35"/>
            <a:stretch/>
          </p:blipFill>
          <p:spPr>
            <a:xfrm>
              <a:off x="328320" y="1797480"/>
              <a:ext cx="577116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object 95" descr=""/>
            <p:cNvPicPr/>
            <p:nvPr/>
          </p:nvPicPr>
          <p:blipFill>
            <a:blip r:embed="rId36"/>
            <a:stretch/>
          </p:blipFill>
          <p:spPr>
            <a:xfrm>
              <a:off x="78840" y="2204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object 96" descr=""/>
            <p:cNvPicPr/>
            <p:nvPr/>
          </p:nvPicPr>
          <p:blipFill>
            <a:blip r:embed="rId37"/>
            <a:stretch/>
          </p:blipFill>
          <p:spPr>
            <a:xfrm>
              <a:off x="322200" y="2179440"/>
              <a:ext cx="4298760" cy="19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object 97"/>
            <p:cNvGrpSpPr/>
            <p:nvPr/>
          </p:nvGrpSpPr>
          <p:grpSpPr>
            <a:xfrm>
              <a:off x="4701960" y="2179440"/>
              <a:ext cx="2494800" cy="196200"/>
              <a:chOff x="4701960" y="2179440"/>
              <a:chExt cx="2494800" cy="196200"/>
            </a:xfrm>
          </p:grpSpPr>
          <p:pic>
            <p:nvPicPr>
              <p:cNvPr id="138" name="object 98" descr=""/>
              <p:cNvPicPr/>
              <p:nvPr/>
            </p:nvPicPr>
            <p:blipFill>
              <a:blip r:embed="rId38"/>
              <a:stretch/>
            </p:blipFill>
            <p:spPr>
              <a:xfrm>
                <a:off x="4701960" y="2179440"/>
                <a:ext cx="1754640" cy="19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object 99"/>
              <p:cNvSpPr/>
              <p:nvPr/>
            </p:nvSpPr>
            <p:spPr>
              <a:xfrm>
                <a:off x="6469920" y="2192040"/>
                <a:ext cx="306720" cy="170280"/>
              </a:xfrm>
              <a:custGeom>
                <a:avLst/>
                <a:gdLst/>
                <a:ahLst/>
                <a:rect l="l" t="t" r="r" b="b"/>
                <a:pathLst>
                  <a:path w="306704" h="170180">
                    <a:moveTo>
                      <a:pt x="145897" y="72224"/>
                    </a:moveTo>
                    <a:lnTo>
                      <a:pt x="0" y="72224"/>
                    </a:lnTo>
                    <a:lnTo>
                      <a:pt x="0" y="98285"/>
                    </a:lnTo>
                    <a:lnTo>
                      <a:pt x="145897" y="98285"/>
                    </a:lnTo>
                    <a:lnTo>
                      <a:pt x="145897" y="72224"/>
                    </a:lnTo>
                    <a:close/>
                  </a:path>
                  <a:path w="306704" h="170180">
                    <a:moveTo>
                      <a:pt x="306158" y="41859"/>
                    </a:moveTo>
                    <a:lnTo>
                      <a:pt x="289547" y="22364"/>
                    </a:lnTo>
                    <a:lnTo>
                      <a:pt x="282968" y="26263"/>
                    </a:lnTo>
                    <a:lnTo>
                      <a:pt x="234543" y="26263"/>
                    </a:lnTo>
                    <a:lnTo>
                      <a:pt x="239052" y="18262"/>
                    </a:lnTo>
                    <a:lnTo>
                      <a:pt x="240296" y="15189"/>
                    </a:lnTo>
                    <a:lnTo>
                      <a:pt x="243154" y="14363"/>
                    </a:lnTo>
                    <a:lnTo>
                      <a:pt x="245414" y="13957"/>
                    </a:lnTo>
                    <a:lnTo>
                      <a:pt x="245414" y="10261"/>
                    </a:lnTo>
                    <a:lnTo>
                      <a:pt x="241312" y="8407"/>
                    </a:lnTo>
                    <a:lnTo>
                      <a:pt x="218948" y="0"/>
                    </a:lnTo>
                    <a:lnTo>
                      <a:pt x="210756" y="19380"/>
                    </a:lnTo>
                    <a:lnTo>
                      <a:pt x="198551" y="39789"/>
                    </a:lnTo>
                    <a:lnTo>
                      <a:pt x="182384" y="59994"/>
                    </a:lnTo>
                    <a:lnTo>
                      <a:pt x="162306" y="78803"/>
                    </a:lnTo>
                    <a:lnTo>
                      <a:pt x="182626" y="92760"/>
                    </a:lnTo>
                    <a:lnTo>
                      <a:pt x="196481" y="78625"/>
                    </a:lnTo>
                    <a:lnTo>
                      <a:pt x="207276" y="66179"/>
                    </a:lnTo>
                    <a:lnTo>
                      <a:pt x="215493" y="55587"/>
                    </a:lnTo>
                    <a:lnTo>
                      <a:pt x="221615" y="46990"/>
                    </a:lnTo>
                    <a:lnTo>
                      <a:pt x="274154" y="46990"/>
                    </a:lnTo>
                    <a:lnTo>
                      <a:pt x="258279" y="84048"/>
                    </a:lnTo>
                    <a:lnTo>
                      <a:pt x="228511" y="122237"/>
                    </a:lnTo>
                    <a:lnTo>
                      <a:pt x="194792" y="147916"/>
                    </a:lnTo>
                    <a:lnTo>
                      <a:pt x="182816" y="154533"/>
                    </a:lnTo>
                    <a:lnTo>
                      <a:pt x="205193" y="169926"/>
                    </a:lnTo>
                    <a:lnTo>
                      <a:pt x="245211" y="138988"/>
                    </a:lnTo>
                    <a:lnTo>
                      <a:pt x="273964" y="102311"/>
                    </a:lnTo>
                    <a:lnTo>
                      <a:pt x="291338" y="67348"/>
                    </a:lnTo>
                    <a:lnTo>
                      <a:pt x="298983" y="47409"/>
                    </a:lnTo>
                    <a:lnTo>
                      <a:pt x="302056" y="44742"/>
                    </a:lnTo>
                    <a:lnTo>
                      <a:pt x="306158" y="41859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" name="object 100" descr=""/>
              <p:cNvPicPr/>
              <p:nvPr/>
            </p:nvPicPr>
            <p:blipFill>
              <a:blip r:embed="rId39"/>
              <a:stretch/>
            </p:blipFill>
            <p:spPr>
              <a:xfrm>
                <a:off x="6798600" y="2187360"/>
                <a:ext cx="324720" cy="1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object 101"/>
              <p:cNvSpPr/>
              <p:nvPr/>
            </p:nvSpPr>
            <p:spPr>
              <a:xfrm>
                <a:off x="7143120" y="2179440"/>
                <a:ext cx="53640" cy="196200"/>
              </a:xfrm>
              <a:custGeom>
                <a:avLst/>
                <a:gdLst/>
                <a:ahLst/>
                <a:rect l="l" t="t" r="r" b="b"/>
                <a:pathLst>
                  <a:path w="53975" h="196214">
                    <a:moveTo>
                      <a:pt x="15608" y="0"/>
                    </a:moveTo>
                    <a:lnTo>
                      <a:pt x="0" y="13754"/>
                    </a:lnTo>
                    <a:lnTo>
                      <a:pt x="9422" y="26094"/>
                    </a:lnTo>
                    <a:lnTo>
                      <a:pt x="19937" y="43994"/>
                    </a:lnTo>
                    <a:lnTo>
                      <a:pt x="28487" y="67859"/>
                    </a:lnTo>
                    <a:lnTo>
                      <a:pt x="32016" y="98094"/>
                    </a:lnTo>
                    <a:lnTo>
                      <a:pt x="28487" y="128416"/>
                    </a:lnTo>
                    <a:lnTo>
                      <a:pt x="19937" y="152271"/>
                    </a:lnTo>
                    <a:lnTo>
                      <a:pt x="9422" y="170123"/>
                    </a:lnTo>
                    <a:lnTo>
                      <a:pt x="0" y="182435"/>
                    </a:lnTo>
                    <a:lnTo>
                      <a:pt x="15608" y="196189"/>
                    </a:lnTo>
                    <a:lnTo>
                      <a:pt x="26613" y="182074"/>
                    </a:lnTo>
                    <a:lnTo>
                      <a:pt x="39025" y="161301"/>
                    </a:lnTo>
                    <a:lnTo>
                      <a:pt x="49167" y="133447"/>
                    </a:lnTo>
                    <a:lnTo>
                      <a:pt x="53365" y="98094"/>
                    </a:lnTo>
                    <a:lnTo>
                      <a:pt x="49167" y="62856"/>
                    </a:lnTo>
                    <a:lnTo>
                      <a:pt x="39025" y="35040"/>
                    </a:lnTo>
                    <a:lnTo>
                      <a:pt x="26613" y="14228"/>
                    </a:lnTo>
                    <a:lnTo>
                      <a:pt x="15608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bject 102"/>
            <p:cNvSpPr/>
            <p:nvPr/>
          </p:nvSpPr>
          <p:spPr>
            <a:xfrm>
              <a:off x="7248240" y="2304000"/>
              <a:ext cx="63360" cy="63360"/>
            </a:xfrm>
            <a:custGeom>
              <a:avLst/>
              <a:gdLst/>
              <a:ahLst/>
              <a:rect l="l" t="t" r="r" b="b"/>
              <a:pathLst>
                <a:path w="63500" h="63500">
                  <a:moveTo>
                    <a:pt x="31800" y="0"/>
                  </a:moveTo>
                  <a:lnTo>
                    <a:pt x="19470" y="2456"/>
                  </a:lnTo>
                  <a:lnTo>
                    <a:pt x="9356" y="9185"/>
                  </a:lnTo>
                  <a:lnTo>
                    <a:pt x="2514" y="19223"/>
                  </a:lnTo>
                  <a:lnTo>
                    <a:pt x="0" y="31610"/>
                  </a:lnTo>
                  <a:lnTo>
                    <a:pt x="2514" y="-21596"/>
                  </a:lnTo>
                  <a:lnTo>
                    <a:pt x="9356" y="-11482"/>
                  </a:lnTo>
                  <a:lnTo>
                    <a:pt x="19470" y="-4640"/>
                  </a:lnTo>
                  <a:lnTo>
                    <a:pt x="31800" y="-2125"/>
                  </a:lnTo>
                  <a:lnTo>
                    <a:pt x="-21435" y="-4726"/>
                  </a:lnTo>
                  <a:lnTo>
                    <a:pt x="-11387" y="-11558"/>
                  </a:lnTo>
                  <a:lnTo>
                    <a:pt x="-10974" y="-12171"/>
                  </a:lnTo>
                  <a:lnTo>
                    <a:pt x="31800" y="-12171"/>
                  </a:lnTo>
                  <a:lnTo>
                    <a:pt x="23258" y="-13783"/>
                  </a:lnTo>
                  <a:lnTo>
                    <a:pt x="16278" y="-18434"/>
                  </a:lnTo>
                  <a:lnTo>
                    <a:pt x="11563" y="-25421"/>
                  </a:lnTo>
                  <a:lnTo>
                    <a:pt x="9842" y="31610"/>
                  </a:lnTo>
                  <a:lnTo>
                    <a:pt x="11600" y="23099"/>
                  </a:lnTo>
                  <a:lnTo>
                    <a:pt x="16359" y="16189"/>
                  </a:lnTo>
                  <a:lnTo>
                    <a:pt x="23349" y="11550"/>
                  </a:lnTo>
                  <a:lnTo>
                    <a:pt x="31800" y="9855"/>
                  </a:lnTo>
                  <a:lnTo>
                    <a:pt x="-11008" y="9855"/>
                  </a:lnTo>
                  <a:lnTo>
                    <a:pt x="-11463" y="9185"/>
                  </a:lnTo>
                  <a:lnTo>
                    <a:pt x="-21521" y="2456"/>
                  </a:lnTo>
                  <a:lnTo>
                    <a:pt x="31800" y="0"/>
                  </a:lnTo>
                  <a:close/>
                </a:path>
                <a:path w="63500" h="63500">
                  <a:moveTo>
                    <a:pt x="-11008" y="9855"/>
                  </a:moveTo>
                  <a:lnTo>
                    <a:pt x="31800" y="9855"/>
                  </a:lnTo>
                  <a:lnTo>
                    <a:pt x="-25316" y="11550"/>
                  </a:lnTo>
                  <a:lnTo>
                    <a:pt x="-18396" y="16189"/>
                  </a:lnTo>
                  <a:lnTo>
                    <a:pt x="-13706" y="23099"/>
                  </a:lnTo>
                  <a:lnTo>
                    <a:pt x="-11981" y="31610"/>
                  </a:lnTo>
                  <a:lnTo>
                    <a:pt x="-13676" y="-25421"/>
                  </a:lnTo>
                  <a:lnTo>
                    <a:pt x="-18315" y="-18510"/>
                  </a:lnTo>
                  <a:lnTo>
                    <a:pt x="-25225" y="-13868"/>
                  </a:lnTo>
                  <a:lnTo>
                    <a:pt x="31800" y="-12171"/>
                  </a:lnTo>
                  <a:lnTo>
                    <a:pt x="-10974" y="-12171"/>
                  </a:lnTo>
                  <a:lnTo>
                    <a:pt x="-4611" y="-21624"/>
                  </a:lnTo>
                  <a:lnTo>
                    <a:pt x="-2125" y="31610"/>
                  </a:lnTo>
                  <a:lnTo>
                    <a:pt x="-4639" y="19223"/>
                  </a:lnTo>
                  <a:lnTo>
                    <a:pt x="-11008" y="9855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object 103" descr=""/>
            <p:cNvPicPr/>
            <p:nvPr/>
          </p:nvPicPr>
          <p:blipFill>
            <a:blip r:embed="rId40"/>
            <a:stretch/>
          </p:blipFill>
          <p:spPr>
            <a:xfrm>
              <a:off x="78840" y="2582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object 104" descr=""/>
            <p:cNvPicPr/>
            <p:nvPr/>
          </p:nvPicPr>
          <p:blipFill>
            <a:blip r:embed="rId41"/>
            <a:stretch/>
          </p:blipFill>
          <p:spPr>
            <a:xfrm>
              <a:off x="330840" y="2563920"/>
              <a:ext cx="7149600" cy="18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object 105" descr=""/>
            <p:cNvPicPr/>
            <p:nvPr/>
          </p:nvPicPr>
          <p:blipFill>
            <a:blip r:embed="rId42"/>
            <a:stretch/>
          </p:blipFill>
          <p:spPr>
            <a:xfrm>
              <a:off x="78840" y="2960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object 106"/>
            <p:cNvGrpSpPr/>
            <p:nvPr/>
          </p:nvGrpSpPr>
          <p:grpSpPr>
            <a:xfrm>
              <a:off x="327960" y="2948040"/>
              <a:ext cx="1333440" cy="174960"/>
              <a:chOff x="327960" y="2948040"/>
              <a:chExt cx="1333440" cy="174960"/>
            </a:xfrm>
          </p:grpSpPr>
          <p:pic>
            <p:nvPicPr>
              <p:cNvPr id="147" name="object 107" descr=""/>
              <p:cNvPicPr/>
              <p:nvPr/>
            </p:nvPicPr>
            <p:blipFill>
              <a:blip r:embed="rId43"/>
              <a:stretch/>
            </p:blipFill>
            <p:spPr>
              <a:xfrm>
                <a:off x="327960" y="2950200"/>
                <a:ext cx="175320" cy="17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object 108"/>
              <p:cNvSpPr/>
              <p:nvPr/>
            </p:nvSpPr>
            <p:spPr>
              <a:xfrm>
                <a:off x="527040" y="2948040"/>
                <a:ext cx="864720" cy="173880"/>
              </a:xfrm>
              <a:custGeom>
                <a:avLst/>
                <a:gdLst/>
                <a:ahLst/>
                <a:rect l="l" t="t" r="r" b="b"/>
                <a:pathLst>
                  <a:path w="864235" h="173989">
                    <a:moveTo>
                      <a:pt x="69977" y="1028"/>
                    </a:moveTo>
                    <a:lnTo>
                      <a:pt x="12915" y="1028"/>
                    </a:lnTo>
                    <a:lnTo>
                      <a:pt x="12915" y="17653"/>
                    </a:lnTo>
                    <a:lnTo>
                      <a:pt x="69977" y="17653"/>
                    </a:lnTo>
                    <a:lnTo>
                      <a:pt x="69977" y="1028"/>
                    </a:lnTo>
                    <a:close/>
                  </a:path>
                  <a:path w="864235" h="173989">
                    <a:moveTo>
                      <a:pt x="70586" y="55816"/>
                    </a:moveTo>
                    <a:lnTo>
                      <a:pt x="10248" y="55816"/>
                    </a:lnTo>
                    <a:lnTo>
                      <a:pt x="10248" y="72847"/>
                    </a:lnTo>
                    <a:lnTo>
                      <a:pt x="70586" y="72847"/>
                    </a:lnTo>
                    <a:lnTo>
                      <a:pt x="70586" y="55816"/>
                    </a:lnTo>
                    <a:close/>
                  </a:path>
                  <a:path w="864235" h="173989">
                    <a:moveTo>
                      <a:pt x="70802" y="82499"/>
                    </a:moveTo>
                    <a:lnTo>
                      <a:pt x="10464" y="82499"/>
                    </a:lnTo>
                    <a:lnTo>
                      <a:pt x="10464" y="99123"/>
                    </a:lnTo>
                    <a:lnTo>
                      <a:pt x="70802" y="99123"/>
                    </a:lnTo>
                    <a:lnTo>
                      <a:pt x="70802" y="82499"/>
                    </a:lnTo>
                    <a:close/>
                  </a:path>
                  <a:path w="864235" h="173989">
                    <a:moveTo>
                      <a:pt x="74904" y="107950"/>
                    </a:moveTo>
                    <a:lnTo>
                      <a:pt x="52324" y="107950"/>
                    </a:lnTo>
                    <a:lnTo>
                      <a:pt x="52324" y="127228"/>
                    </a:lnTo>
                    <a:lnTo>
                      <a:pt x="52324" y="145707"/>
                    </a:lnTo>
                    <a:lnTo>
                      <a:pt x="26885" y="145707"/>
                    </a:lnTo>
                    <a:lnTo>
                      <a:pt x="26885" y="127228"/>
                    </a:lnTo>
                    <a:lnTo>
                      <a:pt x="52324" y="127228"/>
                    </a:lnTo>
                    <a:lnTo>
                      <a:pt x="52324" y="107950"/>
                    </a:lnTo>
                    <a:lnTo>
                      <a:pt x="4508" y="107950"/>
                    </a:lnTo>
                    <a:lnTo>
                      <a:pt x="4508" y="173418"/>
                    </a:lnTo>
                    <a:lnTo>
                      <a:pt x="26885" y="173418"/>
                    </a:lnTo>
                    <a:lnTo>
                      <a:pt x="26885" y="164998"/>
                    </a:lnTo>
                    <a:lnTo>
                      <a:pt x="52324" y="164998"/>
                    </a:lnTo>
                    <a:lnTo>
                      <a:pt x="52324" y="171361"/>
                    </a:lnTo>
                    <a:lnTo>
                      <a:pt x="74904" y="171361"/>
                    </a:lnTo>
                    <a:lnTo>
                      <a:pt x="74904" y="164998"/>
                    </a:lnTo>
                    <a:lnTo>
                      <a:pt x="74904" y="145707"/>
                    </a:lnTo>
                    <a:lnTo>
                      <a:pt x="74904" y="127228"/>
                    </a:lnTo>
                    <a:lnTo>
                      <a:pt x="74904" y="107950"/>
                    </a:lnTo>
                    <a:close/>
                  </a:path>
                  <a:path w="864235" h="173989">
                    <a:moveTo>
                      <a:pt x="81686" y="26682"/>
                    </a:moveTo>
                    <a:lnTo>
                      <a:pt x="0" y="26682"/>
                    </a:lnTo>
                    <a:lnTo>
                      <a:pt x="0" y="44742"/>
                    </a:lnTo>
                    <a:lnTo>
                      <a:pt x="81686" y="44742"/>
                    </a:lnTo>
                    <a:lnTo>
                      <a:pt x="81686" y="26682"/>
                    </a:lnTo>
                    <a:close/>
                  </a:path>
                  <a:path w="864235" h="173989">
                    <a:moveTo>
                      <a:pt x="182232" y="137083"/>
                    </a:moveTo>
                    <a:lnTo>
                      <a:pt x="163753" y="127228"/>
                    </a:lnTo>
                    <a:lnTo>
                      <a:pt x="162737" y="148780"/>
                    </a:lnTo>
                    <a:lnTo>
                      <a:pt x="116357" y="148780"/>
                    </a:lnTo>
                    <a:lnTo>
                      <a:pt x="113893" y="146113"/>
                    </a:lnTo>
                    <a:lnTo>
                      <a:pt x="113893" y="88252"/>
                    </a:lnTo>
                    <a:lnTo>
                      <a:pt x="149606" y="88252"/>
                    </a:lnTo>
                    <a:lnTo>
                      <a:pt x="149606" y="95021"/>
                    </a:lnTo>
                    <a:lnTo>
                      <a:pt x="174028" y="95021"/>
                    </a:lnTo>
                    <a:lnTo>
                      <a:pt x="174028" y="88252"/>
                    </a:lnTo>
                    <a:lnTo>
                      <a:pt x="174028" y="1231"/>
                    </a:lnTo>
                    <a:lnTo>
                      <a:pt x="92557" y="1231"/>
                    </a:lnTo>
                    <a:lnTo>
                      <a:pt x="92557" y="23190"/>
                    </a:lnTo>
                    <a:lnTo>
                      <a:pt x="149606" y="23190"/>
                    </a:lnTo>
                    <a:lnTo>
                      <a:pt x="149606" y="66090"/>
                    </a:lnTo>
                    <a:lnTo>
                      <a:pt x="91528" y="66090"/>
                    </a:lnTo>
                    <a:lnTo>
                      <a:pt x="91528" y="147561"/>
                    </a:lnTo>
                    <a:lnTo>
                      <a:pt x="92989" y="157873"/>
                    </a:lnTo>
                    <a:lnTo>
                      <a:pt x="97320" y="164579"/>
                    </a:lnTo>
                    <a:lnTo>
                      <a:pt x="104508" y="168211"/>
                    </a:lnTo>
                    <a:lnTo>
                      <a:pt x="114503" y="169303"/>
                    </a:lnTo>
                    <a:lnTo>
                      <a:pt x="156375" y="169303"/>
                    </a:lnTo>
                    <a:lnTo>
                      <a:pt x="167398" y="167271"/>
                    </a:lnTo>
                    <a:lnTo>
                      <a:pt x="174993" y="161201"/>
                    </a:lnTo>
                    <a:lnTo>
                      <a:pt x="179743" y="151117"/>
                    </a:lnTo>
                    <a:lnTo>
                      <a:pt x="180162" y="148780"/>
                    </a:lnTo>
                    <a:lnTo>
                      <a:pt x="182232" y="137083"/>
                    </a:lnTo>
                    <a:close/>
                  </a:path>
                  <a:path w="864235" h="173989">
                    <a:moveTo>
                      <a:pt x="366090" y="84950"/>
                    </a:moveTo>
                    <a:lnTo>
                      <a:pt x="360172" y="53975"/>
                    </a:lnTo>
                    <a:lnTo>
                      <a:pt x="344436" y="31178"/>
                    </a:lnTo>
                    <a:lnTo>
                      <a:pt x="343928" y="30441"/>
                    </a:lnTo>
                    <a:lnTo>
                      <a:pt x="319684" y="15494"/>
                    </a:lnTo>
                    <a:lnTo>
                      <a:pt x="289750" y="10248"/>
                    </a:lnTo>
                    <a:lnTo>
                      <a:pt x="267589" y="14630"/>
                    </a:lnTo>
                    <a:lnTo>
                      <a:pt x="267589" y="34874"/>
                    </a:lnTo>
                    <a:lnTo>
                      <a:pt x="262293" y="61760"/>
                    </a:lnTo>
                    <a:lnTo>
                      <a:pt x="253834" y="89674"/>
                    </a:lnTo>
                    <a:lnTo>
                      <a:pt x="244144" y="111594"/>
                    </a:lnTo>
                    <a:lnTo>
                      <a:pt x="235153" y="120459"/>
                    </a:lnTo>
                    <a:lnTo>
                      <a:pt x="231546" y="118859"/>
                    </a:lnTo>
                    <a:lnTo>
                      <a:pt x="227203" y="114071"/>
                    </a:lnTo>
                    <a:lnTo>
                      <a:pt x="223558" y="106172"/>
                    </a:lnTo>
                    <a:lnTo>
                      <a:pt x="222021" y="95211"/>
                    </a:lnTo>
                    <a:lnTo>
                      <a:pt x="223177" y="84785"/>
                    </a:lnTo>
                    <a:lnTo>
                      <a:pt x="242544" y="49657"/>
                    </a:lnTo>
                    <a:lnTo>
                      <a:pt x="267589" y="34874"/>
                    </a:lnTo>
                    <a:lnTo>
                      <a:pt x="267589" y="14630"/>
                    </a:lnTo>
                    <a:lnTo>
                      <a:pt x="253276" y="17449"/>
                    </a:lnTo>
                    <a:lnTo>
                      <a:pt x="224637" y="36703"/>
                    </a:lnTo>
                    <a:lnTo>
                      <a:pt x="205943" y="64452"/>
                    </a:lnTo>
                    <a:lnTo>
                      <a:pt x="199250" y="97269"/>
                    </a:lnTo>
                    <a:lnTo>
                      <a:pt x="204622" y="121399"/>
                    </a:lnTo>
                    <a:lnTo>
                      <a:pt x="216992" y="138658"/>
                    </a:lnTo>
                    <a:lnTo>
                      <a:pt x="230759" y="149021"/>
                    </a:lnTo>
                    <a:lnTo>
                      <a:pt x="240284" y="152476"/>
                    </a:lnTo>
                    <a:lnTo>
                      <a:pt x="248031" y="149580"/>
                    </a:lnTo>
                    <a:lnTo>
                      <a:pt x="255117" y="142265"/>
                    </a:lnTo>
                    <a:lnTo>
                      <a:pt x="261353" y="132562"/>
                    </a:lnTo>
                    <a:lnTo>
                      <a:pt x="266560" y="122504"/>
                    </a:lnTo>
                    <a:lnTo>
                      <a:pt x="267474" y="120459"/>
                    </a:lnTo>
                    <a:lnTo>
                      <a:pt x="272465" y="109308"/>
                    </a:lnTo>
                    <a:lnTo>
                      <a:pt x="279361" y="90017"/>
                    </a:lnTo>
                    <a:lnTo>
                      <a:pt x="286207" y="64135"/>
                    </a:lnTo>
                    <a:lnTo>
                      <a:pt x="291363" y="34874"/>
                    </a:lnTo>
                    <a:lnTo>
                      <a:pt x="292011" y="31178"/>
                    </a:lnTo>
                    <a:lnTo>
                      <a:pt x="298843" y="31864"/>
                    </a:lnTo>
                    <a:lnTo>
                      <a:pt x="334048" y="53555"/>
                    </a:lnTo>
                    <a:lnTo>
                      <a:pt x="341668" y="80848"/>
                    </a:lnTo>
                    <a:lnTo>
                      <a:pt x="341122" y="88963"/>
                    </a:lnTo>
                    <a:lnTo>
                      <a:pt x="317131" y="131076"/>
                    </a:lnTo>
                    <a:lnTo>
                      <a:pt x="289941" y="143649"/>
                    </a:lnTo>
                    <a:lnTo>
                      <a:pt x="305142" y="164782"/>
                    </a:lnTo>
                    <a:lnTo>
                      <a:pt x="340537" y="143294"/>
                    </a:lnTo>
                    <a:lnTo>
                      <a:pt x="362381" y="109308"/>
                    </a:lnTo>
                    <a:lnTo>
                      <a:pt x="365112" y="97815"/>
                    </a:lnTo>
                    <a:lnTo>
                      <a:pt x="366090" y="84950"/>
                    </a:lnTo>
                    <a:close/>
                  </a:path>
                  <a:path w="864235" h="173989">
                    <a:moveTo>
                      <a:pt x="544410" y="46380"/>
                    </a:moveTo>
                    <a:lnTo>
                      <a:pt x="527380" y="26466"/>
                    </a:lnTo>
                    <a:lnTo>
                      <a:pt x="520611" y="30988"/>
                    </a:lnTo>
                    <a:lnTo>
                      <a:pt x="384759" y="30988"/>
                    </a:lnTo>
                    <a:lnTo>
                      <a:pt x="384759" y="54178"/>
                    </a:lnTo>
                    <a:lnTo>
                      <a:pt x="500303" y="54178"/>
                    </a:lnTo>
                    <a:lnTo>
                      <a:pt x="480225" y="75336"/>
                    </a:lnTo>
                    <a:lnTo>
                      <a:pt x="458635" y="97282"/>
                    </a:lnTo>
                    <a:lnTo>
                      <a:pt x="446951" y="86296"/>
                    </a:lnTo>
                    <a:lnTo>
                      <a:pt x="436054" y="77165"/>
                    </a:lnTo>
                    <a:lnTo>
                      <a:pt x="420052" y="93167"/>
                    </a:lnTo>
                    <a:lnTo>
                      <a:pt x="432803" y="104343"/>
                    </a:lnTo>
                    <a:lnTo>
                      <a:pt x="446214" y="118249"/>
                    </a:lnTo>
                    <a:lnTo>
                      <a:pt x="459473" y="135013"/>
                    </a:lnTo>
                    <a:lnTo>
                      <a:pt x="471766" y="154736"/>
                    </a:lnTo>
                    <a:lnTo>
                      <a:pt x="492493" y="138112"/>
                    </a:lnTo>
                    <a:lnTo>
                      <a:pt x="488645" y="132295"/>
                    </a:lnTo>
                    <a:lnTo>
                      <a:pt x="484797" y="127025"/>
                    </a:lnTo>
                    <a:lnTo>
                      <a:pt x="475259" y="115328"/>
                    </a:lnTo>
                    <a:lnTo>
                      <a:pt x="494601" y="95008"/>
                    </a:lnTo>
                    <a:lnTo>
                      <a:pt x="512737" y="76339"/>
                    </a:lnTo>
                    <a:lnTo>
                      <a:pt x="534974" y="53975"/>
                    </a:lnTo>
                    <a:lnTo>
                      <a:pt x="537235" y="51917"/>
                    </a:lnTo>
                    <a:lnTo>
                      <a:pt x="544410" y="46380"/>
                    </a:lnTo>
                    <a:close/>
                  </a:path>
                  <a:path w="864235" h="173989">
                    <a:moveTo>
                      <a:pt x="703656" y="72224"/>
                    </a:moveTo>
                    <a:lnTo>
                      <a:pt x="557745" y="72224"/>
                    </a:lnTo>
                    <a:lnTo>
                      <a:pt x="557745" y="98285"/>
                    </a:lnTo>
                    <a:lnTo>
                      <a:pt x="703656" y="98285"/>
                    </a:lnTo>
                    <a:lnTo>
                      <a:pt x="703656" y="72224"/>
                    </a:lnTo>
                    <a:close/>
                  </a:path>
                  <a:path w="864235" h="173989">
                    <a:moveTo>
                      <a:pt x="863904" y="41871"/>
                    </a:moveTo>
                    <a:lnTo>
                      <a:pt x="847293" y="22364"/>
                    </a:lnTo>
                    <a:lnTo>
                      <a:pt x="840727" y="26263"/>
                    </a:lnTo>
                    <a:lnTo>
                      <a:pt x="792289" y="26263"/>
                    </a:lnTo>
                    <a:lnTo>
                      <a:pt x="796810" y="18262"/>
                    </a:lnTo>
                    <a:lnTo>
                      <a:pt x="798042" y="15189"/>
                    </a:lnTo>
                    <a:lnTo>
                      <a:pt x="800900" y="14363"/>
                    </a:lnTo>
                    <a:lnTo>
                      <a:pt x="803160" y="13957"/>
                    </a:lnTo>
                    <a:lnTo>
                      <a:pt x="803160" y="10261"/>
                    </a:lnTo>
                    <a:lnTo>
                      <a:pt x="799071" y="8407"/>
                    </a:lnTo>
                    <a:lnTo>
                      <a:pt x="776693" y="0"/>
                    </a:lnTo>
                    <a:lnTo>
                      <a:pt x="768502" y="19380"/>
                    </a:lnTo>
                    <a:lnTo>
                      <a:pt x="756297" y="39789"/>
                    </a:lnTo>
                    <a:lnTo>
                      <a:pt x="740130" y="59994"/>
                    </a:lnTo>
                    <a:lnTo>
                      <a:pt x="720051" y="78803"/>
                    </a:lnTo>
                    <a:lnTo>
                      <a:pt x="740371" y="92760"/>
                    </a:lnTo>
                    <a:lnTo>
                      <a:pt x="754227" y="78625"/>
                    </a:lnTo>
                    <a:lnTo>
                      <a:pt x="765009" y="66179"/>
                    </a:lnTo>
                    <a:lnTo>
                      <a:pt x="773226" y="55587"/>
                    </a:lnTo>
                    <a:lnTo>
                      <a:pt x="779360" y="46990"/>
                    </a:lnTo>
                    <a:lnTo>
                      <a:pt x="831900" y="46990"/>
                    </a:lnTo>
                    <a:lnTo>
                      <a:pt x="816025" y="84048"/>
                    </a:lnTo>
                    <a:lnTo>
                      <a:pt x="786257" y="122237"/>
                    </a:lnTo>
                    <a:lnTo>
                      <a:pt x="752538" y="147916"/>
                    </a:lnTo>
                    <a:lnTo>
                      <a:pt x="740575" y="154533"/>
                    </a:lnTo>
                    <a:lnTo>
                      <a:pt x="762939" y="169926"/>
                    </a:lnTo>
                    <a:lnTo>
                      <a:pt x="802957" y="138988"/>
                    </a:lnTo>
                    <a:lnTo>
                      <a:pt x="831710" y="102298"/>
                    </a:lnTo>
                    <a:lnTo>
                      <a:pt x="849083" y="67348"/>
                    </a:lnTo>
                    <a:lnTo>
                      <a:pt x="856729" y="47409"/>
                    </a:lnTo>
                    <a:lnTo>
                      <a:pt x="859802" y="44742"/>
                    </a:lnTo>
                    <a:lnTo>
                      <a:pt x="863904" y="41871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object 109" descr=""/>
              <p:cNvPicPr/>
              <p:nvPr/>
            </p:nvPicPr>
            <p:blipFill>
              <a:blip r:embed="rId44"/>
              <a:stretch/>
            </p:blipFill>
            <p:spPr>
              <a:xfrm>
                <a:off x="1422360" y="2952360"/>
                <a:ext cx="239040" cy="170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object 110"/>
            <p:cNvGrpSpPr/>
            <p:nvPr/>
          </p:nvGrpSpPr>
          <p:grpSpPr>
            <a:xfrm>
              <a:off x="1707480" y="2939400"/>
              <a:ext cx="5661360" cy="187920"/>
              <a:chOff x="1707480" y="2939400"/>
              <a:chExt cx="5661360" cy="187920"/>
            </a:xfrm>
          </p:grpSpPr>
          <p:sp>
            <p:nvSpPr>
              <p:cNvPr id="151" name="object 111"/>
              <p:cNvSpPr/>
              <p:nvPr/>
            </p:nvSpPr>
            <p:spPr>
              <a:xfrm>
                <a:off x="1707480" y="2939400"/>
                <a:ext cx="326880" cy="181080"/>
              </a:xfrm>
              <a:custGeom>
                <a:avLst/>
                <a:gdLst/>
                <a:ahLst/>
                <a:rect l="l" t="t" r="r" b="b"/>
                <a:pathLst>
                  <a:path w="327025" h="180339">
                    <a:moveTo>
                      <a:pt x="128041" y="16217"/>
                    </a:moveTo>
                    <a:lnTo>
                      <a:pt x="27686" y="16217"/>
                    </a:lnTo>
                    <a:lnTo>
                      <a:pt x="27686" y="38582"/>
                    </a:lnTo>
                    <a:lnTo>
                      <a:pt x="128041" y="38582"/>
                    </a:lnTo>
                    <a:lnTo>
                      <a:pt x="128041" y="16217"/>
                    </a:lnTo>
                    <a:close/>
                  </a:path>
                  <a:path w="327025" h="180339">
                    <a:moveTo>
                      <a:pt x="154101" y="68148"/>
                    </a:moveTo>
                    <a:lnTo>
                      <a:pt x="0" y="68148"/>
                    </a:lnTo>
                    <a:lnTo>
                      <a:pt x="0" y="89484"/>
                    </a:lnTo>
                    <a:lnTo>
                      <a:pt x="68529" y="89484"/>
                    </a:lnTo>
                    <a:lnTo>
                      <a:pt x="64731" y="117690"/>
                    </a:lnTo>
                    <a:lnTo>
                      <a:pt x="54470" y="137909"/>
                    </a:lnTo>
                    <a:lnTo>
                      <a:pt x="37592" y="152273"/>
                    </a:lnTo>
                    <a:lnTo>
                      <a:pt x="13944" y="162953"/>
                    </a:lnTo>
                    <a:lnTo>
                      <a:pt x="33235" y="180187"/>
                    </a:lnTo>
                    <a:lnTo>
                      <a:pt x="59067" y="165328"/>
                    </a:lnTo>
                    <a:lnTo>
                      <a:pt x="77355" y="146380"/>
                    </a:lnTo>
                    <a:lnTo>
                      <a:pt x="88404" y="121666"/>
                    </a:lnTo>
                    <a:lnTo>
                      <a:pt x="92544" y="89484"/>
                    </a:lnTo>
                    <a:lnTo>
                      <a:pt x="154101" y="89484"/>
                    </a:lnTo>
                    <a:lnTo>
                      <a:pt x="154101" y="68148"/>
                    </a:lnTo>
                    <a:close/>
                  </a:path>
                  <a:path w="327025" h="180339">
                    <a:moveTo>
                      <a:pt x="169913" y="39611"/>
                    </a:moveTo>
                    <a:lnTo>
                      <a:pt x="164782" y="35242"/>
                    </a:lnTo>
                    <a:lnTo>
                      <a:pt x="159816" y="31445"/>
                    </a:lnTo>
                    <a:lnTo>
                      <a:pt x="154520" y="27889"/>
                    </a:lnTo>
                    <a:lnTo>
                      <a:pt x="148361" y="24231"/>
                    </a:lnTo>
                    <a:lnTo>
                      <a:pt x="140563" y="35712"/>
                    </a:lnTo>
                    <a:lnTo>
                      <a:pt x="144881" y="38379"/>
                    </a:lnTo>
                    <a:lnTo>
                      <a:pt x="149872" y="41630"/>
                    </a:lnTo>
                    <a:lnTo>
                      <a:pt x="155600" y="45770"/>
                    </a:lnTo>
                    <a:lnTo>
                      <a:pt x="162115" y="51104"/>
                    </a:lnTo>
                    <a:lnTo>
                      <a:pt x="169913" y="39611"/>
                    </a:lnTo>
                    <a:close/>
                  </a:path>
                  <a:path w="327025" h="180339">
                    <a:moveTo>
                      <a:pt x="175666" y="13957"/>
                    </a:moveTo>
                    <a:lnTo>
                      <a:pt x="172377" y="10883"/>
                    </a:lnTo>
                    <a:lnTo>
                      <a:pt x="168478" y="7594"/>
                    </a:lnTo>
                    <a:lnTo>
                      <a:pt x="154927" y="0"/>
                    </a:lnTo>
                    <a:lnTo>
                      <a:pt x="147332" y="11087"/>
                    </a:lnTo>
                    <a:lnTo>
                      <a:pt x="160680" y="18478"/>
                    </a:lnTo>
                    <a:lnTo>
                      <a:pt x="164579" y="21755"/>
                    </a:lnTo>
                    <a:lnTo>
                      <a:pt x="168059" y="25044"/>
                    </a:lnTo>
                    <a:lnTo>
                      <a:pt x="175666" y="13957"/>
                    </a:lnTo>
                    <a:close/>
                  </a:path>
                  <a:path w="327025" h="180339">
                    <a:moveTo>
                      <a:pt x="326478" y="80848"/>
                    </a:moveTo>
                    <a:lnTo>
                      <a:pt x="180568" y="80848"/>
                    </a:lnTo>
                    <a:lnTo>
                      <a:pt x="180568" y="106908"/>
                    </a:lnTo>
                    <a:lnTo>
                      <a:pt x="326478" y="106908"/>
                    </a:lnTo>
                    <a:lnTo>
                      <a:pt x="326478" y="80848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" name="object 112" descr=""/>
              <p:cNvPicPr/>
              <p:nvPr/>
            </p:nvPicPr>
            <p:blipFill>
              <a:blip r:embed="rId45"/>
              <a:stretch/>
            </p:blipFill>
            <p:spPr>
              <a:xfrm>
                <a:off x="2053800" y="2946960"/>
                <a:ext cx="315000" cy="17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object 113" descr=""/>
              <p:cNvPicPr/>
              <p:nvPr/>
            </p:nvPicPr>
            <p:blipFill>
              <a:blip r:embed="rId46"/>
              <a:stretch/>
            </p:blipFill>
            <p:spPr>
              <a:xfrm>
                <a:off x="2390040" y="2941920"/>
                <a:ext cx="4978800" cy="185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object 114"/>
            <p:cNvSpPr/>
            <p:nvPr/>
          </p:nvSpPr>
          <p:spPr>
            <a:xfrm>
              <a:off x="2128680" y="5057280"/>
              <a:ext cx="276120" cy="291960"/>
            </a:xfrm>
            <a:custGeom>
              <a:avLst/>
              <a:gdLst/>
              <a:ahLst/>
              <a:rect l="l" t="t" r="r" b="b"/>
              <a:pathLst>
                <a:path w="276225" h="292100">
                  <a:moveTo>
                    <a:pt x="209626" y="0"/>
                  </a:moveTo>
                  <a:lnTo>
                    <a:pt x="179759" y="15241"/>
                  </a:lnTo>
                  <a:lnTo>
                    <a:pt x="137863" y="28875"/>
                  </a:lnTo>
                  <a:lnTo>
                    <a:pt x="85516" y="38681"/>
                  </a:lnTo>
                  <a:lnTo>
                    <a:pt x="24295" y="42443"/>
                  </a:lnTo>
                  <a:lnTo>
                    <a:pt x="29492" y="49416"/>
                  </a:lnTo>
                  <a:lnTo>
                    <a:pt x="35025" y="57908"/>
                  </a:lnTo>
                  <a:lnTo>
                    <a:pt x="40373" y="68225"/>
                  </a:lnTo>
                  <a:lnTo>
                    <a:pt x="45021" y="80670"/>
                  </a:lnTo>
                  <a:lnTo>
                    <a:pt x="56667" y="80008"/>
                  </a:lnTo>
                  <a:lnTo>
                    <a:pt x="73502" y="78527"/>
                  </a:lnTo>
                  <a:lnTo>
                    <a:pt x="96836" y="75526"/>
                  </a:lnTo>
                  <a:lnTo>
                    <a:pt x="127977" y="70307"/>
                  </a:lnTo>
                  <a:lnTo>
                    <a:pt x="127977" y="114046"/>
                  </a:lnTo>
                  <a:lnTo>
                    <a:pt x="0" y="114046"/>
                  </a:lnTo>
                  <a:lnTo>
                    <a:pt x="0" y="153250"/>
                  </a:lnTo>
                  <a:lnTo>
                    <a:pt x="126365" y="153250"/>
                  </a:lnTo>
                  <a:lnTo>
                    <a:pt x="112685" y="195468"/>
                  </a:lnTo>
                  <a:lnTo>
                    <a:pt x="88407" y="224656"/>
                  </a:lnTo>
                  <a:lnTo>
                    <a:pt x="58238" y="244062"/>
                  </a:lnTo>
                  <a:lnTo>
                    <a:pt x="26885" y="256933"/>
                  </a:lnTo>
                  <a:lnTo>
                    <a:pt x="37199" y="265313"/>
                  </a:lnTo>
                  <a:lnTo>
                    <a:pt x="45512" y="273178"/>
                  </a:lnTo>
                  <a:lnTo>
                    <a:pt x="52855" y="281588"/>
                  </a:lnTo>
                  <a:lnTo>
                    <a:pt x="60261" y="291604"/>
                  </a:lnTo>
                  <a:lnTo>
                    <a:pt x="87137" y="278282"/>
                  </a:lnTo>
                  <a:lnTo>
                    <a:pt x="121211" y="253293"/>
                  </a:lnTo>
                  <a:lnTo>
                    <a:pt x="152433" y="212871"/>
                  </a:lnTo>
                  <a:lnTo>
                    <a:pt x="170751" y="153250"/>
                  </a:lnTo>
                  <a:lnTo>
                    <a:pt x="276047" y="153250"/>
                  </a:lnTo>
                  <a:lnTo>
                    <a:pt x="276047" y="114046"/>
                  </a:lnTo>
                  <a:lnTo>
                    <a:pt x="173342" y="114046"/>
                  </a:lnTo>
                  <a:lnTo>
                    <a:pt x="173342" y="59613"/>
                  </a:lnTo>
                  <a:lnTo>
                    <a:pt x="199663" y="51364"/>
                  </a:lnTo>
                  <a:lnTo>
                    <a:pt x="217449" y="44875"/>
                  </a:lnTo>
                  <a:lnTo>
                    <a:pt x="228977" y="39843"/>
                  </a:lnTo>
                  <a:lnTo>
                    <a:pt x="236524" y="35966"/>
                  </a:lnTo>
                  <a:lnTo>
                    <a:pt x="240080" y="37579"/>
                  </a:lnTo>
                  <a:lnTo>
                    <a:pt x="244614" y="37579"/>
                  </a:lnTo>
                  <a:lnTo>
                    <a:pt x="246240" y="35318"/>
                  </a:lnTo>
                  <a:lnTo>
                    <a:pt x="246240" y="32067"/>
                  </a:lnTo>
                  <a:lnTo>
                    <a:pt x="245592" y="31102"/>
                  </a:lnTo>
                  <a:lnTo>
                    <a:pt x="2096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bject 115"/>
            <p:cNvSpPr/>
            <p:nvPr/>
          </p:nvSpPr>
          <p:spPr>
            <a:xfrm>
              <a:off x="2461680" y="5072040"/>
              <a:ext cx="267120" cy="281160"/>
            </a:xfrm>
            <a:custGeom>
              <a:avLst/>
              <a:gdLst/>
              <a:ahLst/>
              <a:rect l="l" t="t" r="r" b="b"/>
              <a:pathLst>
                <a:path w="267335" h="281304">
                  <a:moveTo>
                    <a:pt x="227456" y="0"/>
                  </a:moveTo>
                  <a:lnTo>
                    <a:pt x="40182" y="0"/>
                  </a:lnTo>
                  <a:lnTo>
                    <a:pt x="40182" y="39522"/>
                  </a:lnTo>
                  <a:lnTo>
                    <a:pt x="227456" y="39522"/>
                  </a:lnTo>
                  <a:lnTo>
                    <a:pt x="227456" y="0"/>
                  </a:lnTo>
                  <a:close/>
                </a:path>
                <a:path w="267335" h="281304">
                  <a:moveTo>
                    <a:pt x="239776" y="73215"/>
                  </a:moveTo>
                  <a:lnTo>
                    <a:pt x="235064" y="74357"/>
                  </a:lnTo>
                  <a:lnTo>
                    <a:pt x="229288" y="75285"/>
                  </a:lnTo>
                  <a:lnTo>
                    <a:pt x="221870" y="75908"/>
                  </a:lnTo>
                  <a:lnTo>
                    <a:pt x="212229" y="76136"/>
                  </a:lnTo>
                  <a:lnTo>
                    <a:pt x="0" y="76136"/>
                  </a:lnTo>
                  <a:lnTo>
                    <a:pt x="0" y="116319"/>
                  </a:lnTo>
                  <a:lnTo>
                    <a:pt x="203492" y="116319"/>
                  </a:lnTo>
                  <a:lnTo>
                    <a:pt x="173834" y="170643"/>
                  </a:lnTo>
                  <a:lnTo>
                    <a:pt x="137102" y="207321"/>
                  </a:lnTo>
                  <a:lnTo>
                    <a:pt x="97275" y="230815"/>
                  </a:lnTo>
                  <a:lnTo>
                    <a:pt x="58331" y="245592"/>
                  </a:lnTo>
                  <a:lnTo>
                    <a:pt x="66499" y="253625"/>
                  </a:lnTo>
                  <a:lnTo>
                    <a:pt x="74364" y="262202"/>
                  </a:lnTo>
                  <a:lnTo>
                    <a:pt x="81744" y="271386"/>
                  </a:lnTo>
                  <a:lnTo>
                    <a:pt x="88455" y="281241"/>
                  </a:lnTo>
                  <a:lnTo>
                    <a:pt x="132686" y="260996"/>
                  </a:lnTo>
                  <a:lnTo>
                    <a:pt x="170353" y="235921"/>
                  </a:lnTo>
                  <a:lnTo>
                    <a:pt x="203278" y="202645"/>
                  </a:lnTo>
                  <a:lnTo>
                    <a:pt x="233286" y="157797"/>
                  </a:lnTo>
                  <a:lnTo>
                    <a:pt x="260130" y="105664"/>
                  </a:lnTo>
                  <a:lnTo>
                    <a:pt x="266992" y="92341"/>
                  </a:lnTo>
                  <a:lnTo>
                    <a:pt x="239776" y="73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bject 116"/>
            <p:cNvSpPr/>
            <p:nvPr/>
          </p:nvSpPr>
          <p:spPr>
            <a:xfrm>
              <a:off x="2787480" y="5056200"/>
              <a:ext cx="279360" cy="293760"/>
            </a:xfrm>
            <a:custGeom>
              <a:avLst/>
              <a:gdLst/>
              <a:ahLst/>
              <a:rect l="l" t="t" r="r" b="b"/>
              <a:pathLst>
                <a:path w="279400" h="294004">
                  <a:moveTo>
                    <a:pt x="250469" y="72898"/>
                  </a:moveTo>
                  <a:lnTo>
                    <a:pt x="225022" y="107169"/>
                  </a:lnTo>
                  <a:lnTo>
                    <a:pt x="193710" y="140892"/>
                  </a:lnTo>
                  <a:lnTo>
                    <a:pt x="156981" y="172978"/>
                  </a:lnTo>
                  <a:lnTo>
                    <a:pt x="115284" y="202337"/>
                  </a:lnTo>
                  <a:lnTo>
                    <a:pt x="69069" y="227878"/>
                  </a:lnTo>
                  <a:lnTo>
                    <a:pt x="18783" y="248513"/>
                  </a:lnTo>
                  <a:lnTo>
                    <a:pt x="42113" y="289013"/>
                  </a:lnTo>
                  <a:lnTo>
                    <a:pt x="43738" y="291934"/>
                  </a:lnTo>
                  <a:lnTo>
                    <a:pt x="44703" y="293547"/>
                  </a:lnTo>
                  <a:lnTo>
                    <a:pt x="50876" y="293547"/>
                  </a:lnTo>
                  <a:lnTo>
                    <a:pt x="51841" y="289013"/>
                  </a:lnTo>
                  <a:lnTo>
                    <a:pt x="52489" y="285775"/>
                  </a:lnTo>
                  <a:lnTo>
                    <a:pt x="93878" y="267478"/>
                  </a:lnTo>
                  <a:lnTo>
                    <a:pt x="136188" y="243188"/>
                  </a:lnTo>
                  <a:lnTo>
                    <a:pt x="177636" y="214090"/>
                  </a:lnTo>
                  <a:lnTo>
                    <a:pt x="216439" y="181372"/>
                  </a:lnTo>
                  <a:lnTo>
                    <a:pt x="250815" y="146223"/>
                  </a:lnTo>
                  <a:lnTo>
                    <a:pt x="278980" y="109829"/>
                  </a:lnTo>
                  <a:lnTo>
                    <a:pt x="267369" y="97452"/>
                  </a:lnTo>
                  <a:lnTo>
                    <a:pt x="259253" y="87110"/>
                  </a:lnTo>
                  <a:lnTo>
                    <a:pt x="253872" y="78895"/>
                  </a:lnTo>
                  <a:lnTo>
                    <a:pt x="250469" y="72898"/>
                  </a:lnTo>
                  <a:close/>
                </a:path>
                <a:path w="279400" h="294004">
                  <a:moveTo>
                    <a:pt x="24955" y="72250"/>
                  </a:moveTo>
                  <a:lnTo>
                    <a:pt x="0" y="108864"/>
                  </a:lnTo>
                  <a:lnTo>
                    <a:pt x="12037" y="113979"/>
                  </a:lnTo>
                  <a:lnTo>
                    <a:pt x="30699" y="123042"/>
                  </a:lnTo>
                  <a:lnTo>
                    <a:pt x="53128" y="136112"/>
                  </a:lnTo>
                  <a:lnTo>
                    <a:pt x="76466" y="153250"/>
                  </a:lnTo>
                  <a:lnTo>
                    <a:pt x="80719" y="146478"/>
                  </a:lnTo>
                  <a:lnTo>
                    <a:pt x="87160" y="136971"/>
                  </a:lnTo>
                  <a:lnTo>
                    <a:pt x="95058" y="126370"/>
                  </a:lnTo>
                  <a:lnTo>
                    <a:pt x="103682" y="116319"/>
                  </a:lnTo>
                  <a:lnTo>
                    <a:pt x="89602" y="106424"/>
                  </a:lnTo>
                  <a:lnTo>
                    <a:pt x="69053" y="94041"/>
                  </a:lnTo>
                  <a:lnTo>
                    <a:pt x="46136" y="81781"/>
                  </a:lnTo>
                  <a:lnTo>
                    <a:pt x="24955" y="72250"/>
                  </a:lnTo>
                  <a:close/>
                </a:path>
                <a:path w="279400" h="294004">
                  <a:moveTo>
                    <a:pt x="57670" y="0"/>
                  </a:moveTo>
                  <a:lnTo>
                    <a:pt x="33693" y="33693"/>
                  </a:lnTo>
                  <a:lnTo>
                    <a:pt x="54787" y="42095"/>
                  </a:lnTo>
                  <a:lnTo>
                    <a:pt x="75577" y="51800"/>
                  </a:lnTo>
                  <a:lnTo>
                    <a:pt x="95757" y="62900"/>
                  </a:lnTo>
                  <a:lnTo>
                    <a:pt x="115023" y="75488"/>
                  </a:lnTo>
                  <a:lnTo>
                    <a:pt x="120398" y="67593"/>
                  </a:lnTo>
                  <a:lnTo>
                    <a:pt x="127657" y="57267"/>
                  </a:lnTo>
                  <a:lnTo>
                    <a:pt x="135158" y="47060"/>
                  </a:lnTo>
                  <a:lnTo>
                    <a:pt x="141262" y="39522"/>
                  </a:lnTo>
                  <a:lnTo>
                    <a:pt x="122007" y="28473"/>
                  </a:lnTo>
                  <a:lnTo>
                    <a:pt x="102628" y="18670"/>
                  </a:lnTo>
                  <a:lnTo>
                    <a:pt x="81668" y="9413"/>
                  </a:lnTo>
                  <a:lnTo>
                    <a:pt x="576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object 117" descr=""/>
            <p:cNvPicPr/>
            <p:nvPr/>
          </p:nvPicPr>
          <p:blipFill>
            <a:blip r:embed="rId47"/>
            <a:stretch/>
          </p:blipFill>
          <p:spPr>
            <a:xfrm>
              <a:off x="3206880" y="5171760"/>
              <a:ext cx="65160" cy="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object 118"/>
            <p:cNvSpPr/>
            <p:nvPr/>
          </p:nvSpPr>
          <p:spPr>
            <a:xfrm>
              <a:off x="3414240" y="5066280"/>
              <a:ext cx="622800" cy="286920"/>
            </a:xfrm>
            <a:custGeom>
              <a:avLst/>
              <a:gdLst/>
              <a:ahLst/>
              <a:rect l="l" t="t" r="r" b="b"/>
              <a:pathLst>
                <a:path w="622935" h="287020">
                  <a:moveTo>
                    <a:pt x="298729" y="112433"/>
                  </a:moveTo>
                  <a:lnTo>
                    <a:pt x="272808" y="112433"/>
                  </a:lnTo>
                  <a:lnTo>
                    <a:pt x="272808" y="35318"/>
                  </a:lnTo>
                  <a:lnTo>
                    <a:pt x="272808" y="0"/>
                  </a:lnTo>
                  <a:lnTo>
                    <a:pt x="232321" y="0"/>
                  </a:lnTo>
                  <a:lnTo>
                    <a:pt x="232321" y="35318"/>
                  </a:lnTo>
                  <a:lnTo>
                    <a:pt x="232321" y="112433"/>
                  </a:lnTo>
                  <a:lnTo>
                    <a:pt x="232321" y="149047"/>
                  </a:lnTo>
                  <a:lnTo>
                    <a:pt x="232321" y="243979"/>
                  </a:lnTo>
                  <a:lnTo>
                    <a:pt x="215785" y="243979"/>
                  </a:lnTo>
                  <a:lnTo>
                    <a:pt x="208648" y="243332"/>
                  </a:lnTo>
                  <a:lnTo>
                    <a:pt x="200875" y="241388"/>
                  </a:lnTo>
                  <a:lnTo>
                    <a:pt x="200875" y="149047"/>
                  </a:lnTo>
                  <a:lnTo>
                    <a:pt x="232321" y="149047"/>
                  </a:lnTo>
                  <a:lnTo>
                    <a:pt x="232321" y="112433"/>
                  </a:lnTo>
                  <a:lnTo>
                    <a:pt x="200875" y="112433"/>
                  </a:lnTo>
                  <a:lnTo>
                    <a:pt x="200875" y="35318"/>
                  </a:lnTo>
                  <a:lnTo>
                    <a:pt x="232321" y="35318"/>
                  </a:lnTo>
                  <a:lnTo>
                    <a:pt x="232321" y="0"/>
                  </a:lnTo>
                  <a:lnTo>
                    <a:pt x="163614" y="0"/>
                  </a:lnTo>
                  <a:lnTo>
                    <a:pt x="163614" y="35306"/>
                  </a:lnTo>
                  <a:lnTo>
                    <a:pt x="163614" y="112420"/>
                  </a:lnTo>
                  <a:lnTo>
                    <a:pt x="134454" y="112420"/>
                  </a:lnTo>
                  <a:lnTo>
                    <a:pt x="134454" y="35306"/>
                  </a:lnTo>
                  <a:lnTo>
                    <a:pt x="163614" y="35306"/>
                  </a:lnTo>
                  <a:lnTo>
                    <a:pt x="163614" y="0"/>
                  </a:lnTo>
                  <a:lnTo>
                    <a:pt x="97193" y="0"/>
                  </a:lnTo>
                  <a:lnTo>
                    <a:pt x="97193" y="35306"/>
                  </a:lnTo>
                  <a:lnTo>
                    <a:pt x="97193" y="112420"/>
                  </a:lnTo>
                  <a:lnTo>
                    <a:pt x="66751" y="112420"/>
                  </a:lnTo>
                  <a:lnTo>
                    <a:pt x="66751" y="35306"/>
                  </a:lnTo>
                  <a:lnTo>
                    <a:pt x="97193" y="35306"/>
                  </a:lnTo>
                  <a:lnTo>
                    <a:pt x="97193" y="0"/>
                  </a:lnTo>
                  <a:lnTo>
                    <a:pt x="26238" y="0"/>
                  </a:lnTo>
                  <a:lnTo>
                    <a:pt x="26238" y="112433"/>
                  </a:lnTo>
                  <a:lnTo>
                    <a:pt x="0" y="112433"/>
                  </a:lnTo>
                  <a:lnTo>
                    <a:pt x="0" y="149047"/>
                  </a:lnTo>
                  <a:lnTo>
                    <a:pt x="26238" y="149047"/>
                  </a:lnTo>
                  <a:lnTo>
                    <a:pt x="26238" y="285775"/>
                  </a:lnTo>
                  <a:lnTo>
                    <a:pt x="66738" y="285775"/>
                  </a:lnTo>
                  <a:lnTo>
                    <a:pt x="66738" y="149047"/>
                  </a:lnTo>
                  <a:lnTo>
                    <a:pt x="97193" y="149047"/>
                  </a:lnTo>
                  <a:lnTo>
                    <a:pt x="97193" y="262445"/>
                  </a:lnTo>
                  <a:lnTo>
                    <a:pt x="134467" y="262445"/>
                  </a:lnTo>
                  <a:lnTo>
                    <a:pt x="134467" y="149047"/>
                  </a:lnTo>
                  <a:lnTo>
                    <a:pt x="163614" y="149047"/>
                  </a:lnTo>
                  <a:lnTo>
                    <a:pt x="163614" y="262445"/>
                  </a:lnTo>
                  <a:lnTo>
                    <a:pt x="200875" y="262445"/>
                  </a:lnTo>
                  <a:lnTo>
                    <a:pt x="200875" y="244944"/>
                  </a:lnTo>
                  <a:lnTo>
                    <a:pt x="205549" y="253009"/>
                  </a:lnTo>
                  <a:lnTo>
                    <a:pt x="209550" y="262318"/>
                  </a:lnTo>
                  <a:lnTo>
                    <a:pt x="212458" y="273151"/>
                  </a:lnTo>
                  <a:lnTo>
                    <a:pt x="213842" y="285775"/>
                  </a:lnTo>
                  <a:lnTo>
                    <a:pt x="246570" y="283527"/>
                  </a:lnTo>
                  <a:lnTo>
                    <a:pt x="264223" y="274320"/>
                  </a:lnTo>
                  <a:lnTo>
                    <a:pt x="271437" y="261035"/>
                  </a:lnTo>
                  <a:lnTo>
                    <a:pt x="272808" y="246570"/>
                  </a:lnTo>
                  <a:lnTo>
                    <a:pt x="272808" y="244944"/>
                  </a:lnTo>
                  <a:lnTo>
                    <a:pt x="272808" y="243979"/>
                  </a:lnTo>
                  <a:lnTo>
                    <a:pt x="272808" y="149047"/>
                  </a:lnTo>
                  <a:lnTo>
                    <a:pt x="298729" y="149047"/>
                  </a:lnTo>
                  <a:lnTo>
                    <a:pt x="298729" y="112433"/>
                  </a:lnTo>
                  <a:close/>
                </a:path>
                <a:path w="622935" h="287020">
                  <a:moveTo>
                    <a:pt x="622401" y="114046"/>
                  </a:moveTo>
                  <a:lnTo>
                    <a:pt x="496036" y="114046"/>
                  </a:lnTo>
                  <a:lnTo>
                    <a:pt x="496036" y="103352"/>
                  </a:lnTo>
                  <a:lnTo>
                    <a:pt x="518668" y="85890"/>
                  </a:lnTo>
                  <a:lnTo>
                    <a:pt x="545528" y="63538"/>
                  </a:lnTo>
                  <a:lnTo>
                    <a:pt x="571309" y="40525"/>
                  </a:lnTo>
                  <a:lnTo>
                    <a:pt x="590651" y="21056"/>
                  </a:lnTo>
                  <a:lnTo>
                    <a:pt x="567639" y="1295"/>
                  </a:lnTo>
                  <a:lnTo>
                    <a:pt x="355422" y="1295"/>
                  </a:lnTo>
                  <a:lnTo>
                    <a:pt x="355422" y="37579"/>
                  </a:lnTo>
                  <a:lnTo>
                    <a:pt x="514832" y="37579"/>
                  </a:lnTo>
                  <a:lnTo>
                    <a:pt x="506044" y="46456"/>
                  </a:lnTo>
                  <a:lnTo>
                    <a:pt x="497979" y="53670"/>
                  </a:lnTo>
                  <a:lnTo>
                    <a:pt x="488950" y="60680"/>
                  </a:lnTo>
                  <a:lnTo>
                    <a:pt x="477240" y="69011"/>
                  </a:lnTo>
                  <a:lnTo>
                    <a:pt x="454558" y="66090"/>
                  </a:lnTo>
                  <a:lnTo>
                    <a:pt x="454558" y="114046"/>
                  </a:lnTo>
                  <a:lnTo>
                    <a:pt x="323672" y="114046"/>
                  </a:lnTo>
                  <a:lnTo>
                    <a:pt x="323672" y="150990"/>
                  </a:lnTo>
                  <a:lnTo>
                    <a:pt x="454558" y="150990"/>
                  </a:lnTo>
                  <a:lnTo>
                    <a:pt x="454558" y="223570"/>
                  </a:lnTo>
                  <a:lnTo>
                    <a:pt x="454202" y="235508"/>
                  </a:lnTo>
                  <a:lnTo>
                    <a:pt x="451688" y="242481"/>
                  </a:lnTo>
                  <a:lnTo>
                    <a:pt x="444855" y="245757"/>
                  </a:lnTo>
                  <a:lnTo>
                    <a:pt x="431558" y="246570"/>
                  </a:lnTo>
                  <a:lnTo>
                    <a:pt x="424751" y="246570"/>
                  </a:lnTo>
                  <a:lnTo>
                    <a:pt x="421182" y="245922"/>
                  </a:lnTo>
                  <a:lnTo>
                    <a:pt x="407263" y="244297"/>
                  </a:lnTo>
                  <a:lnTo>
                    <a:pt x="412381" y="257949"/>
                  </a:lnTo>
                  <a:lnTo>
                    <a:pt x="415925" y="268643"/>
                  </a:lnTo>
                  <a:lnTo>
                    <a:pt x="418376" y="277698"/>
                  </a:lnTo>
                  <a:lnTo>
                    <a:pt x="420217" y="286423"/>
                  </a:lnTo>
                  <a:lnTo>
                    <a:pt x="460641" y="284213"/>
                  </a:lnTo>
                  <a:lnTo>
                    <a:pt x="483527" y="275082"/>
                  </a:lnTo>
                  <a:lnTo>
                    <a:pt x="493712" y="260362"/>
                  </a:lnTo>
                  <a:lnTo>
                    <a:pt x="496036" y="241388"/>
                  </a:lnTo>
                  <a:lnTo>
                    <a:pt x="496036" y="150990"/>
                  </a:lnTo>
                  <a:lnTo>
                    <a:pt x="622401" y="150990"/>
                  </a:lnTo>
                  <a:lnTo>
                    <a:pt x="622401" y="1140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bject 119"/>
            <p:cNvSpPr/>
            <p:nvPr/>
          </p:nvSpPr>
          <p:spPr>
            <a:xfrm>
              <a:off x="4163760" y="5067000"/>
              <a:ext cx="287640" cy="286920"/>
            </a:xfrm>
            <a:custGeom>
              <a:avLst/>
              <a:gdLst/>
              <a:ahLst/>
              <a:rect l="l" t="t" r="r" b="b"/>
              <a:pathLst>
                <a:path w="287654" h="287020">
                  <a:moveTo>
                    <a:pt x="287070" y="0"/>
                  </a:moveTo>
                  <a:lnTo>
                    <a:pt x="35001" y="0"/>
                  </a:lnTo>
                  <a:lnTo>
                    <a:pt x="35001" y="128308"/>
                  </a:lnTo>
                  <a:lnTo>
                    <a:pt x="33497" y="166565"/>
                  </a:lnTo>
                  <a:lnTo>
                    <a:pt x="28073" y="204765"/>
                  </a:lnTo>
                  <a:lnTo>
                    <a:pt x="17363" y="240293"/>
                  </a:lnTo>
                  <a:lnTo>
                    <a:pt x="0" y="270535"/>
                  </a:lnTo>
                  <a:lnTo>
                    <a:pt x="6782" y="271706"/>
                  </a:lnTo>
                  <a:lnTo>
                    <a:pt x="17819" y="274513"/>
                  </a:lnTo>
                  <a:lnTo>
                    <a:pt x="30802" y="279382"/>
                  </a:lnTo>
                  <a:lnTo>
                    <a:pt x="43421" y="286740"/>
                  </a:lnTo>
                  <a:lnTo>
                    <a:pt x="58226" y="257372"/>
                  </a:lnTo>
                  <a:lnTo>
                    <a:pt x="67352" y="228703"/>
                  </a:lnTo>
                  <a:lnTo>
                    <a:pt x="72533" y="201674"/>
                  </a:lnTo>
                  <a:lnTo>
                    <a:pt x="75501" y="177228"/>
                  </a:lnTo>
                  <a:lnTo>
                    <a:pt x="287070" y="177228"/>
                  </a:lnTo>
                  <a:lnTo>
                    <a:pt x="287070" y="140614"/>
                  </a:lnTo>
                  <a:lnTo>
                    <a:pt x="77762" y="140614"/>
                  </a:lnTo>
                  <a:lnTo>
                    <a:pt x="78079" y="135102"/>
                  </a:lnTo>
                  <a:lnTo>
                    <a:pt x="78406" y="128308"/>
                  </a:lnTo>
                  <a:lnTo>
                    <a:pt x="78422" y="105295"/>
                  </a:lnTo>
                  <a:lnTo>
                    <a:pt x="287070" y="105295"/>
                  </a:lnTo>
                  <a:lnTo>
                    <a:pt x="287070" y="70307"/>
                  </a:lnTo>
                  <a:lnTo>
                    <a:pt x="78409" y="70307"/>
                  </a:lnTo>
                  <a:lnTo>
                    <a:pt x="78409" y="34988"/>
                  </a:lnTo>
                  <a:lnTo>
                    <a:pt x="287070" y="34988"/>
                  </a:lnTo>
                  <a:lnTo>
                    <a:pt x="287070" y="0"/>
                  </a:lnTo>
                  <a:close/>
                </a:path>
                <a:path w="287654" h="287020">
                  <a:moveTo>
                    <a:pt x="204774" y="242354"/>
                  </a:moveTo>
                  <a:lnTo>
                    <a:pt x="209567" y="251623"/>
                  </a:lnTo>
                  <a:lnTo>
                    <a:pt x="213929" y="262077"/>
                  </a:lnTo>
                  <a:lnTo>
                    <a:pt x="217442" y="273197"/>
                  </a:lnTo>
                  <a:lnTo>
                    <a:pt x="219684" y="284467"/>
                  </a:lnTo>
                  <a:lnTo>
                    <a:pt x="246340" y="284508"/>
                  </a:lnTo>
                  <a:lnTo>
                    <a:pt x="267712" y="279655"/>
                  </a:lnTo>
                  <a:lnTo>
                    <a:pt x="281917" y="266841"/>
                  </a:lnTo>
                  <a:lnTo>
                    <a:pt x="286650" y="244944"/>
                  </a:lnTo>
                  <a:lnTo>
                    <a:pt x="230378" y="244944"/>
                  </a:lnTo>
                  <a:lnTo>
                    <a:pt x="222594" y="244677"/>
                  </a:lnTo>
                  <a:lnTo>
                    <a:pt x="215509" y="244016"/>
                  </a:lnTo>
                  <a:lnTo>
                    <a:pt x="209457" y="243171"/>
                  </a:lnTo>
                  <a:lnTo>
                    <a:pt x="204774" y="242354"/>
                  </a:lnTo>
                  <a:close/>
                </a:path>
                <a:path w="287654" h="287020">
                  <a:moveTo>
                    <a:pt x="181762" y="177228"/>
                  </a:moveTo>
                  <a:lnTo>
                    <a:pt x="141592" y="177228"/>
                  </a:lnTo>
                  <a:lnTo>
                    <a:pt x="141592" y="270865"/>
                  </a:lnTo>
                  <a:lnTo>
                    <a:pt x="181762" y="270865"/>
                  </a:lnTo>
                  <a:lnTo>
                    <a:pt x="181762" y="177228"/>
                  </a:lnTo>
                  <a:close/>
                </a:path>
                <a:path w="287654" h="287020">
                  <a:moveTo>
                    <a:pt x="287070" y="177228"/>
                  </a:moveTo>
                  <a:lnTo>
                    <a:pt x="246253" y="177228"/>
                  </a:lnTo>
                  <a:lnTo>
                    <a:pt x="246168" y="240293"/>
                  </a:lnTo>
                  <a:lnTo>
                    <a:pt x="244309" y="244944"/>
                  </a:lnTo>
                  <a:lnTo>
                    <a:pt x="286650" y="244944"/>
                  </a:lnTo>
                  <a:lnTo>
                    <a:pt x="287034" y="243171"/>
                  </a:lnTo>
                  <a:lnTo>
                    <a:pt x="287070" y="177228"/>
                  </a:lnTo>
                  <a:close/>
                </a:path>
                <a:path w="287654" h="287020">
                  <a:moveTo>
                    <a:pt x="181762" y="105295"/>
                  </a:moveTo>
                  <a:lnTo>
                    <a:pt x="141592" y="105295"/>
                  </a:lnTo>
                  <a:lnTo>
                    <a:pt x="141592" y="140614"/>
                  </a:lnTo>
                  <a:lnTo>
                    <a:pt x="181762" y="140614"/>
                  </a:lnTo>
                  <a:lnTo>
                    <a:pt x="181762" y="105295"/>
                  </a:lnTo>
                  <a:close/>
                </a:path>
                <a:path w="287654" h="287020">
                  <a:moveTo>
                    <a:pt x="287070" y="105295"/>
                  </a:moveTo>
                  <a:lnTo>
                    <a:pt x="246240" y="105295"/>
                  </a:lnTo>
                  <a:lnTo>
                    <a:pt x="246240" y="140614"/>
                  </a:lnTo>
                  <a:lnTo>
                    <a:pt x="287070" y="140614"/>
                  </a:lnTo>
                  <a:lnTo>
                    <a:pt x="287070" y="105295"/>
                  </a:lnTo>
                  <a:close/>
                </a:path>
                <a:path w="287654" h="287020">
                  <a:moveTo>
                    <a:pt x="181762" y="34988"/>
                  </a:moveTo>
                  <a:lnTo>
                    <a:pt x="141592" y="34988"/>
                  </a:lnTo>
                  <a:lnTo>
                    <a:pt x="141592" y="70307"/>
                  </a:lnTo>
                  <a:lnTo>
                    <a:pt x="181762" y="70307"/>
                  </a:lnTo>
                  <a:lnTo>
                    <a:pt x="181762" y="34988"/>
                  </a:lnTo>
                  <a:close/>
                </a:path>
                <a:path w="287654" h="287020">
                  <a:moveTo>
                    <a:pt x="287070" y="34988"/>
                  </a:moveTo>
                  <a:lnTo>
                    <a:pt x="246240" y="34988"/>
                  </a:lnTo>
                  <a:lnTo>
                    <a:pt x="246240" y="70307"/>
                  </a:lnTo>
                  <a:lnTo>
                    <a:pt x="287070" y="70307"/>
                  </a:lnTo>
                  <a:lnTo>
                    <a:pt x="287070" y="349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bject 120"/>
            <p:cNvSpPr/>
            <p:nvPr/>
          </p:nvSpPr>
          <p:spPr>
            <a:xfrm>
              <a:off x="4513320" y="5054040"/>
              <a:ext cx="935640" cy="299520"/>
            </a:xfrm>
            <a:custGeom>
              <a:avLst/>
              <a:gdLst/>
              <a:ahLst/>
              <a:rect l="l" t="t" r="r" b="b"/>
              <a:pathLst>
                <a:path w="935989" h="299720">
                  <a:moveTo>
                    <a:pt x="227457" y="18148"/>
                  </a:moveTo>
                  <a:lnTo>
                    <a:pt x="40182" y="18148"/>
                  </a:lnTo>
                  <a:lnTo>
                    <a:pt x="40182" y="57670"/>
                  </a:lnTo>
                  <a:lnTo>
                    <a:pt x="227457" y="57670"/>
                  </a:lnTo>
                  <a:lnTo>
                    <a:pt x="227457" y="18148"/>
                  </a:lnTo>
                  <a:close/>
                </a:path>
                <a:path w="935989" h="299720">
                  <a:moveTo>
                    <a:pt x="266992" y="110490"/>
                  </a:moveTo>
                  <a:lnTo>
                    <a:pt x="239776" y="91363"/>
                  </a:lnTo>
                  <a:lnTo>
                    <a:pt x="235051" y="92506"/>
                  </a:lnTo>
                  <a:lnTo>
                    <a:pt x="229273" y="93433"/>
                  </a:lnTo>
                  <a:lnTo>
                    <a:pt x="221856" y="94068"/>
                  </a:lnTo>
                  <a:lnTo>
                    <a:pt x="212229" y="94284"/>
                  </a:lnTo>
                  <a:lnTo>
                    <a:pt x="0" y="94284"/>
                  </a:lnTo>
                  <a:lnTo>
                    <a:pt x="0" y="134467"/>
                  </a:lnTo>
                  <a:lnTo>
                    <a:pt x="203492" y="134467"/>
                  </a:lnTo>
                  <a:lnTo>
                    <a:pt x="173824" y="188798"/>
                  </a:lnTo>
                  <a:lnTo>
                    <a:pt x="137096" y="225475"/>
                  </a:lnTo>
                  <a:lnTo>
                    <a:pt x="97269" y="248970"/>
                  </a:lnTo>
                  <a:lnTo>
                    <a:pt x="58331" y="263740"/>
                  </a:lnTo>
                  <a:lnTo>
                    <a:pt x="66497" y="271780"/>
                  </a:lnTo>
                  <a:lnTo>
                    <a:pt x="74358" y="280352"/>
                  </a:lnTo>
                  <a:lnTo>
                    <a:pt x="81737" y="289547"/>
                  </a:lnTo>
                  <a:lnTo>
                    <a:pt x="88455" y="299389"/>
                  </a:lnTo>
                  <a:lnTo>
                    <a:pt x="132676" y="279146"/>
                  </a:lnTo>
                  <a:lnTo>
                    <a:pt x="170345" y="254076"/>
                  </a:lnTo>
                  <a:lnTo>
                    <a:pt x="203276" y="220802"/>
                  </a:lnTo>
                  <a:lnTo>
                    <a:pt x="233286" y="175945"/>
                  </a:lnTo>
                  <a:lnTo>
                    <a:pt x="260121" y="123825"/>
                  </a:lnTo>
                  <a:lnTo>
                    <a:pt x="266992" y="110490"/>
                  </a:lnTo>
                  <a:close/>
                </a:path>
                <a:path w="935989" h="299720">
                  <a:moveTo>
                    <a:pt x="574776" y="64808"/>
                  </a:moveTo>
                  <a:lnTo>
                    <a:pt x="566953" y="55105"/>
                  </a:lnTo>
                  <a:lnTo>
                    <a:pt x="559028" y="46507"/>
                  </a:lnTo>
                  <a:lnTo>
                    <a:pt x="550316" y="38379"/>
                  </a:lnTo>
                  <a:lnTo>
                    <a:pt x="540118" y="30137"/>
                  </a:lnTo>
                  <a:lnTo>
                    <a:pt x="520992" y="50863"/>
                  </a:lnTo>
                  <a:lnTo>
                    <a:pt x="528599" y="57442"/>
                  </a:lnTo>
                  <a:lnTo>
                    <a:pt x="536143" y="64808"/>
                  </a:lnTo>
                  <a:lnTo>
                    <a:pt x="544918" y="74282"/>
                  </a:lnTo>
                  <a:lnTo>
                    <a:pt x="555345" y="86182"/>
                  </a:lnTo>
                  <a:lnTo>
                    <a:pt x="566420" y="73863"/>
                  </a:lnTo>
                  <a:lnTo>
                    <a:pt x="571017" y="68795"/>
                  </a:lnTo>
                  <a:lnTo>
                    <a:pt x="574776" y="64808"/>
                  </a:lnTo>
                  <a:close/>
                </a:path>
                <a:path w="935989" h="299720">
                  <a:moveTo>
                    <a:pt x="606526" y="33045"/>
                  </a:moveTo>
                  <a:lnTo>
                    <a:pt x="599122" y="24790"/>
                  </a:lnTo>
                  <a:lnTo>
                    <a:pt x="590296" y="15798"/>
                  </a:lnTo>
                  <a:lnTo>
                    <a:pt x="581152" y="7175"/>
                  </a:lnTo>
                  <a:lnTo>
                    <a:pt x="572833" y="0"/>
                  </a:lnTo>
                  <a:lnTo>
                    <a:pt x="553720" y="19443"/>
                  </a:lnTo>
                  <a:lnTo>
                    <a:pt x="562724" y="27406"/>
                  </a:lnTo>
                  <a:lnTo>
                    <a:pt x="571296" y="36042"/>
                  </a:lnTo>
                  <a:lnTo>
                    <a:pt x="579513" y="45046"/>
                  </a:lnTo>
                  <a:lnTo>
                    <a:pt x="587413" y="54114"/>
                  </a:lnTo>
                  <a:lnTo>
                    <a:pt x="589673" y="51282"/>
                  </a:lnTo>
                  <a:lnTo>
                    <a:pt x="594309" y="45770"/>
                  </a:lnTo>
                  <a:lnTo>
                    <a:pt x="600265" y="39166"/>
                  </a:lnTo>
                  <a:lnTo>
                    <a:pt x="606526" y="33045"/>
                  </a:lnTo>
                  <a:close/>
                </a:path>
                <a:path w="935989" h="299720">
                  <a:moveTo>
                    <a:pt x="610743" y="215138"/>
                  </a:moveTo>
                  <a:lnTo>
                    <a:pt x="557733" y="167195"/>
                  </a:lnTo>
                  <a:lnTo>
                    <a:pt x="530237" y="137960"/>
                  </a:lnTo>
                  <a:lnTo>
                    <a:pt x="499605" y="101739"/>
                  </a:lnTo>
                  <a:lnTo>
                    <a:pt x="476338" y="73863"/>
                  </a:lnTo>
                  <a:lnTo>
                    <a:pt x="459676" y="57073"/>
                  </a:lnTo>
                  <a:lnTo>
                    <a:pt x="446303" y="48844"/>
                  </a:lnTo>
                  <a:lnTo>
                    <a:pt x="432866" y="46659"/>
                  </a:lnTo>
                  <a:lnTo>
                    <a:pt x="419011" y="48945"/>
                  </a:lnTo>
                  <a:lnTo>
                    <a:pt x="404685" y="57353"/>
                  </a:lnTo>
                  <a:lnTo>
                    <a:pt x="386930" y="74282"/>
                  </a:lnTo>
                  <a:lnTo>
                    <a:pt x="362877" y="102057"/>
                  </a:lnTo>
                  <a:lnTo>
                    <a:pt x="353237" y="113449"/>
                  </a:lnTo>
                  <a:lnTo>
                    <a:pt x="338747" y="129692"/>
                  </a:lnTo>
                  <a:lnTo>
                    <a:pt x="321322" y="147269"/>
                  </a:lnTo>
                  <a:lnTo>
                    <a:pt x="302933" y="162648"/>
                  </a:lnTo>
                  <a:lnTo>
                    <a:pt x="335343" y="196672"/>
                  </a:lnTo>
                  <a:lnTo>
                    <a:pt x="337273" y="198615"/>
                  </a:lnTo>
                  <a:lnTo>
                    <a:pt x="338251" y="199910"/>
                  </a:lnTo>
                  <a:lnTo>
                    <a:pt x="344081" y="199910"/>
                  </a:lnTo>
                  <a:lnTo>
                    <a:pt x="344081" y="192455"/>
                  </a:lnTo>
                  <a:lnTo>
                    <a:pt x="356196" y="175831"/>
                  </a:lnTo>
                  <a:lnTo>
                    <a:pt x="388556" y="135140"/>
                  </a:lnTo>
                  <a:lnTo>
                    <a:pt x="419544" y="99593"/>
                  </a:lnTo>
                  <a:lnTo>
                    <a:pt x="431253" y="94284"/>
                  </a:lnTo>
                  <a:lnTo>
                    <a:pt x="436994" y="95123"/>
                  </a:lnTo>
                  <a:lnTo>
                    <a:pt x="442950" y="99275"/>
                  </a:lnTo>
                  <a:lnTo>
                    <a:pt x="451891" y="109194"/>
                  </a:lnTo>
                  <a:lnTo>
                    <a:pt x="466559" y="127330"/>
                  </a:lnTo>
                  <a:lnTo>
                    <a:pt x="503402" y="171615"/>
                  </a:lnTo>
                  <a:lnTo>
                    <a:pt x="533793" y="205994"/>
                  </a:lnTo>
                  <a:lnTo>
                    <a:pt x="559333" y="232956"/>
                  </a:lnTo>
                  <a:lnTo>
                    <a:pt x="581583" y="254990"/>
                  </a:lnTo>
                  <a:lnTo>
                    <a:pt x="587552" y="245808"/>
                  </a:lnTo>
                  <a:lnTo>
                    <a:pt x="595312" y="234708"/>
                  </a:lnTo>
                  <a:lnTo>
                    <a:pt x="603504" y="223786"/>
                  </a:lnTo>
                  <a:lnTo>
                    <a:pt x="610743" y="215138"/>
                  </a:lnTo>
                  <a:close/>
                </a:path>
                <a:path w="935989" h="299720">
                  <a:moveTo>
                    <a:pt x="748449" y="27216"/>
                  </a:moveTo>
                  <a:lnTo>
                    <a:pt x="744232" y="27216"/>
                  </a:lnTo>
                  <a:lnTo>
                    <a:pt x="740994" y="26885"/>
                  </a:lnTo>
                  <a:lnTo>
                    <a:pt x="695642" y="24625"/>
                  </a:lnTo>
                  <a:lnTo>
                    <a:pt x="695642" y="119557"/>
                  </a:lnTo>
                  <a:lnTo>
                    <a:pt x="693305" y="151739"/>
                  </a:lnTo>
                  <a:lnTo>
                    <a:pt x="683564" y="181889"/>
                  </a:lnTo>
                  <a:lnTo>
                    <a:pt x="662279" y="211010"/>
                  </a:lnTo>
                  <a:lnTo>
                    <a:pt x="625322" y="240093"/>
                  </a:lnTo>
                  <a:lnTo>
                    <a:pt x="640829" y="250774"/>
                  </a:lnTo>
                  <a:lnTo>
                    <a:pt x="651040" y="258927"/>
                  </a:lnTo>
                  <a:lnTo>
                    <a:pt x="657529" y="265201"/>
                  </a:lnTo>
                  <a:lnTo>
                    <a:pt x="661936" y="270230"/>
                  </a:lnTo>
                  <a:lnTo>
                    <a:pt x="693127" y="243319"/>
                  </a:lnTo>
                  <a:lnTo>
                    <a:pt x="718794" y="211429"/>
                  </a:lnTo>
                  <a:lnTo>
                    <a:pt x="736206" y="170535"/>
                  </a:lnTo>
                  <a:lnTo>
                    <a:pt x="742619" y="116649"/>
                  </a:lnTo>
                  <a:lnTo>
                    <a:pt x="742619" y="37261"/>
                  </a:lnTo>
                  <a:lnTo>
                    <a:pt x="745210" y="36296"/>
                  </a:lnTo>
                  <a:lnTo>
                    <a:pt x="748449" y="34671"/>
                  </a:lnTo>
                  <a:lnTo>
                    <a:pt x="748449" y="27216"/>
                  </a:lnTo>
                  <a:close/>
                </a:path>
                <a:path w="935989" h="299720">
                  <a:moveTo>
                    <a:pt x="935723" y="153263"/>
                  </a:moveTo>
                  <a:lnTo>
                    <a:pt x="928903" y="144030"/>
                  </a:lnTo>
                  <a:lnTo>
                    <a:pt x="923531" y="135242"/>
                  </a:lnTo>
                  <a:lnTo>
                    <a:pt x="918819" y="125425"/>
                  </a:lnTo>
                  <a:lnTo>
                    <a:pt x="914019" y="113080"/>
                  </a:lnTo>
                  <a:lnTo>
                    <a:pt x="895794" y="136918"/>
                  </a:lnTo>
                  <a:lnTo>
                    <a:pt x="873988" y="160832"/>
                  </a:lnTo>
                  <a:lnTo>
                    <a:pt x="849033" y="183476"/>
                  </a:lnTo>
                  <a:lnTo>
                    <a:pt x="821347" y="203479"/>
                  </a:lnTo>
                  <a:lnTo>
                    <a:pt x="821347" y="33705"/>
                  </a:lnTo>
                  <a:lnTo>
                    <a:pt x="824255" y="32080"/>
                  </a:lnTo>
                  <a:lnTo>
                    <a:pt x="827506" y="30784"/>
                  </a:lnTo>
                  <a:lnTo>
                    <a:pt x="827506" y="24295"/>
                  </a:lnTo>
                  <a:lnTo>
                    <a:pt x="824903" y="24295"/>
                  </a:lnTo>
                  <a:lnTo>
                    <a:pt x="821347" y="23977"/>
                  </a:lnTo>
                  <a:lnTo>
                    <a:pt x="776312" y="21704"/>
                  </a:lnTo>
                  <a:lnTo>
                    <a:pt x="776198" y="234569"/>
                  </a:lnTo>
                  <a:lnTo>
                    <a:pt x="775906" y="240906"/>
                  </a:lnTo>
                  <a:lnTo>
                    <a:pt x="775487" y="247243"/>
                  </a:lnTo>
                  <a:lnTo>
                    <a:pt x="775017" y="253707"/>
                  </a:lnTo>
                  <a:lnTo>
                    <a:pt x="804824" y="273138"/>
                  </a:lnTo>
                  <a:lnTo>
                    <a:pt x="810564" y="268363"/>
                  </a:lnTo>
                  <a:lnTo>
                    <a:pt x="817003" y="263347"/>
                  </a:lnTo>
                  <a:lnTo>
                    <a:pt x="826922" y="256006"/>
                  </a:lnTo>
                  <a:lnTo>
                    <a:pt x="843064" y="244309"/>
                  </a:lnTo>
                  <a:lnTo>
                    <a:pt x="867371" y="225031"/>
                  </a:lnTo>
                  <a:lnTo>
                    <a:pt x="890727" y="203479"/>
                  </a:lnTo>
                  <a:lnTo>
                    <a:pt x="892784" y="201587"/>
                  </a:lnTo>
                  <a:lnTo>
                    <a:pt x="916495" y="176745"/>
                  </a:lnTo>
                  <a:lnTo>
                    <a:pt x="935723" y="153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object 121" descr=""/>
          <p:cNvPicPr/>
          <p:nvPr/>
        </p:nvPicPr>
        <p:blipFill>
          <a:blip r:embed="rId48"/>
          <a:stretch/>
        </p:blipFill>
        <p:spPr>
          <a:xfrm>
            <a:off x="5465880" y="9594720"/>
            <a:ext cx="503280" cy="649440"/>
          </a:xfrm>
          <a:prstGeom prst="rect">
            <a:avLst/>
          </a:prstGeom>
          <a:ln w="0">
            <a:noFill/>
          </a:ln>
        </p:spPr>
      </p:pic>
      <p:pic>
        <p:nvPicPr>
          <p:cNvPr id="162" name="object 122" descr=""/>
          <p:cNvPicPr/>
          <p:nvPr/>
        </p:nvPicPr>
        <p:blipFill>
          <a:blip r:embed="rId49"/>
          <a:stretch/>
        </p:blipFill>
        <p:spPr>
          <a:xfrm>
            <a:off x="5465880" y="841212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163" name="object 123" descr=""/>
          <p:cNvPicPr/>
          <p:nvPr/>
        </p:nvPicPr>
        <p:blipFill>
          <a:blip r:embed="rId50"/>
          <a:stretch/>
        </p:blipFill>
        <p:spPr>
          <a:xfrm>
            <a:off x="5465880" y="722304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124" descr=""/>
          <p:cNvPicPr/>
          <p:nvPr/>
        </p:nvPicPr>
        <p:blipFill>
          <a:blip r:embed="rId51"/>
          <a:stretch/>
        </p:blipFill>
        <p:spPr>
          <a:xfrm>
            <a:off x="5465880" y="6033960"/>
            <a:ext cx="503280" cy="64800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125" descr=""/>
          <p:cNvPicPr/>
          <p:nvPr/>
        </p:nvPicPr>
        <p:blipFill>
          <a:blip r:embed="rId52"/>
          <a:stretch/>
        </p:blipFill>
        <p:spPr>
          <a:xfrm>
            <a:off x="1601640" y="9361440"/>
            <a:ext cx="792360" cy="1116000"/>
          </a:xfrm>
          <a:prstGeom prst="rect">
            <a:avLst/>
          </a:prstGeom>
          <a:ln w="0">
            <a:noFill/>
          </a:ln>
        </p:spPr>
      </p:pic>
      <p:pic>
        <p:nvPicPr>
          <p:cNvPr id="166" name="object 126" descr=""/>
          <p:cNvPicPr/>
          <p:nvPr/>
        </p:nvPicPr>
        <p:blipFill>
          <a:blip r:embed="rId53"/>
          <a:stretch/>
        </p:blipFill>
        <p:spPr>
          <a:xfrm>
            <a:off x="1601640" y="8178840"/>
            <a:ext cx="792360" cy="111600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127" descr=""/>
          <p:cNvPicPr/>
          <p:nvPr/>
        </p:nvPicPr>
        <p:blipFill>
          <a:blip r:embed="rId54"/>
          <a:stretch/>
        </p:blipFill>
        <p:spPr>
          <a:xfrm>
            <a:off x="1601640" y="6988320"/>
            <a:ext cx="792360" cy="1117440"/>
          </a:xfrm>
          <a:prstGeom prst="rect">
            <a:avLst/>
          </a:prstGeom>
          <a:ln w="0">
            <a:noFill/>
          </a:ln>
        </p:spPr>
      </p:pic>
      <p:pic>
        <p:nvPicPr>
          <p:cNvPr id="168" name="object 128" descr=""/>
          <p:cNvPicPr/>
          <p:nvPr/>
        </p:nvPicPr>
        <p:blipFill>
          <a:blip r:embed="rId55"/>
          <a:stretch/>
        </p:blipFill>
        <p:spPr>
          <a:xfrm>
            <a:off x="1601640" y="5799240"/>
            <a:ext cx="79236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4T23:58:54Z</dcterms:created>
  <dc:creator>A19-205</dc:creator>
  <dc:description/>
  <dc:language>en-US</dc:language>
  <cp:lastModifiedBy>A19-205</cp:lastModifiedBy>
  <dcterms:modified xsi:type="dcterms:W3CDTF">2022-03-25T00:00:34Z</dcterms:modified>
  <cp:revision>1</cp:revision>
  <dc:subject/>
  <dc:title>【閲覧用】fscdummy_0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2-03-25T00:00:00Z</vt:filetime>
  </property>
  <property fmtid="{D5CDD505-2E9C-101B-9397-08002B2CF9AE}" pid="3" name="Creator">
    <vt:lpwstr>Adobe Illustrator 25.0 (Windows)</vt:lpwstr>
  </property>
  <property fmtid="{D5CDD505-2E9C-101B-9397-08002B2CF9AE}" pid="4" name="LastSaved">
    <vt:filetime>2022-03-24T00:00:00Z</vt:filetime>
  </property>
</Properties>
</file>