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1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53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8" name="Group 166"/>
            <p:cNvGrpSpPr/>
            <p:nvPr/>
          </p:nvGrpSpPr>
          <p:grpSpPr>
            <a:xfrm>
              <a:off x="61920" y="1314360"/>
              <a:ext cx="9837720" cy="4444920"/>
              <a:chOff x="61920" y="1314360"/>
              <a:chExt cx="9837720" cy="4444920"/>
            </a:xfrm>
          </p:grpSpPr>
          <p:sp>
            <p:nvSpPr>
              <p:cNvPr id="69" name="Rectangle 107"/>
              <p:cNvSpPr/>
              <p:nvPr/>
            </p:nvSpPr>
            <p:spPr>
              <a:xfrm>
                <a:off x="1440000" y="1440000"/>
                <a:ext cx="8459640" cy="431928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71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が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で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Group 145"/>
            <p:cNvGrpSpPr/>
            <p:nvPr/>
          </p:nvGrpSpPr>
          <p:grpSpPr>
            <a:xfrm>
              <a:off x="61920" y="3024000"/>
              <a:ext cx="1736640" cy="684000"/>
              <a:chOff x="61920" y="3024000"/>
              <a:chExt cx="1736640" cy="684000"/>
            </a:xfrm>
          </p:grpSpPr>
          <p:sp>
            <p:nvSpPr>
              <p:cNvPr id="74" name="Line 69"/>
              <p:cNvSpPr/>
              <p:nvPr/>
            </p:nvSpPr>
            <p:spPr>
              <a:xfrm>
                <a:off x="719280" y="3364920"/>
                <a:ext cx="10792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70"/>
              <p:cNvSpPr/>
              <p:nvPr/>
            </p:nvSpPr>
            <p:spPr>
              <a:xfrm>
                <a:off x="61920" y="3024000"/>
                <a:ext cx="93672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の内側に作成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67"/>
            <p:cNvGrpSpPr/>
            <p:nvPr/>
          </p:nvGrpSpPr>
          <p:grpSpPr>
            <a:xfrm>
              <a:off x="1444680" y="1444680"/>
              <a:ext cx="8451720" cy="4314600"/>
              <a:chOff x="1444680" y="1444680"/>
              <a:chExt cx="8451720" cy="4314600"/>
            </a:xfrm>
          </p:grpSpPr>
          <p:sp>
            <p:nvSpPr>
              <p:cNvPr id="77" name="Line 157"/>
              <p:cNvSpPr/>
              <p:nvPr/>
            </p:nvSpPr>
            <p:spPr>
              <a:xfrm>
                <a:off x="1444680" y="1444680"/>
                <a:ext cx="457200" cy="253800"/>
              </a:xfrm>
              <a:prstGeom prst="line">
                <a:avLst/>
              </a:prstGeom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58"/>
              <p:cNvSpPr/>
              <p:nvPr/>
            </p:nvSpPr>
            <p:spPr>
              <a:xfrm flipH="1">
                <a:off x="9435600" y="1444680"/>
                <a:ext cx="460440" cy="253800"/>
              </a:xfrm>
              <a:prstGeom prst="line">
                <a:avLst/>
              </a:prstGeom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60"/>
              <p:cNvSpPr/>
              <p:nvPr/>
            </p:nvSpPr>
            <p:spPr>
              <a:xfrm>
                <a:off x="1444680" y="1698480"/>
                <a:ext cx="8451720" cy="4060800"/>
              </a:xfrm>
              <a:custGeom>
                <a:avLst/>
                <a:gdLst/>
                <a:ahLst/>
                <a:rect l="l" t="t" r="r" b="b"/>
                <a:pathLst>
                  <a:path w="5324" h="2558">
                    <a:moveTo>
                      <a:pt x="0" y="2558"/>
                    </a:moveTo>
                    <a:lnTo>
                      <a:pt x="114" y="0"/>
                    </a:lnTo>
                    <a:lnTo>
                      <a:pt x="5210" y="0"/>
                    </a:lnTo>
                    <a:lnTo>
                      <a:pt x="5324" y="2558"/>
                    </a:lnTo>
                    <a:lnTo>
                      <a:pt x="0" y="2558"/>
                    </a:lnTo>
                    <a:close/>
                  </a:path>
                </a:pathLst>
              </a:custGeom>
              <a:noFill/>
              <a:ln w="1260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3"/>
              <p:cNvSpPr/>
              <p:nvPr/>
            </p:nvSpPr>
            <p:spPr>
              <a:xfrm>
                <a:off x="1444680" y="1444680"/>
                <a:ext cx="718920" cy="4314600"/>
              </a:xfrm>
              <a:custGeom>
                <a:avLst/>
                <a:gdLst/>
                <a:ahLst/>
                <a:rect l="l" t="t" r="r" b="b"/>
                <a:pathLst>
                  <a:path w="453" h="2718">
                    <a:moveTo>
                      <a:pt x="0" y="0"/>
                    </a:moveTo>
                    <a:lnTo>
                      <a:pt x="453" y="250"/>
                    </a:lnTo>
                    <a:lnTo>
                      <a:pt x="453" y="2638"/>
                    </a:lnTo>
                    <a:lnTo>
                      <a:pt x="0" y="2718"/>
                    </a:lnTo>
                  </a:path>
                </a:pathLst>
              </a:custGeom>
              <a:noFill/>
              <a:ln w="6480">
                <a:solidFill>
                  <a:srgbClr val="cccc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64"/>
              <p:cNvSpPr/>
              <p:nvPr/>
            </p:nvSpPr>
            <p:spPr>
              <a:xfrm>
                <a:off x="9175680" y="1444680"/>
                <a:ext cx="720720" cy="4314600"/>
              </a:xfrm>
              <a:custGeom>
                <a:avLst/>
                <a:gdLst/>
                <a:ahLst/>
                <a:rect l="l" t="t" r="r" b="b"/>
                <a:pathLst>
                  <a:path w="454" h="2718">
                    <a:moveTo>
                      <a:pt x="454" y="0"/>
                    </a:moveTo>
                    <a:lnTo>
                      <a:pt x="0" y="250"/>
                    </a:lnTo>
                    <a:lnTo>
                      <a:pt x="0" y="2638"/>
                    </a:lnTo>
                    <a:lnTo>
                      <a:pt x="454" y="2718"/>
                    </a:lnTo>
                  </a:path>
                </a:pathLst>
              </a:custGeom>
              <a:noFill/>
              <a:ln w="6480">
                <a:solidFill>
                  <a:srgbClr val="cccc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70"/>
            <p:cNvGrpSpPr/>
            <p:nvPr/>
          </p:nvGrpSpPr>
          <p:grpSpPr>
            <a:xfrm>
              <a:off x="54000" y="54000"/>
              <a:ext cx="6008760" cy="900000"/>
              <a:chOff x="54000" y="54000"/>
              <a:chExt cx="6008760" cy="900000"/>
            </a:xfrm>
          </p:grpSpPr>
          <p:sp>
            <p:nvSpPr>
              <p:cNvPr id="83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洋長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封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×235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144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67"/>
              <p:cNvSpPr/>
              <p:nvPr/>
            </p:nvSpPr>
            <p:spPr>
              <a:xfrm>
                <a:off x="1384200" y="54000"/>
                <a:ext cx="467856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封筒の周囲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と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ベロ（フタ）部分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は印刷できません。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水色の線の内側に作成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貼り合わせ部分（下図の灰色の点線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かかるベタや、広い面積で色をつけた場合など、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データは黒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色の濃淡で作成してください。色の掛け合わせは使用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正常に変換ができ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用紙サイズの変更や、トンボの移動、変形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説明用の枠などは削除してください。（削除の仕方は同封の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でご確認いただけます。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を作成する際は、テンプレートと同じサイズで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が作成されている事をご確認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ＭＳ ゴシック"/>
                  </a:rPr>
                  <a:t>認証エリアには予め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ＭＳ ゴシック"/>
                  </a:rPr>
                  <a:t>マークが印刷されてい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" name="図 2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92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グループ化 23"/>
            <p:cNvGrpSpPr/>
            <p:nvPr/>
          </p:nvGrpSpPr>
          <p:grpSpPr>
            <a:xfrm>
              <a:off x="1800000" y="3056400"/>
              <a:ext cx="7740000" cy="2566440"/>
              <a:chOff x="1800000" y="3056400"/>
              <a:chExt cx="7740000" cy="2566440"/>
            </a:xfrm>
          </p:grpSpPr>
          <p:sp>
            <p:nvSpPr>
              <p:cNvPr id="88" name="object 40"/>
              <p:cNvSpPr/>
              <p:nvPr/>
            </p:nvSpPr>
            <p:spPr>
              <a:xfrm>
                <a:off x="1817640" y="5190480"/>
                <a:ext cx="954360" cy="432360"/>
              </a:xfrm>
              <a:custGeom>
                <a:avLst/>
                <a:gdLst/>
                <a:ahLst/>
                <a:rect l="l" t="t" r="r" b="b"/>
                <a:pathLst>
                  <a:path w="954405" h="432435">
                    <a:moveTo>
                      <a:pt x="905230" y="0"/>
                    </a:moveTo>
                    <a:lnTo>
                      <a:pt x="48806" y="0"/>
                    </a:lnTo>
                    <a:lnTo>
                      <a:pt x="29810" y="4242"/>
                    </a:lnTo>
                    <a:lnTo>
                      <a:pt x="14297" y="15813"/>
                    </a:lnTo>
                    <a:lnTo>
                      <a:pt x="3836" y="32977"/>
                    </a:lnTo>
                    <a:lnTo>
                      <a:pt x="0" y="54000"/>
                    </a:lnTo>
                    <a:lnTo>
                      <a:pt x="0" y="378015"/>
                    </a:lnTo>
                    <a:lnTo>
                      <a:pt x="3836" y="399033"/>
                    </a:lnTo>
                    <a:lnTo>
                      <a:pt x="14297" y="416198"/>
                    </a:lnTo>
                    <a:lnTo>
                      <a:pt x="29810" y="427771"/>
                    </a:lnTo>
                    <a:lnTo>
                      <a:pt x="48806" y="432015"/>
                    </a:lnTo>
                    <a:lnTo>
                      <a:pt x="905230" y="432015"/>
                    </a:lnTo>
                    <a:lnTo>
                      <a:pt x="924219" y="427771"/>
                    </a:lnTo>
                    <a:lnTo>
                      <a:pt x="939720" y="416198"/>
                    </a:lnTo>
                    <a:lnTo>
                      <a:pt x="950168" y="399033"/>
                    </a:lnTo>
                    <a:lnTo>
                      <a:pt x="953998" y="378015"/>
                    </a:lnTo>
                    <a:lnTo>
                      <a:pt x="953998" y="54000"/>
                    </a:lnTo>
                    <a:lnTo>
                      <a:pt x="950168" y="32977"/>
                    </a:lnTo>
                    <a:lnTo>
                      <a:pt x="939720" y="15813"/>
                    </a:lnTo>
                    <a:lnTo>
                      <a:pt x="924219" y="4242"/>
                    </a:lnTo>
                    <a:lnTo>
                      <a:pt x="905230" y="0"/>
                    </a:lnTo>
                    <a:close/>
                  </a:path>
                </a:pathLst>
              </a:custGeom>
              <a:solidFill>
                <a:srgbClr val="e1f4fd"/>
              </a:solidFill>
              <a:ln w="3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グループ化 25"/>
              <p:cNvGrpSpPr/>
              <p:nvPr/>
            </p:nvGrpSpPr>
            <p:grpSpPr>
              <a:xfrm>
                <a:off x="1800000" y="3056400"/>
                <a:ext cx="7740000" cy="2566440"/>
                <a:chOff x="1800000" y="3056400"/>
                <a:chExt cx="7740000" cy="2566440"/>
              </a:xfrm>
            </p:grpSpPr>
            <p:sp>
              <p:nvSpPr>
                <p:cNvPr id="90" name="object 39"/>
                <p:cNvSpPr/>
                <p:nvPr/>
              </p:nvSpPr>
              <p:spPr>
                <a:xfrm>
                  <a:off x="1800000" y="3056400"/>
                  <a:ext cx="7740000" cy="2340720"/>
                </a:xfrm>
                <a:custGeom>
                  <a:avLst/>
                  <a:gdLst/>
                  <a:ahLst/>
                  <a:rect l="l" t="t" r="r" b="b"/>
                  <a:pathLst>
                    <a:path w="7740015" h="2340610">
                      <a:moveTo>
                        <a:pt x="0" y="0"/>
                      </a:moveTo>
                      <a:lnTo>
                        <a:pt x="7740002" y="0"/>
                      </a:lnTo>
                      <a:lnTo>
                        <a:pt x="7740002" y="2340000"/>
                      </a:lnTo>
                      <a:lnTo>
                        <a:pt x="1078865" y="2340000"/>
                      </a:lnTo>
                      <a:lnTo>
                        <a:pt x="1078865" y="2015998"/>
                      </a:lnTo>
                      <a:lnTo>
                        <a:pt x="0" y="20159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object 41"/>
                <p:cNvSpPr/>
                <p:nvPr/>
              </p:nvSpPr>
              <p:spPr>
                <a:xfrm>
                  <a:off x="1817640" y="5190480"/>
                  <a:ext cx="954360" cy="432360"/>
                </a:xfrm>
                <a:custGeom>
                  <a:avLst/>
                  <a:gdLst/>
                  <a:ahLst/>
                  <a:rect l="l" t="t" r="r" b="b"/>
                  <a:pathLst>
                    <a:path w="954405" h="432435">
                      <a:moveTo>
                        <a:pt x="48806" y="0"/>
                      </a:moveTo>
                      <a:lnTo>
                        <a:pt x="905230" y="0"/>
                      </a:lnTo>
                      <a:lnTo>
                        <a:pt x="924219" y="4242"/>
                      </a:lnTo>
                      <a:lnTo>
                        <a:pt x="939720" y="15813"/>
                      </a:lnTo>
                      <a:lnTo>
                        <a:pt x="950168" y="32977"/>
                      </a:lnTo>
                      <a:lnTo>
                        <a:pt x="953998" y="54000"/>
                      </a:lnTo>
                      <a:lnTo>
                        <a:pt x="953998" y="378015"/>
                      </a:lnTo>
                      <a:lnTo>
                        <a:pt x="950168" y="399033"/>
                      </a:lnTo>
                      <a:lnTo>
                        <a:pt x="939720" y="416198"/>
                      </a:lnTo>
                      <a:lnTo>
                        <a:pt x="924219" y="427771"/>
                      </a:lnTo>
                      <a:lnTo>
                        <a:pt x="905230" y="432015"/>
                      </a:lnTo>
                      <a:lnTo>
                        <a:pt x="48806" y="432015"/>
                      </a:lnTo>
                      <a:lnTo>
                        <a:pt x="29810" y="427771"/>
                      </a:lnTo>
                      <a:lnTo>
                        <a:pt x="14297" y="416198"/>
                      </a:lnTo>
                      <a:lnTo>
                        <a:pt x="3836" y="399033"/>
                      </a:lnTo>
                      <a:lnTo>
                        <a:pt x="0" y="378015"/>
                      </a:lnTo>
                      <a:lnTo>
                        <a:pt x="0" y="54000"/>
                      </a:lnTo>
                      <a:lnTo>
                        <a:pt x="3836" y="32977"/>
                      </a:lnTo>
                      <a:lnTo>
                        <a:pt x="14297" y="15813"/>
                      </a:lnTo>
                      <a:lnTo>
                        <a:pt x="29810" y="4242"/>
                      </a:lnTo>
                      <a:lnTo>
                        <a:pt x="4880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bject 42"/>
                <p:cNvSpPr/>
                <p:nvPr/>
              </p:nvSpPr>
              <p:spPr>
                <a:xfrm>
                  <a:off x="1869840" y="5349960"/>
                  <a:ext cx="616320" cy="113400"/>
                </a:xfrm>
                <a:custGeom>
                  <a:avLst/>
                  <a:gdLst/>
                  <a:ahLst/>
                  <a:rect l="l" t="t" r="r" b="b"/>
                  <a:pathLst>
                    <a:path w="616585" h="113664">
                      <a:moveTo>
                        <a:pt x="61976" y="3149"/>
                      </a:moveTo>
                      <a:lnTo>
                        <a:pt x="0" y="3149"/>
                      </a:lnTo>
                      <a:lnTo>
                        <a:pt x="0" y="103035"/>
                      </a:lnTo>
                      <a:lnTo>
                        <a:pt x="14998" y="103035"/>
                      </a:lnTo>
                      <a:lnTo>
                        <a:pt x="14998" y="59093"/>
                      </a:lnTo>
                      <a:lnTo>
                        <a:pt x="57937" y="59093"/>
                      </a:lnTo>
                      <a:lnTo>
                        <a:pt x="57937" y="45605"/>
                      </a:lnTo>
                      <a:lnTo>
                        <a:pt x="14998" y="45605"/>
                      </a:lnTo>
                      <a:lnTo>
                        <a:pt x="14998" y="16764"/>
                      </a:lnTo>
                      <a:lnTo>
                        <a:pt x="61976" y="16764"/>
                      </a:lnTo>
                      <a:lnTo>
                        <a:pt x="61976" y="3149"/>
                      </a:lnTo>
                      <a:close/>
                    </a:path>
                    <a:path w="616585" h="113664">
                      <a:moveTo>
                        <a:pt x="137833" y="74701"/>
                      </a:moveTo>
                      <a:lnTo>
                        <a:pt x="109105" y="44970"/>
                      </a:lnTo>
                      <a:lnTo>
                        <a:pt x="98666" y="41325"/>
                      </a:lnTo>
                      <a:lnTo>
                        <a:pt x="92367" y="38303"/>
                      </a:lnTo>
                      <a:lnTo>
                        <a:pt x="92367" y="21170"/>
                      </a:lnTo>
                      <a:lnTo>
                        <a:pt x="99034" y="14744"/>
                      </a:lnTo>
                      <a:lnTo>
                        <a:pt x="116801" y="14744"/>
                      </a:lnTo>
                      <a:lnTo>
                        <a:pt x="122974" y="17145"/>
                      </a:lnTo>
                      <a:lnTo>
                        <a:pt x="128892" y="21297"/>
                      </a:lnTo>
                      <a:lnTo>
                        <a:pt x="132422" y="7442"/>
                      </a:lnTo>
                      <a:lnTo>
                        <a:pt x="121081" y="1143"/>
                      </a:lnTo>
                      <a:lnTo>
                        <a:pt x="109105" y="1143"/>
                      </a:lnTo>
                      <a:lnTo>
                        <a:pt x="96393" y="3302"/>
                      </a:lnTo>
                      <a:lnTo>
                        <a:pt x="86347" y="9309"/>
                      </a:lnTo>
                      <a:lnTo>
                        <a:pt x="79743" y="18516"/>
                      </a:lnTo>
                      <a:lnTo>
                        <a:pt x="77368" y="30238"/>
                      </a:lnTo>
                      <a:lnTo>
                        <a:pt x="79095" y="40259"/>
                      </a:lnTo>
                      <a:lnTo>
                        <a:pt x="84124" y="47840"/>
                      </a:lnTo>
                      <a:lnTo>
                        <a:pt x="92303" y="53594"/>
                      </a:lnTo>
                      <a:lnTo>
                        <a:pt x="103454" y="58077"/>
                      </a:lnTo>
                      <a:lnTo>
                        <a:pt x="111429" y="61074"/>
                      </a:lnTo>
                      <a:lnTo>
                        <a:pt x="117551" y="64731"/>
                      </a:lnTo>
                      <a:lnTo>
                        <a:pt x="121462" y="69494"/>
                      </a:lnTo>
                      <a:lnTo>
                        <a:pt x="122847" y="75831"/>
                      </a:lnTo>
                      <a:lnTo>
                        <a:pt x="121081" y="82626"/>
                      </a:lnTo>
                      <a:lnTo>
                        <a:pt x="116370" y="87515"/>
                      </a:lnTo>
                      <a:lnTo>
                        <a:pt x="109613" y="90462"/>
                      </a:lnTo>
                      <a:lnTo>
                        <a:pt x="101676" y="91452"/>
                      </a:lnTo>
                      <a:lnTo>
                        <a:pt x="92989" y="91452"/>
                      </a:lnTo>
                      <a:lnTo>
                        <a:pt x="85051" y="88303"/>
                      </a:lnTo>
                      <a:lnTo>
                        <a:pt x="77762" y="83146"/>
                      </a:lnTo>
                      <a:lnTo>
                        <a:pt x="73469" y="96621"/>
                      </a:lnTo>
                      <a:lnTo>
                        <a:pt x="80289" y="100393"/>
                      </a:lnTo>
                      <a:lnTo>
                        <a:pt x="87376" y="103022"/>
                      </a:lnTo>
                      <a:lnTo>
                        <a:pt x="94818" y="104559"/>
                      </a:lnTo>
                      <a:lnTo>
                        <a:pt x="102692" y="105067"/>
                      </a:lnTo>
                      <a:lnTo>
                        <a:pt x="117170" y="102781"/>
                      </a:lnTo>
                      <a:lnTo>
                        <a:pt x="128244" y="96456"/>
                      </a:lnTo>
                      <a:lnTo>
                        <a:pt x="135343" y="86829"/>
                      </a:lnTo>
                      <a:lnTo>
                        <a:pt x="137833" y="74701"/>
                      </a:lnTo>
                      <a:close/>
                    </a:path>
                    <a:path w="616585" h="113664">
                      <a:moveTo>
                        <a:pt x="236118" y="10337"/>
                      </a:moveTo>
                      <a:lnTo>
                        <a:pt x="228828" y="6248"/>
                      </a:lnTo>
                      <a:lnTo>
                        <a:pt x="221259" y="3378"/>
                      </a:lnTo>
                      <a:lnTo>
                        <a:pt x="213347" y="1701"/>
                      </a:lnTo>
                      <a:lnTo>
                        <a:pt x="205003" y="1155"/>
                      </a:lnTo>
                      <a:lnTo>
                        <a:pt x="184302" y="4787"/>
                      </a:lnTo>
                      <a:lnTo>
                        <a:pt x="167411" y="15176"/>
                      </a:lnTo>
                      <a:lnTo>
                        <a:pt x="156019" y="31597"/>
                      </a:lnTo>
                      <a:lnTo>
                        <a:pt x="151841" y="53289"/>
                      </a:lnTo>
                      <a:lnTo>
                        <a:pt x="155257" y="73177"/>
                      </a:lnTo>
                      <a:lnTo>
                        <a:pt x="165417" y="89662"/>
                      </a:lnTo>
                      <a:lnTo>
                        <a:pt x="182130" y="100901"/>
                      </a:lnTo>
                      <a:lnTo>
                        <a:pt x="205244" y="105067"/>
                      </a:lnTo>
                      <a:lnTo>
                        <a:pt x="213258" y="104622"/>
                      </a:lnTo>
                      <a:lnTo>
                        <a:pt x="221145" y="103301"/>
                      </a:lnTo>
                      <a:lnTo>
                        <a:pt x="228815" y="101028"/>
                      </a:lnTo>
                      <a:lnTo>
                        <a:pt x="236118" y="97764"/>
                      </a:lnTo>
                      <a:lnTo>
                        <a:pt x="236118" y="81521"/>
                      </a:lnTo>
                      <a:lnTo>
                        <a:pt x="229768" y="85610"/>
                      </a:lnTo>
                      <a:lnTo>
                        <a:pt x="222732" y="88747"/>
                      </a:lnTo>
                      <a:lnTo>
                        <a:pt x="214884" y="90754"/>
                      </a:lnTo>
                      <a:lnTo>
                        <a:pt x="206133" y="91465"/>
                      </a:lnTo>
                      <a:lnTo>
                        <a:pt x="188353" y="88150"/>
                      </a:lnTo>
                      <a:lnTo>
                        <a:pt x="176136" y="79438"/>
                      </a:lnTo>
                      <a:lnTo>
                        <a:pt x="169100" y="67170"/>
                      </a:lnTo>
                      <a:lnTo>
                        <a:pt x="166839" y="53162"/>
                      </a:lnTo>
                      <a:lnTo>
                        <a:pt x="169341" y="38442"/>
                      </a:lnTo>
                      <a:lnTo>
                        <a:pt x="176682" y="26212"/>
                      </a:lnTo>
                      <a:lnTo>
                        <a:pt x="188607" y="17843"/>
                      </a:lnTo>
                      <a:lnTo>
                        <a:pt x="204863" y="14757"/>
                      </a:lnTo>
                      <a:lnTo>
                        <a:pt x="213296" y="15519"/>
                      </a:lnTo>
                      <a:lnTo>
                        <a:pt x="220484" y="17564"/>
                      </a:lnTo>
                      <a:lnTo>
                        <a:pt x="226441" y="20535"/>
                      </a:lnTo>
                      <a:lnTo>
                        <a:pt x="231203" y="24066"/>
                      </a:lnTo>
                      <a:lnTo>
                        <a:pt x="236118" y="10337"/>
                      </a:lnTo>
                      <a:close/>
                    </a:path>
                    <a:path w="616585" h="113664">
                      <a:moveTo>
                        <a:pt x="291058" y="54914"/>
                      </a:moveTo>
                      <a:lnTo>
                        <a:pt x="251764" y="54914"/>
                      </a:lnTo>
                      <a:lnTo>
                        <a:pt x="251764" y="66128"/>
                      </a:lnTo>
                      <a:lnTo>
                        <a:pt x="291058" y="66128"/>
                      </a:lnTo>
                      <a:lnTo>
                        <a:pt x="291058" y="54914"/>
                      </a:lnTo>
                      <a:close/>
                    </a:path>
                    <a:path w="616585" h="113664">
                      <a:moveTo>
                        <a:pt x="291058" y="36029"/>
                      </a:moveTo>
                      <a:lnTo>
                        <a:pt x="251764" y="36029"/>
                      </a:lnTo>
                      <a:lnTo>
                        <a:pt x="251764" y="47244"/>
                      </a:lnTo>
                      <a:lnTo>
                        <a:pt x="291058" y="47244"/>
                      </a:lnTo>
                      <a:lnTo>
                        <a:pt x="291058" y="36029"/>
                      </a:lnTo>
                      <a:close/>
                    </a:path>
                    <a:path w="616585" h="113664">
                      <a:moveTo>
                        <a:pt x="291058" y="266"/>
                      </a:moveTo>
                      <a:lnTo>
                        <a:pt x="251764" y="266"/>
                      </a:lnTo>
                      <a:lnTo>
                        <a:pt x="251764" y="11480"/>
                      </a:lnTo>
                      <a:lnTo>
                        <a:pt x="291058" y="11480"/>
                      </a:lnTo>
                      <a:lnTo>
                        <a:pt x="291058" y="266"/>
                      </a:lnTo>
                      <a:close/>
                    </a:path>
                    <a:path w="616585" h="113664">
                      <a:moveTo>
                        <a:pt x="295351" y="17894"/>
                      </a:moveTo>
                      <a:lnTo>
                        <a:pt x="247853" y="17894"/>
                      </a:lnTo>
                      <a:lnTo>
                        <a:pt x="247853" y="29362"/>
                      </a:lnTo>
                      <a:lnTo>
                        <a:pt x="295351" y="29362"/>
                      </a:lnTo>
                      <a:lnTo>
                        <a:pt x="295351" y="17894"/>
                      </a:lnTo>
                      <a:close/>
                    </a:path>
                    <a:path w="616585" h="113664">
                      <a:moveTo>
                        <a:pt x="309714" y="71678"/>
                      </a:moveTo>
                      <a:lnTo>
                        <a:pt x="298119" y="70789"/>
                      </a:lnTo>
                      <a:lnTo>
                        <a:pt x="296926" y="80187"/>
                      </a:lnTo>
                      <a:lnTo>
                        <a:pt x="295300" y="87680"/>
                      </a:lnTo>
                      <a:lnTo>
                        <a:pt x="293319" y="93649"/>
                      </a:lnTo>
                      <a:lnTo>
                        <a:pt x="291058" y="98501"/>
                      </a:lnTo>
                      <a:lnTo>
                        <a:pt x="291058" y="84404"/>
                      </a:lnTo>
                      <a:lnTo>
                        <a:pt x="291058" y="73571"/>
                      </a:lnTo>
                      <a:lnTo>
                        <a:pt x="279971" y="73571"/>
                      </a:lnTo>
                      <a:lnTo>
                        <a:pt x="279971" y="84404"/>
                      </a:lnTo>
                      <a:lnTo>
                        <a:pt x="279971" y="101155"/>
                      </a:lnTo>
                      <a:lnTo>
                        <a:pt x="262978" y="101155"/>
                      </a:lnTo>
                      <a:lnTo>
                        <a:pt x="262978" y="84404"/>
                      </a:lnTo>
                      <a:lnTo>
                        <a:pt x="279971" y="84404"/>
                      </a:lnTo>
                      <a:lnTo>
                        <a:pt x="279971" y="73571"/>
                      </a:lnTo>
                      <a:lnTo>
                        <a:pt x="251764" y="73571"/>
                      </a:lnTo>
                      <a:lnTo>
                        <a:pt x="251764" y="111988"/>
                      </a:lnTo>
                      <a:lnTo>
                        <a:pt x="291058" y="111988"/>
                      </a:lnTo>
                      <a:lnTo>
                        <a:pt x="291058" y="102285"/>
                      </a:lnTo>
                      <a:lnTo>
                        <a:pt x="299999" y="108077"/>
                      </a:lnTo>
                      <a:lnTo>
                        <a:pt x="302450" y="102285"/>
                      </a:lnTo>
                      <a:lnTo>
                        <a:pt x="302933" y="101155"/>
                      </a:lnTo>
                      <a:lnTo>
                        <a:pt x="304050" y="98501"/>
                      </a:lnTo>
                      <a:lnTo>
                        <a:pt x="304228" y="98082"/>
                      </a:lnTo>
                      <a:lnTo>
                        <a:pt x="307073" y="88036"/>
                      </a:lnTo>
                      <a:lnTo>
                        <a:pt x="308813" y="78905"/>
                      </a:lnTo>
                      <a:lnTo>
                        <a:pt x="309714" y="71678"/>
                      </a:lnTo>
                      <a:close/>
                    </a:path>
                    <a:path w="616585" h="113664">
                      <a:moveTo>
                        <a:pt x="342696" y="66395"/>
                      </a:moveTo>
                      <a:lnTo>
                        <a:pt x="337591" y="61696"/>
                      </a:lnTo>
                      <a:lnTo>
                        <a:pt x="332422" y="57569"/>
                      </a:lnTo>
                      <a:lnTo>
                        <a:pt x="327139" y="53924"/>
                      </a:lnTo>
                      <a:lnTo>
                        <a:pt x="321665" y="50647"/>
                      </a:lnTo>
                      <a:lnTo>
                        <a:pt x="314363" y="59588"/>
                      </a:lnTo>
                      <a:lnTo>
                        <a:pt x="321868" y="64211"/>
                      </a:lnTo>
                      <a:lnTo>
                        <a:pt x="328041" y="68656"/>
                      </a:lnTo>
                      <a:lnTo>
                        <a:pt x="332701" y="72466"/>
                      </a:lnTo>
                      <a:lnTo>
                        <a:pt x="336029" y="75463"/>
                      </a:lnTo>
                      <a:lnTo>
                        <a:pt x="342696" y="66395"/>
                      </a:lnTo>
                      <a:close/>
                    </a:path>
                    <a:path w="616585" h="113664">
                      <a:moveTo>
                        <a:pt x="349758" y="92583"/>
                      </a:moveTo>
                      <a:lnTo>
                        <a:pt x="338416" y="89065"/>
                      </a:lnTo>
                      <a:lnTo>
                        <a:pt x="337540" y="98767"/>
                      </a:lnTo>
                      <a:lnTo>
                        <a:pt x="337172" y="101917"/>
                      </a:lnTo>
                      <a:lnTo>
                        <a:pt x="326199" y="101917"/>
                      </a:lnTo>
                      <a:lnTo>
                        <a:pt x="325183" y="101155"/>
                      </a:lnTo>
                      <a:lnTo>
                        <a:pt x="325183" y="71678"/>
                      </a:lnTo>
                      <a:lnTo>
                        <a:pt x="313359" y="71678"/>
                      </a:lnTo>
                      <a:lnTo>
                        <a:pt x="313359" y="108585"/>
                      </a:lnTo>
                      <a:lnTo>
                        <a:pt x="316255" y="113245"/>
                      </a:lnTo>
                      <a:lnTo>
                        <a:pt x="346227" y="113245"/>
                      </a:lnTo>
                      <a:lnTo>
                        <a:pt x="348373" y="106565"/>
                      </a:lnTo>
                      <a:lnTo>
                        <a:pt x="348830" y="101917"/>
                      </a:lnTo>
                      <a:lnTo>
                        <a:pt x="349758" y="92583"/>
                      </a:lnTo>
                      <a:close/>
                    </a:path>
                    <a:path w="616585" h="113664">
                      <a:moveTo>
                        <a:pt x="361975" y="266"/>
                      </a:moveTo>
                      <a:lnTo>
                        <a:pt x="299364" y="266"/>
                      </a:lnTo>
                      <a:lnTo>
                        <a:pt x="299364" y="11087"/>
                      </a:lnTo>
                      <a:lnTo>
                        <a:pt x="319151" y="11087"/>
                      </a:lnTo>
                      <a:lnTo>
                        <a:pt x="318770" y="13995"/>
                      </a:lnTo>
                      <a:lnTo>
                        <a:pt x="318516" y="15748"/>
                      </a:lnTo>
                      <a:lnTo>
                        <a:pt x="317512" y="19659"/>
                      </a:lnTo>
                      <a:lnTo>
                        <a:pt x="310083" y="17386"/>
                      </a:lnTo>
                      <a:lnTo>
                        <a:pt x="307936" y="16891"/>
                      </a:lnTo>
                      <a:lnTo>
                        <a:pt x="303657" y="16002"/>
                      </a:lnTo>
                      <a:lnTo>
                        <a:pt x="299364" y="25704"/>
                      </a:lnTo>
                      <a:lnTo>
                        <a:pt x="306679" y="27851"/>
                      </a:lnTo>
                      <a:lnTo>
                        <a:pt x="308940" y="28600"/>
                      </a:lnTo>
                      <a:lnTo>
                        <a:pt x="292442" y="47244"/>
                      </a:lnTo>
                      <a:lnTo>
                        <a:pt x="300380" y="57696"/>
                      </a:lnTo>
                      <a:lnTo>
                        <a:pt x="309575" y="51320"/>
                      </a:lnTo>
                      <a:lnTo>
                        <a:pt x="316077" y="45262"/>
                      </a:lnTo>
                      <a:lnTo>
                        <a:pt x="320624" y="39636"/>
                      </a:lnTo>
                      <a:lnTo>
                        <a:pt x="323938" y="34518"/>
                      </a:lnTo>
                      <a:lnTo>
                        <a:pt x="330390" y="37566"/>
                      </a:lnTo>
                      <a:lnTo>
                        <a:pt x="332625" y="38938"/>
                      </a:lnTo>
                      <a:lnTo>
                        <a:pt x="336397" y="41325"/>
                      </a:lnTo>
                      <a:lnTo>
                        <a:pt x="339928" y="34518"/>
                      </a:lnTo>
                      <a:lnTo>
                        <a:pt x="341820" y="30873"/>
                      </a:lnTo>
                      <a:lnTo>
                        <a:pt x="338543" y="28600"/>
                      </a:lnTo>
                      <a:lnTo>
                        <a:pt x="336651" y="27457"/>
                      </a:lnTo>
                      <a:lnTo>
                        <a:pt x="328726" y="23939"/>
                      </a:lnTo>
                      <a:lnTo>
                        <a:pt x="330136" y="19659"/>
                      </a:lnTo>
                      <a:lnTo>
                        <a:pt x="330225" y="19405"/>
                      </a:lnTo>
                      <a:lnTo>
                        <a:pt x="330987" y="16510"/>
                      </a:lnTo>
                      <a:lnTo>
                        <a:pt x="331863" y="11087"/>
                      </a:lnTo>
                      <a:lnTo>
                        <a:pt x="350888" y="11087"/>
                      </a:lnTo>
                      <a:lnTo>
                        <a:pt x="344093" y="42964"/>
                      </a:lnTo>
                      <a:lnTo>
                        <a:pt x="332511" y="42964"/>
                      </a:lnTo>
                      <a:lnTo>
                        <a:pt x="334391" y="55308"/>
                      </a:lnTo>
                      <a:lnTo>
                        <a:pt x="352031" y="55308"/>
                      </a:lnTo>
                      <a:lnTo>
                        <a:pt x="355549" y="53797"/>
                      </a:lnTo>
                      <a:lnTo>
                        <a:pt x="361861" y="11480"/>
                      </a:lnTo>
                      <a:lnTo>
                        <a:pt x="361975" y="266"/>
                      </a:lnTo>
                      <a:close/>
                    </a:path>
                    <a:path w="616585" h="113664">
                      <a:moveTo>
                        <a:pt x="367512" y="104305"/>
                      </a:moveTo>
                      <a:lnTo>
                        <a:pt x="365760" y="94564"/>
                      </a:lnTo>
                      <a:lnTo>
                        <a:pt x="363385" y="85255"/>
                      </a:lnTo>
                      <a:lnTo>
                        <a:pt x="360502" y="76568"/>
                      </a:lnTo>
                      <a:lnTo>
                        <a:pt x="357187" y="68656"/>
                      </a:lnTo>
                      <a:lnTo>
                        <a:pt x="346100" y="71678"/>
                      </a:lnTo>
                      <a:lnTo>
                        <a:pt x="348983" y="79565"/>
                      </a:lnTo>
                      <a:lnTo>
                        <a:pt x="351548" y="88036"/>
                      </a:lnTo>
                      <a:lnTo>
                        <a:pt x="353745" y="97370"/>
                      </a:lnTo>
                      <a:lnTo>
                        <a:pt x="355549" y="108077"/>
                      </a:lnTo>
                      <a:lnTo>
                        <a:pt x="367512" y="104305"/>
                      </a:lnTo>
                      <a:close/>
                    </a:path>
                    <a:path w="616585" h="113664">
                      <a:moveTo>
                        <a:pt x="421970" y="72948"/>
                      </a:moveTo>
                      <a:lnTo>
                        <a:pt x="409244" y="72948"/>
                      </a:lnTo>
                      <a:lnTo>
                        <a:pt x="409244" y="84035"/>
                      </a:lnTo>
                      <a:lnTo>
                        <a:pt x="409244" y="100914"/>
                      </a:lnTo>
                      <a:lnTo>
                        <a:pt x="392874" y="100914"/>
                      </a:lnTo>
                      <a:lnTo>
                        <a:pt x="392874" y="84035"/>
                      </a:lnTo>
                      <a:lnTo>
                        <a:pt x="409244" y="84035"/>
                      </a:lnTo>
                      <a:lnTo>
                        <a:pt x="409244" y="72948"/>
                      </a:lnTo>
                      <a:lnTo>
                        <a:pt x="380403" y="72948"/>
                      </a:lnTo>
                      <a:lnTo>
                        <a:pt x="380403" y="111747"/>
                      </a:lnTo>
                      <a:lnTo>
                        <a:pt x="421970" y="111747"/>
                      </a:lnTo>
                      <a:lnTo>
                        <a:pt x="421970" y="100914"/>
                      </a:lnTo>
                      <a:lnTo>
                        <a:pt x="421970" y="84035"/>
                      </a:lnTo>
                      <a:lnTo>
                        <a:pt x="421970" y="72948"/>
                      </a:lnTo>
                      <a:close/>
                    </a:path>
                    <a:path w="616585" h="113664">
                      <a:moveTo>
                        <a:pt x="421970" y="54546"/>
                      </a:moveTo>
                      <a:lnTo>
                        <a:pt x="380403" y="54546"/>
                      </a:lnTo>
                      <a:lnTo>
                        <a:pt x="380403" y="65887"/>
                      </a:lnTo>
                      <a:lnTo>
                        <a:pt x="421970" y="65887"/>
                      </a:lnTo>
                      <a:lnTo>
                        <a:pt x="421970" y="54546"/>
                      </a:lnTo>
                      <a:close/>
                    </a:path>
                    <a:path w="616585" h="113664">
                      <a:moveTo>
                        <a:pt x="421970" y="35915"/>
                      </a:moveTo>
                      <a:lnTo>
                        <a:pt x="380403" y="35915"/>
                      </a:lnTo>
                      <a:lnTo>
                        <a:pt x="380403" y="47129"/>
                      </a:lnTo>
                      <a:lnTo>
                        <a:pt x="421970" y="47129"/>
                      </a:lnTo>
                      <a:lnTo>
                        <a:pt x="421970" y="35915"/>
                      </a:lnTo>
                      <a:close/>
                    </a:path>
                    <a:path w="616585" h="113664">
                      <a:moveTo>
                        <a:pt x="421970" y="0"/>
                      </a:moveTo>
                      <a:lnTo>
                        <a:pt x="380403" y="0"/>
                      </a:lnTo>
                      <a:lnTo>
                        <a:pt x="380403" y="11341"/>
                      </a:lnTo>
                      <a:lnTo>
                        <a:pt x="421970" y="11341"/>
                      </a:lnTo>
                      <a:lnTo>
                        <a:pt x="421970" y="0"/>
                      </a:lnTo>
                      <a:close/>
                    </a:path>
                    <a:path w="616585" h="113664">
                      <a:moveTo>
                        <a:pt x="426008" y="17894"/>
                      </a:moveTo>
                      <a:lnTo>
                        <a:pt x="376516" y="17894"/>
                      </a:lnTo>
                      <a:lnTo>
                        <a:pt x="376516" y="29362"/>
                      </a:lnTo>
                      <a:lnTo>
                        <a:pt x="426008" y="29362"/>
                      </a:lnTo>
                      <a:lnTo>
                        <a:pt x="426008" y="17894"/>
                      </a:lnTo>
                      <a:close/>
                    </a:path>
                    <a:path w="616585" h="113664">
                      <a:moveTo>
                        <a:pt x="496036" y="97891"/>
                      </a:moveTo>
                      <a:lnTo>
                        <a:pt x="472732" y="97891"/>
                      </a:lnTo>
                      <a:lnTo>
                        <a:pt x="472732" y="57581"/>
                      </a:lnTo>
                      <a:lnTo>
                        <a:pt x="491871" y="57581"/>
                      </a:lnTo>
                      <a:lnTo>
                        <a:pt x="491871" y="45224"/>
                      </a:lnTo>
                      <a:lnTo>
                        <a:pt x="472732" y="45224"/>
                      </a:lnTo>
                      <a:lnTo>
                        <a:pt x="472732" y="12357"/>
                      </a:lnTo>
                      <a:lnTo>
                        <a:pt x="494157" y="12357"/>
                      </a:lnTo>
                      <a:lnTo>
                        <a:pt x="494157" y="12"/>
                      </a:lnTo>
                      <a:lnTo>
                        <a:pt x="428269" y="12"/>
                      </a:lnTo>
                      <a:lnTo>
                        <a:pt x="428269" y="12357"/>
                      </a:lnTo>
                      <a:lnTo>
                        <a:pt x="459765" y="12357"/>
                      </a:lnTo>
                      <a:lnTo>
                        <a:pt x="459765" y="97891"/>
                      </a:lnTo>
                      <a:lnTo>
                        <a:pt x="445909" y="97891"/>
                      </a:lnTo>
                      <a:lnTo>
                        <a:pt x="445909" y="29997"/>
                      </a:lnTo>
                      <a:lnTo>
                        <a:pt x="433057" y="29997"/>
                      </a:lnTo>
                      <a:lnTo>
                        <a:pt x="433057" y="97891"/>
                      </a:lnTo>
                      <a:lnTo>
                        <a:pt x="426008" y="97891"/>
                      </a:lnTo>
                      <a:lnTo>
                        <a:pt x="426008" y="110109"/>
                      </a:lnTo>
                      <a:lnTo>
                        <a:pt x="496036" y="110109"/>
                      </a:lnTo>
                      <a:lnTo>
                        <a:pt x="496036" y="97891"/>
                      </a:lnTo>
                      <a:close/>
                    </a:path>
                    <a:path w="616585" h="113664">
                      <a:moveTo>
                        <a:pt x="616127" y="85534"/>
                      </a:moveTo>
                      <a:lnTo>
                        <a:pt x="570903" y="85534"/>
                      </a:lnTo>
                      <a:lnTo>
                        <a:pt x="570903" y="24574"/>
                      </a:lnTo>
                      <a:lnTo>
                        <a:pt x="609574" y="24574"/>
                      </a:lnTo>
                      <a:lnTo>
                        <a:pt x="609574" y="10604"/>
                      </a:lnTo>
                      <a:lnTo>
                        <a:pt x="517994" y="10604"/>
                      </a:lnTo>
                      <a:lnTo>
                        <a:pt x="517994" y="24574"/>
                      </a:lnTo>
                      <a:lnTo>
                        <a:pt x="556171" y="24574"/>
                      </a:lnTo>
                      <a:lnTo>
                        <a:pt x="556171" y="85534"/>
                      </a:lnTo>
                      <a:lnTo>
                        <a:pt x="511441" y="85534"/>
                      </a:lnTo>
                      <a:lnTo>
                        <a:pt x="511441" y="99504"/>
                      </a:lnTo>
                      <a:lnTo>
                        <a:pt x="616127" y="99504"/>
                      </a:lnTo>
                      <a:lnTo>
                        <a:pt x="616127" y="85534"/>
                      </a:lnTo>
                      <a:close/>
                    </a:path>
                  </a:pathLst>
                </a:custGeom>
                <a:solidFill>
                  <a:srgbClr val="00b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" name="object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12080" y="5352840"/>
                  <a:ext cx="770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object 4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614320" y="5356080"/>
                  <a:ext cx="104760" cy="10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20:04:59Z</dcterms:modified>
  <cp:revision>23</cp:revision>
  <dc:subject/>
  <dc:title>スライド 1</dc:title>
</cp:coreProperties>
</file>