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3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52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54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3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008760" cy="11179080"/>
            <a:chOff x="54000" y="54000"/>
            <a:chExt cx="6008760" cy="11179080"/>
          </a:xfrm>
        </p:grpSpPr>
        <p:pic>
          <p:nvPicPr>
            <p:cNvPr id="67" name="Picture 164" descr=""/>
            <p:cNvPicPr/>
            <p:nvPr/>
          </p:nvPicPr>
          <p:blipFill>
            <a:blip r:embed="rId2"/>
            <a:stretch/>
          </p:blipFill>
          <p:spPr>
            <a:xfrm>
              <a:off x="1438200" y="1438200"/>
              <a:ext cx="4318200" cy="834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58"/>
            <p:cNvGrpSpPr/>
            <p:nvPr/>
          </p:nvGrpSpPr>
          <p:grpSpPr>
            <a:xfrm>
              <a:off x="61920" y="1314360"/>
              <a:ext cx="5697360" cy="8582040"/>
              <a:chOff x="61920" y="1314360"/>
              <a:chExt cx="5697360" cy="8582040"/>
            </a:xfrm>
          </p:grpSpPr>
          <p:sp>
            <p:nvSpPr>
              <p:cNvPr id="69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71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が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で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Group 133"/>
            <p:cNvGrpSpPr/>
            <p:nvPr/>
          </p:nvGrpSpPr>
          <p:grpSpPr>
            <a:xfrm>
              <a:off x="61920" y="2790720"/>
              <a:ext cx="1736640" cy="684000"/>
              <a:chOff x="61920" y="2790720"/>
              <a:chExt cx="1736640" cy="684000"/>
            </a:xfrm>
          </p:grpSpPr>
          <p:sp>
            <p:nvSpPr>
              <p:cNvPr id="74" name="Line 69"/>
              <p:cNvSpPr/>
              <p:nvPr/>
            </p:nvSpPr>
            <p:spPr>
              <a:xfrm>
                <a:off x="719280" y="3131640"/>
                <a:ext cx="10792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70"/>
              <p:cNvSpPr/>
              <p:nvPr/>
            </p:nvSpPr>
            <p:spPr>
              <a:xfrm>
                <a:off x="61920" y="2790720"/>
                <a:ext cx="93672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の内側に作成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61"/>
            <p:cNvGrpSpPr/>
            <p:nvPr/>
          </p:nvGrpSpPr>
          <p:grpSpPr>
            <a:xfrm>
              <a:off x="54000" y="54000"/>
              <a:ext cx="6008760" cy="900000"/>
              <a:chOff x="54000" y="54000"/>
              <a:chExt cx="6008760" cy="900000"/>
            </a:xfrm>
          </p:grpSpPr>
          <p:sp>
            <p:nvSpPr>
              <p:cNvPr id="77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長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封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0×235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Picture 142" descr="新Suprintロゴ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67"/>
              <p:cNvSpPr/>
              <p:nvPr/>
            </p:nvSpPr>
            <p:spPr>
              <a:xfrm>
                <a:off x="1384200" y="54000"/>
                <a:ext cx="467856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封筒の周囲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と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ベロ（フタ）部分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には印刷できません。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水色の線の内側に作成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貼り合わせ部分（下図の灰色の点線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にかかるベタや、広い面積で色をつけた場合など、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データは黒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色の濃淡で作成してください。色の掛け合わせは使用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Century"/>
                    <a:ea typeface="Times New Roman"/>
                  </a:rPr>
                  <a:t>正常に変換ができ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用紙サイズの変更や、トンボの移動、変形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説明用の枠などは削除してください。（削除の仕方は同封の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でご確認いただけます。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を作成する際は、テンプレートと同じサイズで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が作成されている事をご確認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08000" indent="-108000" algn="just">
                  <a:lnSpc>
                    <a:spcPct val="100000"/>
                  </a:lnSpc>
                  <a:buClr>
                    <a:srgbClr val="000000"/>
                  </a:buClr>
                  <a:buFont typeface="ＭＳ Ｐゴシック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FSC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ＭＳ ゴシック"/>
                  </a:rPr>
                  <a:t>認証エリアには予め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  <a:ea typeface="Times New Roman"/>
                  </a:rPr>
                  <a:t>FSC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  <a:ea typeface="ＭＳ ゴシック"/>
                  </a:rPr>
                  <a:t>マークが印刷されてい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図 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20920" y="103330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bject 40"/>
            <p:cNvSpPr/>
            <p:nvPr/>
          </p:nvSpPr>
          <p:spPr>
            <a:xfrm>
              <a:off x="4600440" y="8793360"/>
              <a:ext cx="954360" cy="432360"/>
            </a:xfrm>
            <a:custGeom>
              <a:avLst/>
              <a:gdLst/>
              <a:ahLst/>
              <a:rect l="l" t="t" r="r" b="b"/>
              <a:pathLst>
                <a:path w="954404" h="432434">
                  <a:moveTo>
                    <a:pt x="48793" y="0"/>
                  </a:moveTo>
                  <a:lnTo>
                    <a:pt x="905217" y="0"/>
                  </a:lnTo>
                  <a:lnTo>
                    <a:pt x="924212" y="4242"/>
                  </a:lnTo>
                  <a:lnTo>
                    <a:pt x="939712" y="15811"/>
                  </a:lnTo>
                  <a:lnTo>
                    <a:pt x="950157" y="32971"/>
                  </a:lnTo>
                  <a:lnTo>
                    <a:pt x="953985" y="53987"/>
                  </a:lnTo>
                  <a:lnTo>
                    <a:pt x="953985" y="378015"/>
                  </a:lnTo>
                  <a:lnTo>
                    <a:pt x="950157" y="399031"/>
                  </a:lnTo>
                  <a:lnTo>
                    <a:pt x="939712" y="416191"/>
                  </a:lnTo>
                  <a:lnTo>
                    <a:pt x="924212" y="427761"/>
                  </a:lnTo>
                  <a:lnTo>
                    <a:pt x="905217" y="432003"/>
                  </a:lnTo>
                  <a:lnTo>
                    <a:pt x="48793" y="432003"/>
                  </a:lnTo>
                  <a:lnTo>
                    <a:pt x="29805" y="427761"/>
                  </a:lnTo>
                  <a:lnTo>
                    <a:pt x="14295" y="416191"/>
                  </a:lnTo>
                  <a:lnTo>
                    <a:pt x="3835" y="399031"/>
                  </a:lnTo>
                  <a:lnTo>
                    <a:pt x="0" y="378015"/>
                  </a:lnTo>
                  <a:lnTo>
                    <a:pt x="0" y="53987"/>
                  </a:lnTo>
                  <a:lnTo>
                    <a:pt x="3835" y="32971"/>
                  </a:lnTo>
                  <a:lnTo>
                    <a:pt x="14295" y="15811"/>
                  </a:lnTo>
                  <a:lnTo>
                    <a:pt x="29805" y="4242"/>
                  </a:lnTo>
                  <a:lnTo>
                    <a:pt x="48793" y="0"/>
                  </a:lnTo>
                  <a:close/>
                </a:path>
              </a:pathLst>
            </a:custGeom>
            <a:noFill/>
            <a:ln w="3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グループ化 23"/>
            <p:cNvGrpSpPr/>
            <p:nvPr/>
          </p:nvGrpSpPr>
          <p:grpSpPr>
            <a:xfrm>
              <a:off x="1800000" y="2808000"/>
              <a:ext cx="3754800" cy="6417720"/>
              <a:chOff x="1800000" y="2808000"/>
              <a:chExt cx="3754800" cy="6417720"/>
            </a:xfrm>
          </p:grpSpPr>
          <p:grpSp>
            <p:nvGrpSpPr>
              <p:cNvPr id="83" name="グループ化 24"/>
              <p:cNvGrpSpPr/>
              <p:nvPr/>
            </p:nvGrpSpPr>
            <p:grpSpPr>
              <a:xfrm>
                <a:off x="1800000" y="2808000"/>
                <a:ext cx="3754800" cy="6417720"/>
                <a:chOff x="1800000" y="2808000"/>
                <a:chExt cx="3754800" cy="6417720"/>
              </a:xfrm>
            </p:grpSpPr>
            <p:sp>
              <p:nvSpPr>
                <p:cNvPr id="84" name="object 38"/>
                <p:cNvSpPr/>
                <p:nvPr/>
              </p:nvSpPr>
              <p:spPr>
                <a:xfrm>
                  <a:off x="1800000" y="2808000"/>
                  <a:ext cx="3600720" cy="6192720"/>
                </a:xfrm>
                <a:custGeom>
                  <a:avLst/>
                  <a:gdLst/>
                  <a:ahLst/>
                  <a:rect l="l" t="t" r="r" b="b"/>
                  <a:pathLst>
                    <a:path w="3600450" h="6192520">
                      <a:moveTo>
                        <a:pt x="0" y="0"/>
                      </a:moveTo>
                      <a:lnTo>
                        <a:pt x="3600005" y="0"/>
                      </a:lnTo>
                      <a:lnTo>
                        <a:pt x="3600005" y="5867996"/>
                      </a:lnTo>
                      <a:lnTo>
                        <a:pt x="2694622" y="5867996"/>
                      </a:lnTo>
                      <a:lnTo>
                        <a:pt x="2694622" y="6191999"/>
                      </a:lnTo>
                      <a:lnTo>
                        <a:pt x="0" y="61919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bject 39"/>
                <p:cNvSpPr/>
                <p:nvPr/>
              </p:nvSpPr>
              <p:spPr>
                <a:xfrm>
                  <a:off x="4600440" y="8793360"/>
                  <a:ext cx="954360" cy="432360"/>
                </a:xfrm>
                <a:custGeom>
                  <a:avLst/>
                  <a:gdLst/>
                  <a:ahLst/>
                  <a:rect l="l" t="t" r="r" b="b"/>
                  <a:pathLst>
                    <a:path w="954404" h="432434">
                      <a:moveTo>
                        <a:pt x="905217" y="0"/>
                      </a:moveTo>
                      <a:lnTo>
                        <a:pt x="48793" y="0"/>
                      </a:lnTo>
                      <a:lnTo>
                        <a:pt x="29805" y="4242"/>
                      </a:lnTo>
                      <a:lnTo>
                        <a:pt x="14295" y="15811"/>
                      </a:lnTo>
                      <a:lnTo>
                        <a:pt x="3835" y="32971"/>
                      </a:lnTo>
                      <a:lnTo>
                        <a:pt x="0" y="53987"/>
                      </a:lnTo>
                      <a:lnTo>
                        <a:pt x="0" y="378015"/>
                      </a:lnTo>
                      <a:lnTo>
                        <a:pt x="3835" y="399031"/>
                      </a:lnTo>
                      <a:lnTo>
                        <a:pt x="14295" y="416191"/>
                      </a:lnTo>
                      <a:lnTo>
                        <a:pt x="29805" y="427761"/>
                      </a:lnTo>
                      <a:lnTo>
                        <a:pt x="48793" y="432003"/>
                      </a:lnTo>
                      <a:lnTo>
                        <a:pt x="905217" y="432003"/>
                      </a:lnTo>
                      <a:lnTo>
                        <a:pt x="924212" y="427761"/>
                      </a:lnTo>
                      <a:lnTo>
                        <a:pt x="939712" y="416191"/>
                      </a:lnTo>
                      <a:lnTo>
                        <a:pt x="950157" y="399031"/>
                      </a:lnTo>
                      <a:lnTo>
                        <a:pt x="953985" y="378015"/>
                      </a:lnTo>
                      <a:lnTo>
                        <a:pt x="953985" y="53987"/>
                      </a:lnTo>
                      <a:lnTo>
                        <a:pt x="950157" y="32971"/>
                      </a:lnTo>
                      <a:lnTo>
                        <a:pt x="939712" y="15811"/>
                      </a:lnTo>
                      <a:lnTo>
                        <a:pt x="924212" y="4242"/>
                      </a:lnTo>
                      <a:lnTo>
                        <a:pt x="905217" y="0"/>
                      </a:lnTo>
                      <a:close/>
                    </a:path>
                  </a:pathLst>
                </a:custGeom>
                <a:solidFill>
                  <a:srgbClr val="e1f4fd"/>
                </a:solidFill>
                <a:ln w="3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グループ化 25"/>
              <p:cNvGrpSpPr/>
              <p:nvPr/>
            </p:nvGrpSpPr>
            <p:grpSpPr>
              <a:xfrm>
                <a:off x="4652640" y="8952840"/>
                <a:ext cx="849240" cy="113400"/>
                <a:chOff x="4652640" y="8952840"/>
                <a:chExt cx="849240" cy="113400"/>
              </a:xfrm>
            </p:grpSpPr>
            <p:sp>
              <p:nvSpPr>
                <p:cNvPr id="87" name="object 41"/>
                <p:cNvSpPr/>
                <p:nvPr/>
              </p:nvSpPr>
              <p:spPr>
                <a:xfrm>
                  <a:off x="4652640" y="8952840"/>
                  <a:ext cx="616320" cy="113400"/>
                </a:xfrm>
                <a:custGeom>
                  <a:avLst/>
                  <a:gdLst/>
                  <a:ahLst/>
                  <a:rect l="l" t="t" r="r" b="b"/>
                  <a:pathLst>
                    <a:path w="616585" h="113665">
                      <a:moveTo>
                        <a:pt x="61976" y="3149"/>
                      </a:moveTo>
                      <a:lnTo>
                        <a:pt x="0" y="3149"/>
                      </a:lnTo>
                      <a:lnTo>
                        <a:pt x="0" y="103035"/>
                      </a:lnTo>
                      <a:lnTo>
                        <a:pt x="14986" y="103035"/>
                      </a:lnTo>
                      <a:lnTo>
                        <a:pt x="14986" y="59093"/>
                      </a:lnTo>
                      <a:lnTo>
                        <a:pt x="57937" y="59093"/>
                      </a:lnTo>
                      <a:lnTo>
                        <a:pt x="57937" y="45605"/>
                      </a:lnTo>
                      <a:lnTo>
                        <a:pt x="14986" y="45605"/>
                      </a:lnTo>
                      <a:lnTo>
                        <a:pt x="14986" y="16764"/>
                      </a:lnTo>
                      <a:lnTo>
                        <a:pt x="61976" y="16764"/>
                      </a:lnTo>
                      <a:lnTo>
                        <a:pt x="61976" y="3149"/>
                      </a:lnTo>
                      <a:close/>
                    </a:path>
                    <a:path w="616585" h="113665">
                      <a:moveTo>
                        <a:pt x="137820" y="74701"/>
                      </a:moveTo>
                      <a:lnTo>
                        <a:pt x="109105" y="44970"/>
                      </a:lnTo>
                      <a:lnTo>
                        <a:pt x="98653" y="41325"/>
                      </a:lnTo>
                      <a:lnTo>
                        <a:pt x="92354" y="38303"/>
                      </a:lnTo>
                      <a:lnTo>
                        <a:pt x="92354" y="21170"/>
                      </a:lnTo>
                      <a:lnTo>
                        <a:pt x="99021" y="14744"/>
                      </a:lnTo>
                      <a:lnTo>
                        <a:pt x="116801" y="14744"/>
                      </a:lnTo>
                      <a:lnTo>
                        <a:pt x="122974" y="17145"/>
                      </a:lnTo>
                      <a:lnTo>
                        <a:pt x="128879" y="21297"/>
                      </a:lnTo>
                      <a:lnTo>
                        <a:pt x="132410" y="7442"/>
                      </a:lnTo>
                      <a:lnTo>
                        <a:pt x="121081" y="1143"/>
                      </a:lnTo>
                      <a:lnTo>
                        <a:pt x="109105" y="1143"/>
                      </a:lnTo>
                      <a:lnTo>
                        <a:pt x="96393" y="3302"/>
                      </a:lnTo>
                      <a:lnTo>
                        <a:pt x="86347" y="9321"/>
                      </a:lnTo>
                      <a:lnTo>
                        <a:pt x="79743" y="18529"/>
                      </a:lnTo>
                      <a:lnTo>
                        <a:pt x="77368" y="30238"/>
                      </a:lnTo>
                      <a:lnTo>
                        <a:pt x="79095" y="40259"/>
                      </a:lnTo>
                      <a:lnTo>
                        <a:pt x="84124" y="47853"/>
                      </a:lnTo>
                      <a:lnTo>
                        <a:pt x="92303" y="53594"/>
                      </a:lnTo>
                      <a:lnTo>
                        <a:pt x="103454" y="58077"/>
                      </a:lnTo>
                      <a:lnTo>
                        <a:pt x="111429" y="61087"/>
                      </a:lnTo>
                      <a:lnTo>
                        <a:pt x="117538" y="64731"/>
                      </a:lnTo>
                      <a:lnTo>
                        <a:pt x="121462" y="69494"/>
                      </a:lnTo>
                      <a:lnTo>
                        <a:pt x="122834" y="75831"/>
                      </a:lnTo>
                      <a:lnTo>
                        <a:pt x="121069" y="82638"/>
                      </a:lnTo>
                      <a:lnTo>
                        <a:pt x="116357" y="87515"/>
                      </a:lnTo>
                      <a:lnTo>
                        <a:pt x="109601" y="90474"/>
                      </a:lnTo>
                      <a:lnTo>
                        <a:pt x="101663" y="91452"/>
                      </a:lnTo>
                      <a:lnTo>
                        <a:pt x="92989" y="91452"/>
                      </a:lnTo>
                      <a:lnTo>
                        <a:pt x="85051" y="88303"/>
                      </a:lnTo>
                      <a:lnTo>
                        <a:pt x="77749" y="83146"/>
                      </a:lnTo>
                      <a:lnTo>
                        <a:pt x="73456" y="96621"/>
                      </a:lnTo>
                      <a:lnTo>
                        <a:pt x="80276" y="100393"/>
                      </a:lnTo>
                      <a:lnTo>
                        <a:pt x="87376" y="103022"/>
                      </a:lnTo>
                      <a:lnTo>
                        <a:pt x="94805" y="104571"/>
                      </a:lnTo>
                      <a:lnTo>
                        <a:pt x="102679" y="105067"/>
                      </a:lnTo>
                      <a:lnTo>
                        <a:pt x="117157" y="102793"/>
                      </a:lnTo>
                      <a:lnTo>
                        <a:pt x="128244" y="96456"/>
                      </a:lnTo>
                      <a:lnTo>
                        <a:pt x="135331" y="86842"/>
                      </a:lnTo>
                      <a:lnTo>
                        <a:pt x="137820" y="74701"/>
                      </a:lnTo>
                      <a:close/>
                    </a:path>
                    <a:path w="616585" h="113665">
                      <a:moveTo>
                        <a:pt x="236118" y="10337"/>
                      </a:moveTo>
                      <a:lnTo>
                        <a:pt x="228815" y="6248"/>
                      </a:lnTo>
                      <a:lnTo>
                        <a:pt x="221259" y="3390"/>
                      </a:lnTo>
                      <a:lnTo>
                        <a:pt x="213347" y="1701"/>
                      </a:lnTo>
                      <a:lnTo>
                        <a:pt x="205003" y="1155"/>
                      </a:lnTo>
                      <a:lnTo>
                        <a:pt x="184302" y="4787"/>
                      </a:lnTo>
                      <a:lnTo>
                        <a:pt x="167398" y="15176"/>
                      </a:lnTo>
                      <a:lnTo>
                        <a:pt x="156006" y="31597"/>
                      </a:lnTo>
                      <a:lnTo>
                        <a:pt x="151828" y="53289"/>
                      </a:lnTo>
                      <a:lnTo>
                        <a:pt x="155244" y="73177"/>
                      </a:lnTo>
                      <a:lnTo>
                        <a:pt x="165404" y="89662"/>
                      </a:lnTo>
                      <a:lnTo>
                        <a:pt x="182118" y="100914"/>
                      </a:lnTo>
                      <a:lnTo>
                        <a:pt x="205232" y="105067"/>
                      </a:lnTo>
                      <a:lnTo>
                        <a:pt x="213245" y="104635"/>
                      </a:lnTo>
                      <a:lnTo>
                        <a:pt x="221132" y="103301"/>
                      </a:lnTo>
                      <a:lnTo>
                        <a:pt x="228803" y="101028"/>
                      </a:lnTo>
                      <a:lnTo>
                        <a:pt x="236118" y="97764"/>
                      </a:lnTo>
                      <a:lnTo>
                        <a:pt x="236118" y="81521"/>
                      </a:lnTo>
                      <a:lnTo>
                        <a:pt x="229755" y="85623"/>
                      </a:lnTo>
                      <a:lnTo>
                        <a:pt x="222719" y="88760"/>
                      </a:lnTo>
                      <a:lnTo>
                        <a:pt x="214884" y="90754"/>
                      </a:lnTo>
                      <a:lnTo>
                        <a:pt x="206133" y="91465"/>
                      </a:lnTo>
                      <a:lnTo>
                        <a:pt x="188353" y="88150"/>
                      </a:lnTo>
                      <a:lnTo>
                        <a:pt x="176136" y="79451"/>
                      </a:lnTo>
                      <a:lnTo>
                        <a:pt x="169087" y="67170"/>
                      </a:lnTo>
                      <a:lnTo>
                        <a:pt x="166827" y="53162"/>
                      </a:lnTo>
                      <a:lnTo>
                        <a:pt x="169329" y="38442"/>
                      </a:lnTo>
                      <a:lnTo>
                        <a:pt x="176669" y="26212"/>
                      </a:lnTo>
                      <a:lnTo>
                        <a:pt x="188607" y="17856"/>
                      </a:lnTo>
                      <a:lnTo>
                        <a:pt x="204863" y="14757"/>
                      </a:lnTo>
                      <a:lnTo>
                        <a:pt x="213296" y="15519"/>
                      </a:lnTo>
                      <a:lnTo>
                        <a:pt x="220484" y="17576"/>
                      </a:lnTo>
                      <a:lnTo>
                        <a:pt x="226441" y="20548"/>
                      </a:lnTo>
                      <a:lnTo>
                        <a:pt x="231203" y="24066"/>
                      </a:lnTo>
                      <a:lnTo>
                        <a:pt x="236118" y="10337"/>
                      </a:lnTo>
                      <a:close/>
                    </a:path>
                    <a:path w="616585" h="113665">
                      <a:moveTo>
                        <a:pt x="291058" y="54914"/>
                      </a:moveTo>
                      <a:lnTo>
                        <a:pt x="251752" y="54914"/>
                      </a:lnTo>
                      <a:lnTo>
                        <a:pt x="251752" y="66128"/>
                      </a:lnTo>
                      <a:lnTo>
                        <a:pt x="291058" y="66128"/>
                      </a:lnTo>
                      <a:lnTo>
                        <a:pt x="291058" y="54914"/>
                      </a:lnTo>
                      <a:close/>
                    </a:path>
                    <a:path w="616585" h="113665">
                      <a:moveTo>
                        <a:pt x="291058" y="36029"/>
                      </a:moveTo>
                      <a:lnTo>
                        <a:pt x="251752" y="36029"/>
                      </a:lnTo>
                      <a:lnTo>
                        <a:pt x="251752" y="47244"/>
                      </a:lnTo>
                      <a:lnTo>
                        <a:pt x="291058" y="47244"/>
                      </a:lnTo>
                      <a:lnTo>
                        <a:pt x="291058" y="36029"/>
                      </a:lnTo>
                      <a:close/>
                    </a:path>
                    <a:path w="616585" h="113665">
                      <a:moveTo>
                        <a:pt x="291058" y="266"/>
                      </a:moveTo>
                      <a:lnTo>
                        <a:pt x="251752" y="266"/>
                      </a:lnTo>
                      <a:lnTo>
                        <a:pt x="251752" y="11480"/>
                      </a:lnTo>
                      <a:lnTo>
                        <a:pt x="291058" y="11480"/>
                      </a:lnTo>
                      <a:lnTo>
                        <a:pt x="291058" y="266"/>
                      </a:lnTo>
                      <a:close/>
                    </a:path>
                    <a:path w="616585" h="113665">
                      <a:moveTo>
                        <a:pt x="295351" y="17894"/>
                      </a:moveTo>
                      <a:lnTo>
                        <a:pt x="247840" y="17894"/>
                      </a:lnTo>
                      <a:lnTo>
                        <a:pt x="247840" y="29362"/>
                      </a:lnTo>
                      <a:lnTo>
                        <a:pt x="295351" y="29362"/>
                      </a:lnTo>
                      <a:lnTo>
                        <a:pt x="295351" y="17894"/>
                      </a:lnTo>
                      <a:close/>
                    </a:path>
                    <a:path w="616585" h="113665">
                      <a:moveTo>
                        <a:pt x="309702" y="71678"/>
                      </a:moveTo>
                      <a:lnTo>
                        <a:pt x="298107" y="70789"/>
                      </a:lnTo>
                      <a:lnTo>
                        <a:pt x="296926" y="80200"/>
                      </a:lnTo>
                      <a:lnTo>
                        <a:pt x="295287" y="87680"/>
                      </a:lnTo>
                      <a:lnTo>
                        <a:pt x="293306" y="93649"/>
                      </a:lnTo>
                      <a:lnTo>
                        <a:pt x="291058" y="98501"/>
                      </a:lnTo>
                      <a:lnTo>
                        <a:pt x="291058" y="84404"/>
                      </a:lnTo>
                      <a:lnTo>
                        <a:pt x="291058" y="73571"/>
                      </a:lnTo>
                      <a:lnTo>
                        <a:pt x="279958" y="73571"/>
                      </a:lnTo>
                      <a:lnTo>
                        <a:pt x="279958" y="84404"/>
                      </a:lnTo>
                      <a:lnTo>
                        <a:pt x="279958" y="101155"/>
                      </a:lnTo>
                      <a:lnTo>
                        <a:pt x="262966" y="101155"/>
                      </a:lnTo>
                      <a:lnTo>
                        <a:pt x="262966" y="84404"/>
                      </a:lnTo>
                      <a:lnTo>
                        <a:pt x="279958" y="84404"/>
                      </a:lnTo>
                      <a:lnTo>
                        <a:pt x="279958" y="73571"/>
                      </a:lnTo>
                      <a:lnTo>
                        <a:pt x="251752" y="73571"/>
                      </a:lnTo>
                      <a:lnTo>
                        <a:pt x="251752" y="111988"/>
                      </a:lnTo>
                      <a:lnTo>
                        <a:pt x="291058" y="111988"/>
                      </a:lnTo>
                      <a:lnTo>
                        <a:pt x="291058" y="102285"/>
                      </a:lnTo>
                      <a:lnTo>
                        <a:pt x="299999" y="108077"/>
                      </a:lnTo>
                      <a:lnTo>
                        <a:pt x="302450" y="102285"/>
                      </a:lnTo>
                      <a:lnTo>
                        <a:pt x="302920" y="101155"/>
                      </a:lnTo>
                      <a:lnTo>
                        <a:pt x="304050" y="98501"/>
                      </a:lnTo>
                      <a:lnTo>
                        <a:pt x="304215" y="98094"/>
                      </a:lnTo>
                      <a:lnTo>
                        <a:pt x="307060" y="88036"/>
                      </a:lnTo>
                      <a:lnTo>
                        <a:pt x="308800" y="78917"/>
                      </a:lnTo>
                      <a:lnTo>
                        <a:pt x="309702" y="71678"/>
                      </a:lnTo>
                      <a:close/>
                    </a:path>
                    <a:path w="616585" h="113665">
                      <a:moveTo>
                        <a:pt x="342696" y="66395"/>
                      </a:moveTo>
                      <a:lnTo>
                        <a:pt x="337591" y="61696"/>
                      </a:lnTo>
                      <a:lnTo>
                        <a:pt x="332422" y="57569"/>
                      </a:lnTo>
                      <a:lnTo>
                        <a:pt x="327126" y="53924"/>
                      </a:lnTo>
                      <a:lnTo>
                        <a:pt x="321652" y="50647"/>
                      </a:lnTo>
                      <a:lnTo>
                        <a:pt x="314350" y="59588"/>
                      </a:lnTo>
                      <a:lnTo>
                        <a:pt x="321856" y="64211"/>
                      </a:lnTo>
                      <a:lnTo>
                        <a:pt x="328028" y="68656"/>
                      </a:lnTo>
                      <a:lnTo>
                        <a:pt x="332689" y="72478"/>
                      </a:lnTo>
                      <a:lnTo>
                        <a:pt x="336029" y="75463"/>
                      </a:lnTo>
                      <a:lnTo>
                        <a:pt x="342696" y="66395"/>
                      </a:lnTo>
                      <a:close/>
                    </a:path>
                    <a:path w="616585" h="113665">
                      <a:moveTo>
                        <a:pt x="349745" y="92583"/>
                      </a:moveTo>
                      <a:lnTo>
                        <a:pt x="338416" y="89065"/>
                      </a:lnTo>
                      <a:lnTo>
                        <a:pt x="337527" y="98767"/>
                      </a:lnTo>
                      <a:lnTo>
                        <a:pt x="337159" y="101917"/>
                      </a:lnTo>
                      <a:lnTo>
                        <a:pt x="326186" y="101917"/>
                      </a:lnTo>
                      <a:lnTo>
                        <a:pt x="325183" y="101155"/>
                      </a:lnTo>
                      <a:lnTo>
                        <a:pt x="325183" y="71678"/>
                      </a:lnTo>
                      <a:lnTo>
                        <a:pt x="313347" y="71678"/>
                      </a:lnTo>
                      <a:lnTo>
                        <a:pt x="313347" y="108585"/>
                      </a:lnTo>
                      <a:lnTo>
                        <a:pt x="316242" y="113245"/>
                      </a:lnTo>
                      <a:lnTo>
                        <a:pt x="346214" y="113245"/>
                      </a:lnTo>
                      <a:lnTo>
                        <a:pt x="348373" y="106565"/>
                      </a:lnTo>
                      <a:lnTo>
                        <a:pt x="348830" y="101917"/>
                      </a:lnTo>
                      <a:lnTo>
                        <a:pt x="349745" y="92583"/>
                      </a:lnTo>
                      <a:close/>
                    </a:path>
                    <a:path w="616585" h="113665">
                      <a:moveTo>
                        <a:pt x="361962" y="266"/>
                      </a:moveTo>
                      <a:lnTo>
                        <a:pt x="299364" y="266"/>
                      </a:lnTo>
                      <a:lnTo>
                        <a:pt x="299364" y="11087"/>
                      </a:lnTo>
                      <a:lnTo>
                        <a:pt x="319151" y="11087"/>
                      </a:lnTo>
                      <a:lnTo>
                        <a:pt x="318516" y="15748"/>
                      </a:lnTo>
                      <a:lnTo>
                        <a:pt x="317512" y="19659"/>
                      </a:lnTo>
                      <a:lnTo>
                        <a:pt x="310070" y="17386"/>
                      </a:lnTo>
                      <a:lnTo>
                        <a:pt x="307936" y="16891"/>
                      </a:lnTo>
                      <a:lnTo>
                        <a:pt x="303644" y="16002"/>
                      </a:lnTo>
                      <a:lnTo>
                        <a:pt x="299364" y="25704"/>
                      </a:lnTo>
                      <a:lnTo>
                        <a:pt x="306666" y="27851"/>
                      </a:lnTo>
                      <a:lnTo>
                        <a:pt x="308940" y="28600"/>
                      </a:lnTo>
                      <a:lnTo>
                        <a:pt x="292430" y="47244"/>
                      </a:lnTo>
                      <a:lnTo>
                        <a:pt x="300367" y="57696"/>
                      </a:lnTo>
                      <a:lnTo>
                        <a:pt x="309562" y="51320"/>
                      </a:lnTo>
                      <a:lnTo>
                        <a:pt x="316077" y="45262"/>
                      </a:lnTo>
                      <a:lnTo>
                        <a:pt x="320611" y="39636"/>
                      </a:lnTo>
                      <a:lnTo>
                        <a:pt x="323926" y="34518"/>
                      </a:lnTo>
                      <a:lnTo>
                        <a:pt x="330390" y="37566"/>
                      </a:lnTo>
                      <a:lnTo>
                        <a:pt x="336397" y="41325"/>
                      </a:lnTo>
                      <a:lnTo>
                        <a:pt x="339915" y="34518"/>
                      </a:lnTo>
                      <a:lnTo>
                        <a:pt x="341807" y="30873"/>
                      </a:lnTo>
                      <a:lnTo>
                        <a:pt x="338531" y="28600"/>
                      </a:lnTo>
                      <a:lnTo>
                        <a:pt x="336638" y="27457"/>
                      </a:lnTo>
                      <a:lnTo>
                        <a:pt x="328726" y="23939"/>
                      </a:lnTo>
                      <a:lnTo>
                        <a:pt x="330123" y="19659"/>
                      </a:lnTo>
                      <a:lnTo>
                        <a:pt x="330212" y="19405"/>
                      </a:lnTo>
                      <a:lnTo>
                        <a:pt x="330987" y="16510"/>
                      </a:lnTo>
                      <a:lnTo>
                        <a:pt x="331863" y="11087"/>
                      </a:lnTo>
                      <a:lnTo>
                        <a:pt x="350875" y="11087"/>
                      </a:lnTo>
                      <a:lnTo>
                        <a:pt x="344081" y="42964"/>
                      </a:lnTo>
                      <a:lnTo>
                        <a:pt x="332498" y="42964"/>
                      </a:lnTo>
                      <a:lnTo>
                        <a:pt x="334391" y="55308"/>
                      </a:lnTo>
                      <a:lnTo>
                        <a:pt x="352018" y="55308"/>
                      </a:lnTo>
                      <a:lnTo>
                        <a:pt x="355549" y="53797"/>
                      </a:lnTo>
                      <a:lnTo>
                        <a:pt x="361848" y="11480"/>
                      </a:lnTo>
                      <a:lnTo>
                        <a:pt x="361962" y="266"/>
                      </a:lnTo>
                      <a:close/>
                    </a:path>
                    <a:path w="616585" h="113665">
                      <a:moveTo>
                        <a:pt x="367512" y="104305"/>
                      </a:moveTo>
                      <a:lnTo>
                        <a:pt x="365760" y="94564"/>
                      </a:lnTo>
                      <a:lnTo>
                        <a:pt x="363385" y="85267"/>
                      </a:lnTo>
                      <a:lnTo>
                        <a:pt x="360502" y="76568"/>
                      </a:lnTo>
                      <a:lnTo>
                        <a:pt x="357187" y="68656"/>
                      </a:lnTo>
                      <a:lnTo>
                        <a:pt x="346087" y="71678"/>
                      </a:lnTo>
                      <a:lnTo>
                        <a:pt x="348970" y="79565"/>
                      </a:lnTo>
                      <a:lnTo>
                        <a:pt x="351536" y="88036"/>
                      </a:lnTo>
                      <a:lnTo>
                        <a:pt x="353733" y="97370"/>
                      </a:lnTo>
                      <a:lnTo>
                        <a:pt x="355549" y="108077"/>
                      </a:lnTo>
                      <a:lnTo>
                        <a:pt x="367512" y="104305"/>
                      </a:lnTo>
                      <a:close/>
                    </a:path>
                    <a:path w="616585" h="113665">
                      <a:moveTo>
                        <a:pt x="421970" y="72948"/>
                      </a:moveTo>
                      <a:lnTo>
                        <a:pt x="409232" y="72948"/>
                      </a:lnTo>
                      <a:lnTo>
                        <a:pt x="409232" y="84035"/>
                      </a:lnTo>
                      <a:lnTo>
                        <a:pt x="409232" y="100914"/>
                      </a:lnTo>
                      <a:lnTo>
                        <a:pt x="392861" y="100914"/>
                      </a:lnTo>
                      <a:lnTo>
                        <a:pt x="392861" y="84035"/>
                      </a:lnTo>
                      <a:lnTo>
                        <a:pt x="409232" y="84035"/>
                      </a:lnTo>
                      <a:lnTo>
                        <a:pt x="409232" y="72948"/>
                      </a:lnTo>
                      <a:lnTo>
                        <a:pt x="380390" y="72948"/>
                      </a:lnTo>
                      <a:lnTo>
                        <a:pt x="380390" y="111747"/>
                      </a:lnTo>
                      <a:lnTo>
                        <a:pt x="421970" y="111747"/>
                      </a:lnTo>
                      <a:lnTo>
                        <a:pt x="421970" y="100914"/>
                      </a:lnTo>
                      <a:lnTo>
                        <a:pt x="421970" y="84035"/>
                      </a:lnTo>
                      <a:lnTo>
                        <a:pt x="421970" y="72948"/>
                      </a:lnTo>
                      <a:close/>
                    </a:path>
                    <a:path w="616585" h="113665">
                      <a:moveTo>
                        <a:pt x="421970" y="54546"/>
                      </a:moveTo>
                      <a:lnTo>
                        <a:pt x="380390" y="54546"/>
                      </a:lnTo>
                      <a:lnTo>
                        <a:pt x="380390" y="65887"/>
                      </a:lnTo>
                      <a:lnTo>
                        <a:pt x="421970" y="65887"/>
                      </a:lnTo>
                      <a:lnTo>
                        <a:pt x="421970" y="54546"/>
                      </a:lnTo>
                      <a:close/>
                    </a:path>
                    <a:path w="616585" h="113665">
                      <a:moveTo>
                        <a:pt x="421970" y="35915"/>
                      </a:moveTo>
                      <a:lnTo>
                        <a:pt x="380390" y="35915"/>
                      </a:lnTo>
                      <a:lnTo>
                        <a:pt x="380390" y="47129"/>
                      </a:lnTo>
                      <a:lnTo>
                        <a:pt x="421970" y="47129"/>
                      </a:lnTo>
                      <a:lnTo>
                        <a:pt x="421970" y="35915"/>
                      </a:lnTo>
                      <a:close/>
                    </a:path>
                    <a:path w="616585" h="113665">
                      <a:moveTo>
                        <a:pt x="421970" y="0"/>
                      </a:moveTo>
                      <a:lnTo>
                        <a:pt x="380390" y="0"/>
                      </a:lnTo>
                      <a:lnTo>
                        <a:pt x="380390" y="11341"/>
                      </a:lnTo>
                      <a:lnTo>
                        <a:pt x="421970" y="11341"/>
                      </a:lnTo>
                      <a:lnTo>
                        <a:pt x="421970" y="0"/>
                      </a:lnTo>
                      <a:close/>
                    </a:path>
                    <a:path w="616585" h="113665">
                      <a:moveTo>
                        <a:pt x="425996" y="17894"/>
                      </a:moveTo>
                      <a:lnTo>
                        <a:pt x="376516" y="17894"/>
                      </a:lnTo>
                      <a:lnTo>
                        <a:pt x="376516" y="29362"/>
                      </a:lnTo>
                      <a:lnTo>
                        <a:pt x="425996" y="29362"/>
                      </a:lnTo>
                      <a:lnTo>
                        <a:pt x="425996" y="17894"/>
                      </a:lnTo>
                      <a:close/>
                    </a:path>
                    <a:path w="616585" h="113665">
                      <a:moveTo>
                        <a:pt x="496036" y="97891"/>
                      </a:moveTo>
                      <a:lnTo>
                        <a:pt x="472719" y="97891"/>
                      </a:lnTo>
                      <a:lnTo>
                        <a:pt x="472719" y="57581"/>
                      </a:lnTo>
                      <a:lnTo>
                        <a:pt x="491871" y="57581"/>
                      </a:lnTo>
                      <a:lnTo>
                        <a:pt x="491871" y="45224"/>
                      </a:lnTo>
                      <a:lnTo>
                        <a:pt x="472719" y="45224"/>
                      </a:lnTo>
                      <a:lnTo>
                        <a:pt x="472719" y="12357"/>
                      </a:lnTo>
                      <a:lnTo>
                        <a:pt x="494144" y="12357"/>
                      </a:lnTo>
                      <a:lnTo>
                        <a:pt x="494144" y="12"/>
                      </a:lnTo>
                      <a:lnTo>
                        <a:pt x="428256" y="12"/>
                      </a:lnTo>
                      <a:lnTo>
                        <a:pt x="428256" y="12357"/>
                      </a:lnTo>
                      <a:lnTo>
                        <a:pt x="459752" y="12357"/>
                      </a:lnTo>
                      <a:lnTo>
                        <a:pt x="459752" y="97891"/>
                      </a:lnTo>
                      <a:lnTo>
                        <a:pt x="445897" y="97891"/>
                      </a:lnTo>
                      <a:lnTo>
                        <a:pt x="445897" y="29997"/>
                      </a:lnTo>
                      <a:lnTo>
                        <a:pt x="433044" y="29997"/>
                      </a:lnTo>
                      <a:lnTo>
                        <a:pt x="433044" y="97891"/>
                      </a:lnTo>
                      <a:lnTo>
                        <a:pt x="425996" y="97891"/>
                      </a:lnTo>
                      <a:lnTo>
                        <a:pt x="425996" y="110109"/>
                      </a:lnTo>
                      <a:lnTo>
                        <a:pt x="496036" y="110109"/>
                      </a:lnTo>
                      <a:lnTo>
                        <a:pt x="496036" y="97891"/>
                      </a:lnTo>
                      <a:close/>
                    </a:path>
                    <a:path w="616585" h="113665">
                      <a:moveTo>
                        <a:pt x="616127" y="85534"/>
                      </a:moveTo>
                      <a:lnTo>
                        <a:pt x="570890" y="85534"/>
                      </a:lnTo>
                      <a:lnTo>
                        <a:pt x="570890" y="24574"/>
                      </a:lnTo>
                      <a:lnTo>
                        <a:pt x="609561" y="24574"/>
                      </a:lnTo>
                      <a:lnTo>
                        <a:pt x="609561" y="10604"/>
                      </a:lnTo>
                      <a:lnTo>
                        <a:pt x="517994" y="10604"/>
                      </a:lnTo>
                      <a:lnTo>
                        <a:pt x="517994" y="24574"/>
                      </a:lnTo>
                      <a:lnTo>
                        <a:pt x="556171" y="24574"/>
                      </a:lnTo>
                      <a:lnTo>
                        <a:pt x="556171" y="85534"/>
                      </a:lnTo>
                      <a:lnTo>
                        <a:pt x="511441" y="85534"/>
                      </a:lnTo>
                      <a:lnTo>
                        <a:pt x="511441" y="99504"/>
                      </a:lnTo>
                      <a:lnTo>
                        <a:pt x="616127" y="99504"/>
                      </a:lnTo>
                      <a:lnTo>
                        <a:pt x="616127" y="85534"/>
                      </a:lnTo>
                      <a:close/>
                    </a:path>
                  </a:pathLst>
                </a:custGeom>
                <a:solidFill>
                  <a:srgbClr val="00b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" name="object 4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294880" y="8955720"/>
                  <a:ext cx="7704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object 4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97120" y="8958600"/>
                  <a:ext cx="104760" cy="10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19:58:00Z</dcterms:modified>
  <cp:revision>22</cp:revision>
  <dc:subject/>
  <dc:title>スライド 1</dc:title>
</cp:coreProperties>
</file>