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hyperlink" Target="http://www.suprint.jp/studio/service/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8"/>
          <p:cNvGrpSpPr/>
          <p:nvPr/>
        </p:nvGrpSpPr>
        <p:grpSpPr>
          <a:xfrm>
            <a:off x="546120" y="1079640"/>
            <a:ext cx="9715320" cy="5041800"/>
            <a:chOff x="546120" y="1079640"/>
            <a:chExt cx="9715320" cy="5041800"/>
          </a:xfrm>
        </p:grpSpPr>
        <p:sp>
          <p:nvSpPr>
            <p:cNvPr id="1" name="Freeform 108"/>
            <p:cNvSpPr/>
            <p:nvPr/>
          </p:nvSpPr>
          <p:spPr>
            <a:xfrm rot="16200000">
              <a:off x="-1131480" y="3146040"/>
              <a:ext cx="425124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06"/>
            <p:cNvGrpSpPr/>
            <p:nvPr/>
          </p:nvGrpSpPr>
          <p:grpSpPr>
            <a:xfrm>
              <a:off x="1079640" y="1079640"/>
              <a:ext cx="9181800" cy="5041800"/>
              <a:chOff x="107964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7964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7964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7964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7964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7964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30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38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6748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96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10004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3020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47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68"/>
          <p:cNvGrpSpPr/>
          <p:nvPr/>
        </p:nvGrpSpPr>
        <p:grpSpPr>
          <a:xfrm>
            <a:off x="546120" y="1079640"/>
            <a:ext cx="9715320" cy="5041800"/>
            <a:chOff x="546120" y="1079640"/>
            <a:chExt cx="9715320" cy="5041800"/>
          </a:xfrm>
        </p:grpSpPr>
        <p:sp>
          <p:nvSpPr>
            <p:cNvPr id="52" name="Freeform 108"/>
            <p:cNvSpPr/>
            <p:nvPr/>
          </p:nvSpPr>
          <p:spPr>
            <a:xfrm rot="16200000">
              <a:off x="-1131480" y="3146040"/>
              <a:ext cx="425124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06"/>
            <p:cNvGrpSpPr/>
            <p:nvPr/>
          </p:nvGrpSpPr>
          <p:grpSpPr>
            <a:xfrm>
              <a:off x="1079640" y="1079640"/>
              <a:ext cx="9181800" cy="5041800"/>
              <a:chOff x="1079640" y="1079640"/>
              <a:chExt cx="9181800" cy="5041800"/>
            </a:xfrm>
          </p:grpSpPr>
          <p:sp>
            <p:nvSpPr>
              <p:cNvPr id="54" name="Line 84"/>
              <p:cNvSpPr/>
              <p:nvPr/>
            </p:nvSpPr>
            <p:spPr>
              <a:xfrm>
                <a:off x="107964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85"/>
              <p:cNvSpPr/>
              <p:nvPr/>
            </p:nvSpPr>
            <p:spPr>
              <a:xfrm>
                <a:off x="107964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86"/>
              <p:cNvSpPr/>
              <p:nvPr/>
            </p:nvSpPr>
            <p:spPr>
              <a:xfrm>
                <a:off x="107964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87"/>
              <p:cNvSpPr/>
              <p:nvPr/>
            </p:nvSpPr>
            <p:spPr>
              <a:xfrm>
                <a:off x="107964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88"/>
              <p:cNvSpPr/>
              <p:nvPr/>
            </p:nvSpPr>
            <p:spPr>
              <a:xfrm>
                <a:off x="107964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89"/>
              <p:cNvSpPr/>
              <p:nvPr/>
            </p:nvSpPr>
            <p:spPr>
              <a:xfrm>
                <a:off x="1330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90"/>
              <p:cNvSpPr/>
              <p:nvPr/>
            </p:nvSpPr>
            <p:spPr>
              <a:xfrm>
                <a:off x="1438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91"/>
              <p:cNvSpPr/>
              <p:nvPr/>
            </p:nvSpPr>
            <p:spPr>
              <a:xfrm>
                <a:off x="566748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92"/>
              <p:cNvSpPr/>
              <p:nvPr/>
            </p:nvSpPr>
            <p:spPr>
              <a:xfrm>
                <a:off x="9896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93"/>
              <p:cNvSpPr/>
              <p:nvPr/>
            </p:nvSpPr>
            <p:spPr>
              <a:xfrm>
                <a:off x="10004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94"/>
              <p:cNvSpPr/>
              <p:nvPr/>
            </p:nvSpPr>
            <p:spPr>
              <a:xfrm>
                <a:off x="133020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147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9845640" cy="5705280"/>
            <a:chOff x="54000" y="54000"/>
            <a:chExt cx="9845640" cy="5705280"/>
          </a:xfrm>
        </p:grpSpPr>
        <p:grpSp>
          <p:nvGrpSpPr>
            <p:cNvPr id="67" name="Group 181"/>
            <p:cNvGrpSpPr/>
            <p:nvPr/>
          </p:nvGrpSpPr>
          <p:grpSpPr>
            <a:xfrm>
              <a:off x="54000" y="54000"/>
              <a:ext cx="9845640" cy="5705280"/>
              <a:chOff x="54000" y="54000"/>
              <a:chExt cx="9845640" cy="5705280"/>
            </a:xfrm>
          </p:grpSpPr>
          <p:grpSp>
            <p:nvGrpSpPr>
              <p:cNvPr id="68" name="Group 178"/>
              <p:cNvGrpSpPr/>
              <p:nvPr/>
            </p:nvGrpSpPr>
            <p:grpSpPr>
              <a:xfrm>
                <a:off x="61920" y="1314360"/>
                <a:ext cx="9837720" cy="4444920"/>
                <a:chOff x="61920" y="1314360"/>
                <a:chExt cx="9837720" cy="4444920"/>
              </a:xfrm>
            </p:grpSpPr>
            <p:grpSp>
              <p:nvGrpSpPr>
                <p:cNvPr id="69" name="Group 177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0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Text Box 76"/>
                  <p:cNvSpPr/>
                  <p:nvPr/>
                </p:nvSpPr>
                <p:spPr>
                  <a:xfrm>
                    <a:off x="61920" y="1314360"/>
                    <a:ext cx="93672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で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Rectangle 102"/>
                <p:cNvSpPr/>
                <p:nvPr/>
              </p:nvSpPr>
              <p:spPr>
                <a:xfrm rot="16200000">
                  <a:off x="3510000" y="-630000"/>
                  <a:ext cx="4319280" cy="845964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173"/>
              <p:cNvGrpSpPr/>
              <p:nvPr/>
            </p:nvGrpSpPr>
            <p:grpSpPr>
              <a:xfrm>
                <a:off x="54000" y="54000"/>
                <a:ext cx="6008760" cy="900000"/>
                <a:chOff x="54000" y="54000"/>
                <a:chExt cx="6008760" cy="900000"/>
              </a:xfrm>
            </p:grpSpPr>
            <p:sp>
              <p:nvSpPr>
                <p:cNvPr id="74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長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封筒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20×23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5" name="Picture 141" descr="新Suprintロゴ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Text Box 67"/>
                <p:cNvSpPr/>
                <p:nvPr/>
              </p:nvSpPr>
              <p:spPr>
                <a:xfrm>
                  <a:off x="1384200" y="54000"/>
                  <a:ext cx="467856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ctr">
                  <a:noAutofit/>
                </a:bodyPr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封筒の周囲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10mm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と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ベロ（フタ）部分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には印刷できません。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水色の線の内側に作成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貼り合わせ部分（下図の灰色の点線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にかかるベタや、広い面積で色をつけた場合など、かすれる可能性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データは黒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色の濃淡で作成してください。色の掛け合わせは使用できません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正常に変換ができ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用紙サイズの変更や、トンボの移動、変形などなさらない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説明用の枠などは削除してください。（削除の仕方は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でご確認いただけます。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を作成する際は、テンプレートと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が作成されている事をご確認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FSC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ＭＳ ゴシック"/>
                    </a:rPr>
                    <a:t>認証エリアには予め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FSC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ゴシック"/>
                      <a:ea typeface="ＭＳ ゴシック"/>
                    </a:rPr>
                    <a:t>マークが印刷されてい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7" name="Picture 180" descr=""/>
              <p:cNvPicPr/>
              <p:nvPr/>
            </p:nvPicPr>
            <p:blipFill>
              <a:blip r:embed="rId3"/>
              <a:stretch/>
            </p:blipFill>
            <p:spPr>
              <a:xfrm>
                <a:off x="1438200" y="1438200"/>
                <a:ext cx="8334360" cy="4319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8" name="Group 176"/>
              <p:cNvGrpSpPr/>
              <p:nvPr/>
            </p:nvGrpSpPr>
            <p:grpSpPr>
              <a:xfrm>
                <a:off x="61920" y="1987560"/>
                <a:ext cx="2728800" cy="684360"/>
                <a:chOff x="61920" y="1987560"/>
                <a:chExt cx="2728800" cy="684360"/>
              </a:xfrm>
            </p:grpSpPr>
            <p:sp>
              <p:nvSpPr>
                <p:cNvPr id="79" name="Line 75"/>
                <p:cNvSpPr/>
                <p:nvPr/>
              </p:nvSpPr>
              <p:spPr>
                <a:xfrm>
                  <a:off x="871560" y="2330280"/>
                  <a:ext cx="1919160" cy="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Text Box 70"/>
                <p:cNvSpPr/>
                <p:nvPr/>
              </p:nvSpPr>
              <p:spPr>
                <a:xfrm>
                  <a:off x="61920" y="1987560"/>
                  <a:ext cx="936720" cy="684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水色の線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の内側に作成してください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81" name="図 18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6192000" y="72000"/>
              <a:ext cx="2561400" cy="89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object 30"/>
          <p:cNvSpPr/>
          <p:nvPr/>
        </p:nvSpPr>
        <p:spPr>
          <a:xfrm>
            <a:off x="2809800" y="1798560"/>
            <a:ext cx="6193080" cy="3600360"/>
          </a:xfrm>
          <a:custGeom>
            <a:avLst/>
            <a:gdLst/>
            <a:ahLst/>
            <a:rect l="l" t="t" r="r" b="b"/>
            <a:pathLst>
              <a:path w="6192520" h="3600450">
                <a:moveTo>
                  <a:pt x="0" y="3599992"/>
                </a:moveTo>
                <a:lnTo>
                  <a:pt x="0" y="0"/>
                </a:lnTo>
                <a:lnTo>
                  <a:pt x="5868009" y="0"/>
                </a:lnTo>
                <a:lnTo>
                  <a:pt x="5868009" y="905382"/>
                </a:lnTo>
                <a:lnTo>
                  <a:pt x="6191999" y="905382"/>
                </a:lnTo>
                <a:lnTo>
                  <a:pt x="6191999" y="3599992"/>
                </a:lnTo>
                <a:lnTo>
                  <a:pt x="0" y="3599992"/>
                </a:lnTo>
                <a:close/>
              </a:path>
            </a:pathLst>
          </a:custGeom>
          <a:noFill/>
          <a:ln w="3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bject 34"/>
          <p:cNvSpPr/>
          <p:nvPr/>
        </p:nvSpPr>
        <p:spPr>
          <a:xfrm>
            <a:off x="8796240" y="1644480"/>
            <a:ext cx="433440" cy="954360"/>
          </a:xfrm>
          <a:custGeom>
            <a:avLst/>
            <a:gdLst/>
            <a:ahLst/>
            <a:rect l="l" t="t" r="r" b="b"/>
            <a:pathLst>
              <a:path w="432434" h="954405">
                <a:moveTo>
                  <a:pt x="378015" y="0"/>
                </a:moveTo>
                <a:lnTo>
                  <a:pt x="53987" y="0"/>
                </a:lnTo>
                <a:lnTo>
                  <a:pt x="32971" y="3830"/>
                </a:lnTo>
                <a:lnTo>
                  <a:pt x="15811" y="14279"/>
                </a:lnTo>
                <a:lnTo>
                  <a:pt x="4242" y="29784"/>
                </a:lnTo>
                <a:lnTo>
                  <a:pt x="0" y="48780"/>
                </a:lnTo>
                <a:lnTo>
                  <a:pt x="0" y="905192"/>
                </a:lnTo>
                <a:lnTo>
                  <a:pt x="4242" y="924187"/>
                </a:lnTo>
                <a:lnTo>
                  <a:pt x="15811" y="939701"/>
                </a:lnTo>
                <a:lnTo>
                  <a:pt x="32971" y="950162"/>
                </a:lnTo>
                <a:lnTo>
                  <a:pt x="53987" y="953998"/>
                </a:lnTo>
                <a:lnTo>
                  <a:pt x="378015" y="953998"/>
                </a:lnTo>
                <a:lnTo>
                  <a:pt x="399025" y="950162"/>
                </a:lnTo>
                <a:lnTo>
                  <a:pt x="416186" y="939701"/>
                </a:lnTo>
                <a:lnTo>
                  <a:pt x="427759" y="924187"/>
                </a:lnTo>
                <a:lnTo>
                  <a:pt x="432003" y="905192"/>
                </a:lnTo>
                <a:lnTo>
                  <a:pt x="432003" y="48780"/>
                </a:lnTo>
                <a:lnTo>
                  <a:pt x="427759" y="29784"/>
                </a:lnTo>
                <a:lnTo>
                  <a:pt x="416186" y="14279"/>
                </a:lnTo>
                <a:lnTo>
                  <a:pt x="399025" y="3830"/>
                </a:lnTo>
                <a:lnTo>
                  <a:pt x="378015" y="0"/>
                </a:lnTo>
                <a:close/>
              </a:path>
            </a:pathLst>
          </a:custGeom>
          <a:solidFill>
            <a:srgbClr val="e1f4fd"/>
          </a:solid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グループ化 34"/>
          <p:cNvGrpSpPr/>
          <p:nvPr/>
        </p:nvGrpSpPr>
        <p:grpSpPr>
          <a:xfrm>
            <a:off x="8796240" y="1644480"/>
            <a:ext cx="433440" cy="954360"/>
            <a:chOff x="8796240" y="1644480"/>
            <a:chExt cx="433440" cy="954360"/>
          </a:xfrm>
        </p:grpSpPr>
        <p:sp>
          <p:nvSpPr>
            <p:cNvPr id="85" name="object 35"/>
            <p:cNvSpPr/>
            <p:nvPr/>
          </p:nvSpPr>
          <p:spPr>
            <a:xfrm>
              <a:off x="8796240" y="1644480"/>
              <a:ext cx="433440" cy="954360"/>
            </a:xfrm>
            <a:custGeom>
              <a:avLst/>
              <a:gdLst/>
              <a:ahLst/>
              <a:rect l="l" t="t" r="r" b="b"/>
              <a:pathLst>
                <a:path w="432434" h="954405">
                  <a:moveTo>
                    <a:pt x="0" y="905192"/>
                  </a:moveTo>
                  <a:lnTo>
                    <a:pt x="0" y="48780"/>
                  </a:lnTo>
                  <a:lnTo>
                    <a:pt x="4242" y="29784"/>
                  </a:lnTo>
                  <a:lnTo>
                    <a:pt x="15811" y="14279"/>
                  </a:lnTo>
                  <a:lnTo>
                    <a:pt x="32971" y="3830"/>
                  </a:lnTo>
                  <a:lnTo>
                    <a:pt x="53987" y="0"/>
                  </a:lnTo>
                  <a:lnTo>
                    <a:pt x="378015" y="0"/>
                  </a:lnTo>
                  <a:lnTo>
                    <a:pt x="399025" y="3830"/>
                  </a:lnTo>
                  <a:lnTo>
                    <a:pt x="416186" y="14279"/>
                  </a:lnTo>
                  <a:lnTo>
                    <a:pt x="427759" y="29784"/>
                  </a:lnTo>
                  <a:lnTo>
                    <a:pt x="432003" y="48780"/>
                  </a:lnTo>
                  <a:lnTo>
                    <a:pt x="432003" y="905192"/>
                  </a:lnTo>
                  <a:lnTo>
                    <a:pt x="427759" y="924187"/>
                  </a:lnTo>
                  <a:lnTo>
                    <a:pt x="416186" y="939701"/>
                  </a:lnTo>
                  <a:lnTo>
                    <a:pt x="399025" y="950162"/>
                  </a:lnTo>
                  <a:lnTo>
                    <a:pt x="378015" y="953998"/>
                  </a:lnTo>
                  <a:lnTo>
                    <a:pt x="53987" y="953998"/>
                  </a:lnTo>
                  <a:lnTo>
                    <a:pt x="32971" y="950162"/>
                  </a:lnTo>
                  <a:lnTo>
                    <a:pt x="15811" y="939701"/>
                  </a:lnTo>
                  <a:lnTo>
                    <a:pt x="4242" y="924187"/>
                  </a:lnTo>
                  <a:lnTo>
                    <a:pt x="0" y="90519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グループ化 36"/>
            <p:cNvGrpSpPr/>
            <p:nvPr/>
          </p:nvGrpSpPr>
          <p:grpSpPr>
            <a:xfrm>
              <a:off x="8956080" y="1696680"/>
              <a:ext cx="113760" cy="850680"/>
              <a:chOff x="8956080" y="1696680"/>
              <a:chExt cx="113760" cy="850680"/>
            </a:xfrm>
          </p:grpSpPr>
          <p:sp>
            <p:nvSpPr>
              <p:cNvPr id="87" name="object 36"/>
              <p:cNvSpPr/>
              <p:nvPr/>
            </p:nvSpPr>
            <p:spPr>
              <a:xfrm>
                <a:off x="8956080" y="1929960"/>
                <a:ext cx="113760" cy="617400"/>
              </a:xfrm>
              <a:custGeom>
                <a:avLst/>
                <a:gdLst/>
                <a:ahLst/>
                <a:rect l="l" t="t" r="r" b="b"/>
                <a:pathLst>
                  <a:path w="113665" h="617219">
                    <a:moveTo>
                      <a:pt x="11341" y="194157"/>
                    </a:moveTo>
                    <a:lnTo>
                      <a:pt x="0" y="194157"/>
                    </a:lnTo>
                    <a:lnTo>
                      <a:pt x="0" y="235724"/>
                    </a:lnTo>
                    <a:lnTo>
                      <a:pt x="11341" y="235724"/>
                    </a:lnTo>
                    <a:lnTo>
                      <a:pt x="11341" y="194157"/>
                    </a:lnTo>
                    <a:close/>
                  </a:path>
                  <a:path w="113665" h="617219">
                    <a:moveTo>
                      <a:pt x="11468" y="325069"/>
                    </a:moveTo>
                    <a:lnTo>
                      <a:pt x="254" y="325069"/>
                    </a:lnTo>
                    <a:lnTo>
                      <a:pt x="254" y="364363"/>
                    </a:lnTo>
                    <a:lnTo>
                      <a:pt x="11468" y="364363"/>
                    </a:lnTo>
                    <a:lnTo>
                      <a:pt x="11468" y="325069"/>
                    </a:lnTo>
                    <a:close/>
                  </a:path>
                  <a:path w="113665" h="617219">
                    <a:moveTo>
                      <a:pt x="29337" y="320776"/>
                    </a:moveTo>
                    <a:lnTo>
                      <a:pt x="17868" y="320776"/>
                    </a:lnTo>
                    <a:lnTo>
                      <a:pt x="17868" y="368274"/>
                    </a:lnTo>
                    <a:lnTo>
                      <a:pt x="29337" y="368274"/>
                    </a:lnTo>
                    <a:lnTo>
                      <a:pt x="29337" y="320776"/>
                    </a:lnTo>
                    <a:close/>
                  </a:path>
                  <a:path w="113665" h="617219">
                    <a:moveTo>
                      <a:pt x="29349" y="190119"/>
                    </a:moveTo>
                    <a:lnTo>
                      <a:pt x="17881" y="190119"/>
                    </a:lnTo>
                    <a:lnTo>
                      <a:pt x="17881" y="239610"/>
                    </a:lnTo>
                    <a:lnTo>
                      <a:pt x="29349" y="239610"/>
                    </a:lnTo>
                    <a:lnTo>
                      <a:pt x="29349" y="190119"/>
                    </a:lnTo>
                    <a:close/>
                  </a:path>
                  <a:path w="113665" h="617219">
                    <a:moveTo>
                      <a:pt x="47117" y="194157"/>
                    </a:moveTo>
                    <a:lnTo>
                      <a:pt x="35902" y="194157"/>
                    </a:lnTo>
                    <a:lnTo>
                      <a:pt x="35902" y="235724"/>
                    </a:lnTo>
                    <a:lnTo>
                      <a:pt x="47117" y="235724"/>
                    </a:lnTo>
                    <a:lnTo>
                      <a:pt x="47117" y="194157"/>
                    </a:lnTo>
                    <a:close/>
                  </a:path>
                  <a:path w="113665" h="617219">
                    <a:moveTo>
                      <a:pt x="47231" y="325069"/>
                    </a:moveTo>
                    <a:lnTo>
                      <a:pt x="36017" y="325069"/>
                    </a:lnTo>
                    <a:lnTo>
                      <a:pt x="36017" y="364363"/>
                    </a:lnTo>
                    <a:lnTo>
                      <a:pt x="47231" y="364363"/>
                    </a:lnTo>
                    <a:lnTo>
                      <a:pt x="47231" y="325069"/>
                    </a:lnTo>
                    <a:close/>
                  </a:path>
                  <a:path w="113665" h="617219">
                    <a:moveTo>
                      <a:pt x="57683" y="315747"/>
                    </a:moveTo>
                    <a:lnTo>
                      <a:pt x="34505" y="292188"/>
                    </a:lnTo>
                    <a:lnTo>
                      <a:pt x="36753" y="287401"/>
                    </a:lnTo>
                    <a:lnTo>
                      <a:pt x="37528" y="285762"/>
                    </a:lnTo>
                    <a:lnTo>
                      <a:pt x="38976" y="283438"/>
                    </a:lnTo>
                    <a:lnTo>
                      <a:pt x="41313" y="279730"/>
                    </a:lnTo>
                    <a:lnTo>
                      <a:pt x="30861" y="274307"/>
                    </a:lnTo>
                    <a:lnTo>
                      <a:pt x="28511" y="277710"/>
                    </a:lnTo>
                    <a:lnTo>
                      <a:pt x="27444" y="279476"/>
                    </a:lnTo>
                    <a:lnTo>
                      <a:pt x="23926" y="287401"/>
                    </a:lnTo>
                    <a:lnTo>
                      <a:pt x="19392" y="285902"/>
                    </a:lnTo>
                    <a:lnTo>
                      <a:pt x="16497" y="285140"/>
                    </a:lnTo>
                    <a:lnTo>
                      <a:pt x="11074" y="284264"/>
                    </a:lnTo>
                    <a:lnTo>
                      <a:pt x="11074" y="265239"/>
                    </a:lnTo>
                    <a:lnTo>
                      <a:pt x="27901" y="265772"/>
                    </a:lnTo>
                    <a:lnTo>
                      <a:pt x="37553" y="266941"/>
                    </a:lnTo>
                    <a:lnTo>
                      <a:pt x="41922" y="268960"/>
                    </a:lnTo>
                    <a:lnTo>
                      <a:pt x="42951" y="272034"/>
                    </a:lnTo>
                    <a:lnTo>
                      <a:pt x="42951" y="283616"/>
                    </a:lnTo>
                    <a:lnTo>
                      <a:pt x="55295" y="281736"/>
                    </a:lnTo>
                    <a:lnTo>
                      <a:pt x="55295" y="265239"/>
                    </a:lnTo>
                    <a:lnTo>
                      <a:pt x="55295" y="264096"/>
                    </a:lnTo>
                    <a:lnTo>
                      <a:pt x="53784" y="260578"/>
                    </a:lnTo>
                    <a:lnTo>
                      <a:pt x="254" y="254152"/>
                    </a:lnTo>
                    <a:lnTo>
                      <a:pt x="254" y="316763"/>
                    </a:lnTo>
                    <a:lnTo>
                      <a:pt x="11074" y="316763"/>
                    </a:lnTo>
                    <a:lnTo>
                      <a:pt x="11074" y="296976"/>
                    </a:lnTo>
                    <a:lnTo>
                      <a:pt x="13982" y="297357"/>
                    </a:lnTo>
                    <a:lnTo>
                      <a:pt x="15735" y="297611"/>
                    </a:lnTo>
                    <a:lnTo>
                      <a:pt x="19646" y="298615"/>
                    </a:lnTo>
                    <a:lnTo>
                      <a:pt x="17373" y="306044"/>
                    </a:lnTo>
                    <a:lnTo>
                      <a:pt x="16611" y="309448"/>
                    </a:lnTo>
                    <a:lnTo>
                      <a:pt x="15989" y="312470"/>
                    </a:lnTo>
                    <a:lnTo>
                      <a:pt x="25692" y="316763"/>
                    </a:lnTo>
                    <a:lnTo>
                      <a:pt x="27838" y="309448"/>
                    </a:lnTo>
                    <a:lnTo>
                      <a:pt x="28854" y="306412"/>
                    </a:lnTo>
                    <a:lnTo>
                      <a:pt x="47231" y="323684"/>
                    </a:lnTo>
                    <a:lnTo>
                      <a:pt x="57683" y="315747"/>
                    </a:lnTo>
                    <a:close/>
                  </a:path>
                  <a:path w="113665" h="617219">
                    <a:moveTo>
                      <a:pt x="65887" y="194157"/>
                    </a:moveTo>
                    <a:lnTo>
                      <a:pt x="54546" y="194157"/>
                    </a:lnTo>
                    <a:lnTo>
                      <a:pt x="54546" y="235724"/>
                    </a:lnTo>
                    <a:lnTo>
                      <a:pt x="65887" y="235724"/>
                    </a:lnTo>
                    <a:lnTo>
                      <a:pt x="65887" y="194157"/>
                    </a:lnTo>
                    <a:close/>
                  </a:path>
                  <a:path w="113665" h="617219">
                    <a:moveTo>
                      <a:pt x="66116" y="325069"/>
                    </a:moveTo>
                    <a:lnTo>
                      <a:pt x="54902" y="325069"/>
                    </a:lnTo>
                    <a:lnTo>
                      <a:pt x="54902" y="364363"/>
                    </a:lnTo>
                    <a:lnTo>
                      <a:pt x="66116" y="364363"/>
                    </a:lnTo>
                    <a:lnTo>
                      <a:pt x="66116" y="325069"/>
                    </a:lnTo>
                    <a:close/>
                  </a:path>
                  <a:path w="113665" h="617219">
                    <a:moveTo>
                      <a:pt x="75450" y="280098"/>
                    </a:moveTo>
                    <a:lnTo>
                      <a:pt x="66382" y="273431"/>
                    </a:lnTo>
                    <a:lnTo>
                      <a:pt x="61645" y="278587"/>
                    </a:lnTo>
                    <a:lnTo>
                      <a:pt x="57556" y="283705"/>
                    </a:lnTo>
                    <a:lnTo>
                      <a:pt x="53911" y="289001"/>
                    </a:lnTo>
                    <a:lnTo>
                      <a:pt x="50634" y="294462"/>
                    </a:lnTo>
                    <a:lnTo>
                      <a:pt x="59575" y="301764"/>
                    </a:lnTo>
                    <a:lnTo>
                      <a:pt x="64198" y="294259"/>
                    </a:lnTo>
                    <a:lnTo>
                      <a:pt x="68605" y="288150"/>
                    </a:lnTo>
                    <a:lnTo>
                      <a:pt x="72453" y="283438"/>
                    </a:lnTo>
                    <a:lnTo>
                      <a:pt x="75450" y="280098"/>
                    </a:lnTo>
                    <a:close/>
                  </a:path>
                  <a:path w="113665" h="617219">
                    <a:moveTo>
                      <a:pt x="99390" y="0"/>
                    </a:moveTo>
                    <a:lnTo>
                      <a:pt x="85521" y="0"/>
                    </a:lnTo>
                    <a:lnTo>
                      <a:pt x="85521" y="45224"/>
                    </a:lnTo>
                    <a:lnTo>
                      <a:pt x="24942" y="45224"/>
                    </a:lnTo>
                    <a:lnTo>
                      <a:pt x="24942" y="6553"/>
                    </a:lnTo>
                    <a:lnTo>
                      <a:pt x="11201" y="6553"/>
                    </a:lnTo>
                    <a:lnTo>
                      <a:pt x="11201" y="98132"/>
                    </a:lnTo>
                    <a:lnTo>
                      <a:pt x="24942" y="98132"/>
                    </a:lnTo>
                    <a:lnTo>
                      <a:pt x="24942" y="59956"/>
                    </a:lnTo>
                    <a:lnTo>
                      <a:pt x="85521" y="59956"/>
                    </a:lnTo>
                    <a:lnTo>
                      <a:pt x="85521" y="104686"/>
                    </a:lnTo>
                    <a:lnTo>
                      <a:pt x="99390" y="104686"/>
                    </a:lnTo>
                    <a:lnTo>
                      <a:pt x="99390" y="0"/>
                    </a:lnTo>
                    <a:close/>
                  </a:path>
                  <a:path w="113665" h="617219">
                    <a:moveTo>
                      <a:pt x="103022" y="601370"/>
                    </a:moveTo>
                    <a:lnTo>
                      <a:pt x="59080" y="601370"/>
                    </a:lnTo>
                    <a:lnTo>
                      <a:pt x="59080" y="558190"/>
                    </a:lnTo>
                    <a:lnTo>
                      <a:pt x="45593" y="558190"/>
                    </a:lnTo>
                    <a:lnTo>
                      <a:pt x="45593" y="601370"/>
                    </a:lnTo>
                    <a:lnTo>
                      <a:pt x="16751" y="601370"/>
                    </a:lnTo>
                    <a:lnTo>
                      <a:pt x="16751" y="558190"/>
                    </a:lnTo>
                    <a:lnTo>
                      <a:pt x="16751" y="554380"/>
                    </a:lnTo>
                    <a:lnTo>
                      <a:pt x="3136" y="554380"/>
                    </a:lnTo>
                    <a:lnTo>
                      <a:pt x="3136" y="558190"/>
                    </a:lnTo>
                    <a:lnTo>
                      <a:pt x="3136" y="601370"/>
                    </a:lnTo>
                    <a:lnTo>
                      <a:pt x="3136" y="616610"/>
                    </a:lnTo>
                    <a:lnTo>
                      <a:pt x="103022" y="616610"/>
                    </a:lnTo>
                    <a:lnTo>
                      <a:pt x="103022" y="601370"/>
                    </a:lnTo>
                    <a:close/>
                  </a:path>
                  <a:path w="113665" h="617219">
                    <a:moveTo>
                      <a:pt x="105054" y="513435"/>
                    </a:moveTo>
                    <a:lnTo>
                      <a:pt x="102768" y="498970"/>
                    </a:lnTo>
                    <a:lnTo>
                      <a:pt x="96443" y="487883"/>
                    </a:lnTo>
                    <a:lnTo>
                      <a:pt x="86817" y="480796"/>
                    </a:lnTo>
                    <a:lnTo>
                      <a:pt x="74688" y="478294"/>
                    </a:lnTo>
                    <a:lnTo>
                      <a:pt x="62382" y="480796"/>
                    </a:lnTo>
                    <a:lnTo>
                      <a:pt x="54241" y="487362"/>
                    </a:lnTo>
                    <a:lnTo>
                      <a:pt x="48895" y="496582"/>
                    </a:lnTo>
                    <a:lnTo>
                      <a:pt x="44958" y="507022"/>
                    </a:lnTo>
                    <a:lnTo>
                      <a:pt x="41313" y="517461"/>
                    </a:lnTo>
                    <a:lnTo>
                      <a:pt x="38290" y="523760"/>
                    </a:lnTo>
                    <a:lnTo>
                      <a:pt x="21158" y="523760"/>
                    </a:lnTo>
                    <a:lnTo>
                      <a:pt x="14732" y="517093"/>
                    </a:lnTo>
                    <a:lnTo>
                      <a:pt x="14732" y="499325"/>
                    </a:lnTo>
                    <a:lnTo>
                      <a:pt x="17132" y="493153"/>
                    </a:lnTo>
                    <a:lnTo>
                      <a:pt x="21285" y="487235"/>
                    </a:lnTo>
                    <a:lnTo>
                      <a:pt x="7429" y="483704"/>
                    </a:lnTo>
                    <a:lnTo>
                      <a:pt x="1130" y="495046"/>
                    </a:lnTo>
                    <a:lnTo>
                      <a:pt x="1130" y="507022"/>
                    </a:lnTo>
                    <a:lnTo>
                      <a:pt x="3289" y="519734"/>
                    </a:lnTo>
                    <a:lnTo>
                      <a:pt x="9296" y="529780"/>
                    </a:lnTo>
                    <a:lnTo>
                      <a:pt x="18503" y="536384"/>
                    </a:lnTo>
                    <a:lnTo>
                      <a:pt x="30226" y="538759"/>
                    </a:lnTo>
                    <a:lnTo>
                      <a:pt x="40246" y="537044"/>
                    </a:lnTo>
                    <a:lnTo>
                      <a:pt x="47828" y="532003"/>
                    </a:lnTo>
                    <a:lnTo>
                      <a:pt x="53581" y="523824"/>
                    </a:lnTo>
                    <a:lnTo>
                      <a:pt x="58064" y="512673"/>
                    </a:lnTo>
                    <a:lnTo>
                      <a:pt x="61061" y="504710"/>
                    </a:lnTo>
                    <a:lnTo>
                      <a:pt x="64719" y="498589"/>
                    </a:lnTo>
                    <a:lnTo>
                      <a:pt x="69481" y="494665"/>
                    </a:lnTo>
                    <a:lnTo>
                      <a:pt x="75819" y="493280"/>
                    </a:lnTo>
                    <a:lnTo>
                      <a:pt x="82613" y="495046"/>
                    </a:lnTo>
                    <a:lnTo>
                      <a:pt x="87503" y="499757"/>
                    </a:lnTo>
                    <a:lnTo>
                      <a:pt x="90449" y="506526"/>
                    </a:lnTo>
                    <a:lnTo>
                      <a:pt x="91440" y="514451"/>
                    </a:lnTo>
                    <a:lnTo>
                      <a:pt x="91440" y="523138"/>
                    </a:lnTo>
                    <a:lnTo>
                      <a:pt x="88290" y="531075"/>
                    </a:lnTo>
                    <a:lnTo>
                      <a:pt x="83134" y="538365"/>
                    </a:lnTo>
                    <a:lnTo>
                      <a:pt x="96608" y="542658"/>
                    </a:lnTo>
                    <a:lnTo>
                      <a:pt x="100380" y="535838"/>
                    </a:lnTo>
                    <a:lnTo>
                      <a:pt x="103009" y="528751"/>
                    </a:lnTo>
                    <a:lnTo>
                      <a:pt x="104546" y="521309"/>
                    </a:lnTo>
                    <a:lnTo>
                      <a:pt x="105054" y="513435"/>
                    </a:lnTo>
                    <a:close/>
                  </a:path>
                  <a:path w="113665" h="617219">
                    <a:moveTo>
                      <a:pt x="105054" y="410895"/>
                    </a:moveTo>
                    <a:lnTo>
                      <a:pt x="104609" y="402882"/>
                    </a:lnTo>
                    <a:lnTo>
                      <a:pt x="103289" y="394982"/>
                    </a:lnTo>
                    <a:lnTo>
                      <a:pt x="101003" y="387324"/>
                    </a:lnTo>
                    <a:lnTo>
                      <a:pt x="97751" y="380022"/>
                    </a:lnTo>
                    <a:lnTo>
                      <a:pt x="81508" y="380022"/>
                    </a:lnTo>
                    <a:lnTo>
                      <a:pt x="85598" y="386372"/>
                    </a:lnTo>
                    <a:lnTo>
                      <a:pt x="88734" y="393407"/>
                    </a:lnTo>
                    <a:lnTo>
                      <a:pt x="90741" y="401243"/>
                    </a:lnTo>
                    <a:lnTo>
                      <a:pt x="91452" y="410006"/>
                    </a:lnTo>
                    <a:lnTo>
                      <a:pt x="88138" y="427774"/>
                    </a:lnTo>
                    <a:lnTo>
                      <a:pt x="79425" y="439991"/>
                    </a:lnTo>
                    <a:lnTo>
                      <a:pt x="67157" y="447040"/>
                    </a:lnTo>
                    <a:lnTo>
                      <a:pt x="53149" y="449300"/>
                    </a:lnTo>
                    <a:lnTo>
                      <a:pt x="38430" y="446786"/>
                    </a:lnTo>
                    <a:lnTo>
                      <a:pt x="26200" y="439445"/>
                    </a:lnTo>
                    <a:lnTo>
                      <a:pt x="17830" y="427520"/>
                    </a:lnTo>
                    <a:lnTo>
                      <a:pt x="14744" y="411276"/>
                    </a:lnTo>
                    <a:lnTo>
                      <a:pt x="15506" y="402831"/>
                    </a:lnTo>
                    <a:lnTo>
                      <a:pt x="17551" y="395643"/>
                    </a:lnTo>
                    <a:lnTo>
                      <a:pt x="20523" y="389686"/>
                    </a:lnTo>
                    <a:lnTo>
                      <a:pt x="24053" y="384937"/>
                    </a:lnTo>
                    <a:lnTo>
                      <a:pt x="10325" y="380022"/>
                    </a:lnTo>
                    <a:lnTo>
                      <a:pt x="6235" y="387311"/>
                    </a:lnTo>
                    <a:lnTo>
                      <a:pt x="3365" y="394868"/>
                    </a:lnTo>
                    <a:lnTo>
                      <a:pt x="1689" y="402780"/>
                    </a:lnTo>
                    <a:lnTo>
                      <a:pt x="1143" y="411137"/>
                    </a:lnTo>
                    <a:lnTo>
                      <a:pt x="4762" y="431825"/>
                    </a:lnTo>
                    <a:lnTo>
                      <a:pt x="15163" y="448729"/>
                    </a:lnTo>
                    <a:lnTo>
                      <a:pt x="31584" y="460121"/>
                    </a:lnTo>
                    <a:lnTo>
                      <a:pt x="53276" y="464299"/>
                    </a:lnTo>
                    <a:lnTo>
                      <a:pt x="73164" y="460870"/>
                    </a:lnTo>
                    <a:lnTo>
                      <a:pt x="89649" y="450723"/>
                    </a:lnTo>
                    <a:lnTo>
                      <a:pt x="100888" y="433997"/>
                    </a:lnTo>
                    <a:lnTo>
                      <a:pt x="105054" y="410895"/>
                    </a:lnTo>
                    <a:close/>
                  </a:path>
                  <a:path w="113665" h="617219">
                    <a:moveTo>
                      <a:pt x="108064" y="260578"/>
                    </a:moveTo>
                    <a:lnTo>
                      <a:pt x="104292" y="248615"/>
                    </a:lnTo>
                    <a:lnTo>
                      <a:pt x="94538" y="250380"/>
                    </a:lnTo>
                    <a:lnTo>
                      <a:pt x="85242" y="252742"/>
                    </a:lnTo>
                    <a:lnTo>
                      <a:pt x="76555" y="255625"/>
                    </a:lnTo>
                    <a:lnTo>
                      <a:pt x="68643" y="258940"/>
                    </a:lnTo>
                    <a:lnTo>
                      <a:pt x="71666" y="270027"/>
                    </a:lnTo>
                    <a:lnTo>
                      <a:pt x="79552" y="267157"/>
                    </a:lnTo>
                    <a:lnTo>
                      <a:pt x="87985" y="264591"/>
                    </a:lnTo>
                    <a:lnTo>
                      <a:pt x="97345" y="262394"/>
                    </a:lnTo>
                    <a:lnTo>
                      <a:pt x="108064" y="260578"/>
                    </a:lnTo>
                    <a:close/>
                  </a:path>
                  <a:path w="113665" h="617219">
                    <a:moveTo>
                      <a:pt x="110096" y="120091"/>
                    </a:moveTo>
                    <a:lnTo>
                      <a:pt x="97878" y="120091"/>
                    </a:lnTo>
                    <a:lnTo>
                      <a:pt x="97878" y="143395"/>
                    </a:lnTo>
                    <a:lnTo>
                      <a:pt x="57569" y="143395"/>
                    </a:lnTo>
                    <a:lnTo>
                      <a:pt x="57569" y="124256"/>
                    </a:lnTo>
                    <a:lnTo>
                      <a:pt x="45212" y="124256"/>
                    </a:lnTo>
                    <a:lnTo>
                      <a:pt x="45212" y="143395"/>
                    </a:lnTo>
                    <a:lnTo>
                      <a:pt x="12344" y="143395"/>
                    </a:lnTo>
                    <a:lnTo>
                      <a:pt x="12344" y="121970"/>
                    </a:lnTo>
                    <a:lnTo>
                      <a:pt x="0" y="121970"/>
                    </a:lnTo>
                    <a:lnTo>
                      <a:pt x="0" y="187858"/>
                    </a:lnTo>
                    <a:lnTo>
                      <a:pt x="12344" y="187858"/>
                    </a:lnTo>
                    <a:lnTo>
                      <a:pt x="12344" y="156362"/>
                    </a:lnTo>
                    <a:lnTo>
                      <a:pt x="97878" y="156362"/>
                    </a:lnTo>
                    <a:lnTo>
                      <a:pt x="97878" y="170218"/>
                    </a:lnTo>
                    <a:lnTo>
                      <a:pt x="29984" y="170218"/>
                    </a:lnTo>
                    <a:lnTo>
                      <a:pt x="29984" y="183070"/>
                    </a:lnTo>
                    <a:lnTo>
                      <a:pt x="97878" y="183070"/>
                    </a:lnTo>
                    <a:lnTo>
                      <a:pt x="97878" y="190119"/>
                    </a:lnTo>
                    <a:lnTo>
                      <a:pt x="110096" y="190119"/>
                    </a:lnTo>
                    <a:lnTo>
                      <a:pt x="110096" y="156362"/>
                    </a:lnTo>
                    <a:lnTo>
                      <a:pt x="110096" y="143395"/>
                    </a:lnTo>
                    <a:lnTo>
                      <a:pt x="110096" y="120091"/>
                    </a:lnTo>
                    <a:close/>
                  </a:path>
                  <a:path w="113665" h="617219">
                    <a:moveTo>
                      <a:pt x="111734" y="194157"/>
                    </a:moveTo>
                    <a:lnTo>
                      <a:pt x="100901" y="194157"/>
                    </a:lnTo>
                    <a:lnTo>
                      <a:pt x="100901" y="206883"/>
                    </a:lnTo>
                    <a:lnTo>
                      <a:pt x="100901" y="223253"/>
                    </a:lnTo>
                    <a:lnTo>
                      <a:pt x="84023" y="223253"/>
                    </a:lnTo>
                    <a:lnTo>
                      <a:pt x="84023" y="206883"/>
                    </a:lnTo>
                    <a:lnTo>
                      <a:pt x="100901" y="206883"/>
                    </a:lnTo>
                    <a:lnTo>
                      <a:pt x="100901" y="194157"/>
                    </a:lnTo>
                    <a:lnTo>
                      <a:pt x="72936" y="194157"/>
                    </a:lnTo>
                    <a:lnTo>
                      <a:pt x="72936" y="235724"/>
                    </a:lnTo>
                    <a:lnTo>
                      <a:pt x="111734" y="235724"/>
                    </a:lnTo>
                    <a:lnTo>
                      <a:pt x="111734" y="223253"/>
                    </a:lnTo>
                    <a:lnTo>
                      <a:pt x="111734" y="206883"/>
                    </a:lnTo>
                    <a:lnTo>
                      <a:pt x="111734" y="194157"/>
                    </a:lnTo>
                    <a:close/>
                  </a:path>
                  <a:path w="113665" h="617219">
                    <a:moveTo>
                      <a:pt x="111975" y="325069"/>
                    </a:moveTo>
                    <a:lnTo>
                      <a:pt x="102273" y="325069"/>
                    </a:lnTo>
                    <a:lnTo>
                      <a:pt x="108064" y="316128"/>
                    </a:lnTo>
                    <a:lnTo>
                      <a:pt x="101142" y="313220"/>
                    </a:lnTo>
                    <a:lnTo>
                      <a:pt x="101142" y="336156"/>
                    </a:lnTo>
                    <a:lnTo>
                      <a:pt x="101142" y="353148"/>
                    </a:lnTo>
                    <a:lnTo>
                      <a:pt x="84391" y="353148"/>
                    </a:lnTo>
                    <a:lnTo>
                      <a:pt x="84391" y="336156"/>
                    </a:lnTo>
                    <a:lnTo>
                      <a:pt x="101142" y="336156"/>
                    </a:lnTo>
                    <a:lnTo>
                      <a:pt x="101142" y="313220"/>
                    </a:lnTo>
                    <a:lnTo>
                      <a:pt x="98069" y="311912"/>
                    </a:lnTo>
                    <a:lnTo>
                      <a:pt x="88023" y="309067"/>
                    </a:lnTo>
                    <a:lnTo>
                      <a:pt x="78892" y="307327"/>
                    </a:lnTo>
                    <a:lnTo>
                      <a:pt x="71666" y="306412"/>
                    </a:lnTo>
                    <a:lnTo>
                      <a:pt x="70777" y="318008"/>
                    </a:lnTo>
                    <a:lnTo>
                      <a:pt x="80175" y="319201"/>
                    </a:lnTo>
                    <a:lnTo>
                      <a:pt x="87668" y="320840"/>
                    </a:lnTo>
                    <a:lnTo>
                      <a:pt x="93624" y="322821"/>
                    </a:lnTo>
                    <a:lnTo>
                      <a:pt x="98488" y="325069"/>
                    </a:lnTo>
                    <a:lnTo>
                      <a:pt x="73558" y="325069"/>
                    </a:lnTo>
                    <a:lnTo>
                      <a:pt x="73558" y="364363"/>
                    </a:lnTo>
                    <a:lnTo>
                      <a:pt x="111975" y="364363"/>
                    </a:lnTo>
                    <a:lnTo>
                      <a:pt x="111975" y="353148"/>
                    </a:lnTo>
                    <a:lnTo>
                      <a:pt x="111975" y="336156"/>
                    </a:lnTo>
                    <a:lnTo>
                      <a:pt x="111975" y="325069"/>
                    </a:lnTo>
                    <a:close/>
                  </a:path>
                  <a:path w="113665" h="617219">
                    <a:moveTo>
                      <a:pt x="113233" y="269900"/>
                    </a:moveTo>
                    <a:lnTo>
                      <a:pt x="106553" y="267754"/>
                    </a:lnTo>
                    <a:lnTo>
                      <a:pt x="92570" y="266369"/>
                    </a:lnTo>
                    <a:lnTo>
                      <a:pt x="89052" y="277710"/>
                    </a:lnTo>
                    <a:lnTo>
                      <a:pt x="98755" y="278587"/>
                    </a:lnTo>
                    <a:lnTo>
                      <a:pt x="101904" y="278955"/>
                    </a:lnTo>
                    <a:lnTo>
                      <a:pt x="101904" y="289928"/>
                    </a:lnTo>
                    <a:lnTo>
                      <a:pt x="101142" y="290944"/>
                    </a:lnTo>
                    <a:lnTo>
                      <a:pt x="71666" y="290944"/>
                    </a:lnTo>
                    <a:lnTo>
                      <a:pt x="71666" y="302768"/>
                    </a:lnTo>
                    <a:lnTo>
                      <a:pt x="108572" y="302768"/>
                    </a:lnTo>
                    <a:lnTo>
                      <a:pt x="113233" y="299872"/>
                    </a:lnTo>
                    <a:lnTo>
                      <a:pt x="113233" y="269900"/>
                    </a:lnTo>
                    <a:close/>
                  </a:path>
                </a:pathLst>
              </a:custGeom>
              <a:solidFill>
                <a:srgbClr val="00b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8" name="object 37" descr=""/>
              <p:cNvPicPr/>
              <p:nvPr/>
            </p:nvPicPr>
            <p:blipFill>
              <a:blip r:embed="rId6"/>
              <a:stretch/>
            </p:blipFill>
            <p:spPr>
              <a:xfrm>
                <a:off x="8958960" y="1826640"/>
                <a:ext cx="105120" cy="7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object 38" descr=""/>
              <p:cNvPicPr/>
              <p:nvPr/>
            </p:nvPicPr>
            <p:blipFill>
              <a:blip r:embed="rId7"/>
              <a:stretch/>
            </p:blipFill>
            <p:spPr>
              <a:xfrm>
                <a:off x="8961840" y="1696680"/>
                <a:ext cx="102600" cy="104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55800" indent="-2667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A19-205</cp:lastModifiedBy>
  <dcterms:modified xsi:type="dcterms:W3CDTF">2021-08-30T19:55:59Z</dcterms:modified>
  <cp:revision>25</cp:revision>
  <dc:subject/>
  <dc:title>スライド 1</dc:title>
</cp:coreProperties>
</file>