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service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79640" y="1079640"/>
            <a:ext cx="9835560" cy="5041800"/>
            <a:chOff x="107964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4192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4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43"/>
          <p:cNvGrpSpPr/>
          <p:nvPr/>
        </p:nvGrpSpPr>
        <p:grpSpPr>
          <a:xfrm>
            <a:off x="1079640" y="1079640"/>
            <a:ext cx="9835560" cy="5041800"/>
            <a:chOff x="1079640" y="1079640"/>
            <a:chExt cx="9835560" cy="5041800"/>
          </a:xfrm>
        </p:grpSpPr>
        <p:sp>
          <p:nvSpPr>
            <p:cNvPr id="52" name="Freeform 108"/>
            <p:cNvSpPr/>
            <p:nvPr/>
          </p:nvSpPr>
          <p:spPr>
            <a:xfrm rot="5400000">
              <a:off x="834192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4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14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9845280" cy="5705280"/>
            <a:chOff x="54000" y="54000"/>
            <a:chExt cx="9845280" cy="5705280"/>
          </a:xfrm>
        </p:grpSpPr>
        <p:grpSp>
          <p:nvGrpSpPr>
            <p:cNvPr id="67" name="Group 159"/>
            <p:cNvGrpSpPr/>
            <p:nvPr/>
          </p:nvGrpSpPr>
          <p:grpSpPr>
            <a:xfrm>
              <a:off x="54000" y="54000"/>
              <a:ext cx="9845280" cy="5705280"/>
              <a:chOff x="54000" y="54000"/>
              <a:chExt cx="9845280" cy="5705280"/>
            </a:xfrm>
          </p:grpSpPr>
          <p:grpSp>
            <p:nvGrpSpPr>
              <p:cNvPr id="68" name="Group 145"/>
              <p:cNvGrpSpPr/>
              <p:nvPr/>
            </p:nvGrpSpPr>
            <p:grpSpPr>
              <a:xfrm>
                <a:off x="61920" y="1314360"/>
                <a:ext cx="9837360" cy="4444920"/>
                <a:chOff x="61920" y="1314360"/>
                <a:chExt cx="9837360" cy="4444920"/>
              </a:xfrm>
            </p:grpSpPr>
            <p:sp>
              <p:nvSpPr>
                <p:cNvPr id="69" name="Rectangle 102"/>
                <p:cNvSpPr/>
                <p:nvPr/>
              </p:nvSpPr>
              <p:spPr>
                <a:xfrm rot="5400000">
                  <a:off x="3509640" y="-630000"/>
                  <a:ext cx="4319280" cy="84596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で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3" name="Picture 158" descr=""/>
              <p:cNvPicPr/>
              <p:nvPr/>
            </p:nvPicPr>
            <p:blipFill>
              <a:blip r:embed="rId2"/>
              <a:stretch/>
            </p:blipFill>
            <p:spPr>
              <a:xfrm>
                <a:off x="1438200" y="1438200"/>
                <a:ext cx="8342280" cy="4318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" name="Group 152"/>
              <p:cNvGrpSpPr/>
              <p:nvPr/>
            </p:nvGrpSpPr>
            <p:grpSpPr>
              <a:xfrm>
                <a:off x="61920" y="1800360"/>
                <a:ext cx="9480600" cy="3598560"/>
                <a:chOff x="61920" y="1800360"/>
                <a:chExt cx="9480600" cy="3598560"/>
              </a:xfrm>
            </p:grpSpPr>
            <p:grpSp>
              <p:nvGrpSpPr>
                <p:cNvPr id="75" name="Group 144"/>
                <p:cNvGrpSpPr/>
                <p:nvPr/>
              </p:nvGrpSpPr>
              <p:grpSpPr>
                <a:xfrm>
                  <a:off x="61920" y="1800360"/>
                  <a:ext cx="9480600" cy="3598560"/>
                  <a:chOff x="61920" y="1800360"/>
                  <a:chExt cx="9480600" cy="3598560"/>
                </a:xfrm>
              </p:grpSpPr>
              <p:sp>
                <p:nvSpPr>
                  <p:cNvPr id="76" name="Rectangle 103"/>
                  <p:cNvSpPr/>
                  <p:nvPr/>
                </p:nvSpPr>
                <p:spPr>
                  <a:xfrm rot="5400000">
                    <a:off x="3872880" y="-270720"/>
                    <a:ext cx="3598560" cy="7740720"/>
                  </a:xfrm>
                  <a:prstGeom prst="rect">
                    <a:avLst/>
                  </a:prstGeom>
                  <a:noFill/>
                  <a:ln w="324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" name="Group 130"/>
                  <p:cNvGrpSpPr/>
                  <p:nvPr/>
                </p:nvGrpSpPr>
                <p:grpSpPr>
                  <a:xfrm>
                    <a:off x="61920" y="1987560"/>
                    <a:ext cx="1736640" cy="684360"/>
                    <a:chOff x="61920" y="1987560"/>
                    <a:chExt cx="1736640" cy="684360"/>
                  </a:xfrm>
                </p:grpSpPr>
                <p:sp>
                  <p:nvSpPr>
                    <p:cNvPr id="78" name="Line 69"/>
                    <p:cNvSpPr/>
                    <p:nvPr/>
                  </p:nvSpPr>
                  <p:spPr>
                    <a:xfrm>
                      <a:off x="719280" y="2328840"/>
                      <a:ext cx="1079280" cy="0"/>
                    </a:xfrm>
                    <a:prstGeom prst="line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 Box 70"/>
                    <p:cNvSpPr/>
                    <p:nvPr/>
                  </p:nvSpPr>
                  <p:spPr>
                    <a:xfrm>
                      <a:off x="61920" y="1987560"/>
                      <a:ext cx="936720" cy="684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96960"/>
                          <a:tab algn="l" pos="1393920"/>
                          <a:tab algn="l" pos="2090880"/>
                          <a:tab algn="l" pos="2787480"/>
                          <a:tab algn="l" pos="3484440"/>
                          <a:tab algn="l" pos="4181400"/>
                          <a:tab algn="l" pos="4878360"/>
                          <a:tab algn="l" pos="5575320"/>
                          <a:tab algn="l" pos="6272280"/>
                          <a:tab algn="l" pos="6969240"/>
                          <a:tab algn="l" pos="7666200"/>
                          <a:tab algn="l" pos="8362800"/>
                          <a:tab algn="l" pos="9059760"/>
                          <a:tab algn="l" pos="9756720"/>
                          <a:tab algn="l" pos="1045368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この</a:t>
                      </a:r>
                      <a:r>
                        <a:rPr b="1" lang="ja-JP" sz="1000" spc="-1" strike="noStrike">
                          <a:solidFill>
                            <a:srgbClr val="ff0000"/>
                          </a:solidFill>
                          <a:latin typeface="Century"/>
                          <a:ea typeface="ＭＳ 明朝"/>
                        </a:rPr>
                        <a:t>水色の線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の内側に作成してください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" name="Rectangle 148"/>
                <p:cNvSpPr/>
                <p:nvPr/>
              </p:nvSpPr>
              <p:spPr>
                <a:xfrm>
                  <a:off x="8823240" y="3427560"/>
                  <a:ext cx="719280" cy="1971360"/>
                </a:xfrm>
                <a:prstGeom prst="rect">
                  <a:avLst/>
                </a:prstGeom>
                <a:solidFill>
                  <a:srgbClr val="e1ffff"/>
                </a:solidFill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44000" rIns="144000" tIns="108000" bIns="1080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1058760"/>
                      <a:tab algn="l" pos="2117880"/>
                      <a:tab algn="l" pos="3176640"/>
                      <a:tab algn="l" pos="4235400"/>
                      <a:tab algn="l" pos="5294160"/>
                      <a:tab algn="l" pos="6353280"/>
                      <a:tab algn="l" pos="7412040"/>
                      <a:tab algn="l" pos="8470800"/>
                      <a:tab algn="l" pos="9529920"/>
                      <a:tab algn="l" pos="10588680"/>
                    </a:tabLst>
                  </a:pPr>
                  <a:r>
                    <a:rPr b="1" lang="ja-JP" sz="1400" spc="-1" strike="noStrike">
                      <a:solidFill>
                        <a:srgbClr val="808080"/>
                      </a:solidFill>
                      <a:latin typeface="Arial"/>
                    </a:rPr>
                    <a:t>郵便枠エリア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55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" name="Picture 141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と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ベロ（フタ）部分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は印刷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水色の線の内側に作成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貼り合わせ部分（下図の灰色の点線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にかかるベタや、広い面積で色をつけた場合など、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色の濃淡で作成してください。色の掛け合わせは使用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Century"/>
                      <a:ea typeface="Times New Roman"/>
                    </a:rPr>
                    <a:t>正常に変換ができ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説明用の枠などは削除してください。（削除の仕方は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Century"/>
                      <a:ea typeface="Times New Roman"/>
                    </a:rPr>
                    <a:t>でご確認いただけます。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08000" indent="-10800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Ｐゴシック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ゴシック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を作成する際は、テンプレートと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が作成されている事をご確認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5" name="図 18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192000" y="72000"/>
              <a:ext cx="2561400" cy="8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A19-205</cp:lastModifiedBy>
  <dcterms:modified xsi:type="dcterms:W3CDTF">2021-08-30T21:53:09Z</dcterms:modified>
  <cp:revision>23</cp:revision>
  <dc:subject/>
  <dc:title>スライド 1</dc:title>
</cp:coreProperties>
</file>