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8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52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54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86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0026720" cy="13338000"/>
            <a:chOff x="54000" y="54000"/>
            <a:chExt cx="10026720" cy="13338000"/>
          </a:xfrm>
        </p:grpSpPr>
        <p:pic>
          <p:nvPicPr>
            <p:cNvPr id="67" name="図 8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21240" y="71280"/>
              <a:ext cx="256212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119"/>
            <p:cNvGrpSpPr/>
            <p:nvPr/>
          </p:nvGrpSpPr>
          <p:grpSpPr>
            <a:xfrm>
              <a:off x="61920" y="1314360"/>
              <a:ext cx="10018800" cy="12077640"/>
              <a:chOff x="61920" y="1314360"/>
              <a:chExt cx="10018800" cy="12077640"/>
            </a:xfrm>
          </p:grpSpPr>
          <p:sp>
            <p:nvSpPr>
              <p:cNvPr id="69" name="Rectangle 52"/>
              <p:cNvSpPr/>
              <p:nvPr/>
            </p:nvSpPr>
            <p:spPr>
              <a:xfrm>
                <a:off x="1440000" y="1441440"/>
                <a:ext cx="8640720" cy="11950560"/>
              </a:xfrm>
              <a:prstGeom prst="rect">
                <a:avLst/>
              </a:prstGeom>
              <a:noFill/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Group 74"/>
              <p:cNvGrpSpPr/>
              <p:nvPr/>
            </p:nvGrpSpPr>
            <p:grpSpPr>
              <a:xfrm>
                <a:off x="61920" y="1314360"/>
                <a:ext cx="1368360" cy="544680"/>
                <a:chOff x="61920" y="1314360"/>
                <a:chExt cx="1368360" cy="544680"/>
              </a:xfrm>
            </p:grpSpPr>
            <p:sp>
              <p:nvSpPr>
                <p:cNvPr id="71" name="Line 75"/>
                <p:cNvSpPr/>
                <p:nvPr/>
              </p:nvSpPr>
              <p:spPr>
                <a:xfrm>
                  <a:off x="871560" y="158760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76"/>
                <p:cNvSpPr/>
                <p:nvPr/>
              </p:nvSpPr>
              <p:spPr>
                <a:xfrm>
                  <a:off x="61920" y="1314360"/>
                  <a:ext cx="936360" cy="54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が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仕上がり位置で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3" name="Picture 124" descr=""/>
            <p:cNvPicPr/>
            <p:nvPr/>
          </p:nvPicPr>
          <p:blipFill>
            <a:blip r:embed="rId4"/>
            <a:stretch/>
          </p:blipFill>
          <p:spPr>
            <a:xfrm>
              <a:off x="1438200" y="1438200"/>
              <a:ext cx="8637840" cy="1174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" name="Group 87"/>
            <p:cNvGrpSpPr/>
            <p:nvPr/>
          </p:nvGrpSpPr>
          <p:grpSpPr>
            <a:xfrm>
              <a:off x="61920" y="3168360"/>
              <a:ext cx="1736640" cy="684000"/>
              <a:chOff x="61920" y="3168360"/>
              <a:chExt cx="1736640" cy="684000"/>
            </a:xfrm>
          </p:grpSpPr>
          <p:sp>
            <p:nvSpPr>
              <p:cNvPr id="75" name="Line 69"/>
              <p:cNvSpPr/>
              <p:nvPr/>
            </p:nvSpPr>
            <p:spPr>
              <a:xfrm>
                <a:off x="719280" y="3509280"/>
                <a:ext cx="107928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70"/>
              <p:cNvSpPr/>
              <p:nvPr/>
            </p:nvSpPr>
            <p:spPr>
              <a:xfrm>
                <a:off x="61920" y="3168360"/>
                <a:ext cx="936720" cy="68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水色の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の内側に作成し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126"/>
            <p:cNvGrpSpPr/>
            <p:nvPr/>
          </p:nvGrpSpPr>
          <p:grpSpPr>
            <a:xfrm>
              <a:off x="54000" y="54000"/>
              <a:ext cx="6137280" cy="900000"/>
              <a:chOff x="54000" y="54000"/>
              <a:chExt cx="6137280" cy="900000"/>
            </a:xfrm>
          </p:grpSpPr>
          <p:sp>
            <p:nvSpPr>
              <p:cNvPr id="78" name="Text Box 67"/>
              <p:cNvSpPr/>
              <p:nvPr/>
            </p:nvSpPr>
            <p:spPr>
              <a:xfrm>
                <a:off x="1512720" y="54000"/>
                <a:ext cx="467856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封筒の周囲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10mm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と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ベロ（フタ）部分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には印刷できません。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水色の線の内側に作成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貼り合わせ部分（下図の灰色の点線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にかかるベタや、広い面積で色をつけた場合など、かすれる可能性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データは黒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色の濃淡で作成してください。色の掛け合わせは使用できません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正常に変換ができ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用紙サイズの変更や、トンボの移動、変形などなさらない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説明用の枠などは削除してください。（削除の仕方は同封の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でご確認いただけます。）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を作成する際は、テンプレートと同じサイズで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が作成されている事をご確認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FSC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認証エリアには予め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FSC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マークが印刷されてい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129"/>
              <p:cNvGrpSpPr/>
              <p:nvPr/>
            </p:nvGrpSpPr>
            <p:grpSpPr>
              <a:xfrm>
                <a:off x="54000" y="54000"/>
                <a:ext cx="1332000" cy="900000"/>
                <a:chOff x="54000" y="54000"/>
                <a:chExt cx="1332000" cy="900000"/>
              </a:xfrm>
            </p:grpSpPr>
            <p:sp>
              <p:nvSpPr>
                <p:cNvPr id="80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lnSpc>
                      <a:spcPts val="1397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角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封筒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200" spc="-1" strike="noStrike">
                      <a:solidFill>
                        <a:srgbClr val="000000"/>
                      </a:solidFill>
                      <a:latin typeface="Arial"/>
                    </a:rPr>
                    <a:t>サイド貼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40×332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1" name="Picture 131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640" y="556920"/>
                  <a:ext cx="54288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2" name="グループ化 22"/>
            <p:cNvGrpSpPr/>
            <p:nvPr/>
          </p:nvGrpSpPr>
          <p:grpSpPr>
            <a:xfrm>
              <a:off x="1800000" y="3240000"/>
              <a:ext cx="7921080" cy="9255960"/>
              <a:chOff x="1800000" y="3240000"/>
              <a:chExt cx="7921080" cy="9255960"/>
            </a:xfrm>
          </p:grpSpPr>
          <p:sp>
            <p:nvSpPr>
              <p:cNvPr id="83" name="object 37"/>
              <p:cNvSpPr/>
              <p:nvPr/>
            </p:nvSpPr>
            <p:spPr>
              <a:xfrm>
                <a:off x="8745840" y="12063600"/>
                <a:ext cx="954360" cy="432360"/>
              </a:xfrm>
              <a:custGeom>
                <a:avLst/>
                <a:gdLst/>
                <a:ahLst/>
                <a:rect l="l" t="t" r="r" b="b"/>
                <a:pathLst>
                  <a:path w="954404" h="432434">
                    <a:moveTo>
                      <a:pt x="905230" y="0"/>
                    </a:moveTo>
                    <a:lnTo>
                      <a:pt x="48806" y="0"/>
                    </a:lnTo>
                    <a:lnTo>
                      <a:pt x="29810" y="4242"/>
                    </a:lnTo>
                    <a:lnTo>
                      <a:pt x="14297" y="15813"/>
                    </a:lnTo>
                    <a:lnTo>
                      <a:pt x="3836" y="32977"/>
                    </a:lnTo>
                    <a:lnTo>
                      <a:pt x="0" y="54000"/>
                    </a:lnTo>
                    <a:lnTo>
                      <a:pt x="0" y="378015"/>
                    </a:lnTo>
                    <a:lnTo>
                      <a:pt x="3836" y="399033"/>
                    </a:lnTo>
                    <a:lnTo>
                      <a:pt x="14297" y="416198"/>
                    </a:lnTo>
                    <a:lnTo>
                      <a:pt x="29810" y="427771"/>
                    </a:lnTo>
                    <a:lnTo>
                      <a:pt x="48806" y="432015"/>
                    </a:lnTo>
                    <a:lnTo>
                      <a:pt x="905230" y="432015"/>
                    </a:lnTo>
                    <a:lnTo>
                      <a:pt x="924219" y="427771"/>
                    </a:lnTo>
                    <a:lnTo>
                      <a:pt x="939720" y="416198"/>
                    </a:lnTo>
                    <a:lnTo>
                      <a:pt x="950168" y="399033"/>
                    </a:lnTo>
                    <a:lnTo>
                      <a:pt x="953998" y="378015"/>
                    </a:lnTo>
                    <a:lnTo>
                      <a:pt x="953998" y="54000"/>
                    </a:lnTo>
                    <a:lnTo>
                      <a:pt x="950168" y="32977"/>
                    </a:lnTo>
                    <a:lnTo>
                      <a:pt x="939720" y="15813"/>
                    </a:lnTo>
                    <a:lnTo>
                      <a:pt x="924219" y="4242"/>
                    </a:lnTo>
                    <a:lnTo>
                      <a:pt x="905230" y="0"/>
                    </a:lnTo>
                    <a:close/>
                  </a:path>
                </a:pathLst>
              </a:custGeom>
              <a:solidFill>
                <a:srgbClr val="e1f4fd"/>
              </a:solidFill>
              <a:ln w="3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グループ化 24"/>
              <p:cNvGrpSpPr/>
              <p:nvPr/>
            </p:nvGrpSpPr>
            <p:grpSpPr>
              <a:xfrm>
                <a:off x="1800000" y="3240000"/>
                <a:ext cx="7921080" cy="9255960"/>
                <a:chOff x="1800000" y="3240000"/>
                <a:chExt cx="7921080" cy="9255960"/>
              </a:xfrm>
            </p:grpSpPr>
            <p:sp>
              <p:nvSpPr>
                <p:cNvPr id="85" name="object 36"/>
                <p:cNvSpPr/>
                <p:nvPr/>
              </p:nvSpPr>
              <p:spPr>
                <a:xfrm>
                  <a:off x="1800000" y="3240000"/>
                  <a:ext cx="7921080" cy="9076680"/>
                </a:xfrm>
                <a:custGeom>
                  <a:avLst/>
                  <a:gdLst/>
                  <a:ahLst/>
                  <a:rect l="l" t="t" r="r" b="b"/>
                  <a:pathLst>
                    <a:path w="7920990" h="9076690">
                      <a:moveTo>
                        <a:pt x="7920520" y="8711996"/>
                      </a:moveTo>
                      <a:lnTo>
                        <a:pt x="6843293" y="8711996"/>
                      </a:lnTo>
                      <a:lnTo>
                        <a:pt x="6843293" y="9076067"/>
                      </a:lnTo>
                      <a:lnTo>
                        <a:pt x="241" y="9072003"/>
                      </a:lnTo>
                      <a:lnTo>
                        <a:pt x="0" y="0"/>
                      </a:lnTo>
                      <a:lnTo>
                        <a:pt x="7920520" y="0"/>
                      </a:lnTo>
                      <a:lnTo>
                        <a:pt x="7920520" y="8711996"/>
                      </a:lnTo>
                      <a:lnTo>
                        <a:pt x="6843293" y="8711996"/>
                      </a:lnTo>
                    </a:path>
                  </a:pathLst>
                </a:custGeom>
                <a:noFill/>
                <a:ln w="3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object 38"/>
                <p:cNvSpPr/>
                <p:nvPr/>
              </p:nvSpPr>
              <p:spPr>
                <a:xfrm>
                  <a:off x="8745840" y="12063600"/>
                  <a:ext cx="954360" cy="432360"/>
                </a:xfrm>
                <a:custGeom>
                  <a:avLst/>
                  <a:gdLst/>
                  <a:ahLst/>
                  <a:rect l="l" t="t" r="r" b="b"/>
                  <a:pathLst>
                    <a:path w="954404" h="432434">
                      <a:moveTo>
                        <a:pt x="48806" y="0"/>
                      </a:moveTo>
                      <a:lnTo>
                        <a:pt x="905230" y="0"/>
                      </a:lnTo>
                      <a:lnTo>
                        <a:pt x="924219" y="4242"/>
                      </a:lnTo>
                      <a:lnTo>
                        <a:pt x="939720" y="15813"/>
                      </a:lnTo>
                      <a:lnTo>
                        <a:pt x="950168" y="32977"/>
                      </a:lnTo>
                      <a:lnTo>
                        <a:pt x="953998" y="54000"/>
                      </a:lnTo>
                      <a:lnTo>
                        <a:pt x="953998" y="378015"/>
                      </a:lnTo>
                      <a:lnTo>
                        <a:pt x="950168" y="399033"/>
                      </a:lnTo>
                      <a:lnTo>
                        <a:pt x="939720" y="416198"/>
                      </a:lnTo>
                      <a:lnTo>
                        <a:pt x="924219" y="427771"/>
                      </a:lnTo>
                      <a:lnTo>
                        <a:pt x="905230" y="432015"/>
                      </a:lnTo>
                      <a:lnTo>
                        <a:pt x="48806" y="432015"/>
                      </a:lnTo>
                      <a:lnTo>
                        <a:pt x="29810" y="427771"/>
                      </a:lnTo>
                      <a:lnTo>
                        <a:pt x="14297" y="416198"/>
                      </a:lnTo>
                      <a:lnTo>
                        <a:pt x="3836" y="399033"/>
                      </a:lnTo>
                      <a:lnTo>
                        <a:pt x="0" y="378015"/>
                      </a:lnTo>
                      <a:lnTo>
                        <a:pt x="0" y="54000"/>
                      </a:lnTo>
                      <a:lnTo>
                        <a:pt x="3836" y="32977"/>
                      </a:lnTo>
                      <a:lnTo>
                        <a:pt x="14297" y="15813"/>
                      </a:lnTo>
                      <a:lnTo>
                        <a:pt x="29810" y="4242"/>
                      </a:lnTo>
                      <a:lnTo>
                        <a:pt x="4880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object 39"/>
                <p:cNvSpPr/>
                <p:nvPr/>
              </p:nvSpPr>
              <p:spPr>
                <a:xfrm>
                  <a:off x="8798040" y="12223080"/>
                  <a:ext cx="616320" cy="113400"/>
                </a:xfrm>
                <a:custGeom>
                  <a:avLst/>
                  <a:gdLst/>
                  <a:ahLst/>
                  <a:rect l="l" t="t" r="r" b="b"/>
                  <a:pathLst>
                    <a:path w="616584" h="113665">
                      <a:moveTo>
                        <a:pt x="61976" y="3162"/>
                      </a:moveTo>
                      <a:lnTo>
                        <a:pt x="0" y="3162"/>
                      </a:lnTo>
                      <a:lnTo>
                        <a:pt x="0" y="103047"/>
                      </a:lnTo>
                      <a:lnTo>
                        <a:pt x="14998" y="103047"/>
                      </a:lnTo>
                      <a:lnTo>
                        <a:pt x="14998" y="59105"/>
                      </a:lnTo>
                      <a:lnTo>
                        <a:pt x="57937" y="59105"/>
                      </a:lnTo>
                      <a:lnTo>
                        <a:pt x="57937" y="45618"/>
                      </a:lnTo>
                      <a:lnTo>
                        <a:pt x="14998" y="45618"/>
                      </a:lnTo>
                      <a:lnTo>
                        <a:pt x="14998" y="16776"/>
                      </a:lnTo>
                      <a:lnTo>
                        <a:pt x="61976" y="16776"/>
                      </a:lnTo>
                      <a:lnTo>
                        <a:pt x="61976" y="3162"/>
                      </a:lnTo>
                      <a:close/>
                    </a:path>
                    <a:path w="616584" h="113665">
                      <a:moveTo>
                        <a:pt x="137833" y="74714"/>
                      </a:moveTo>
                      <a:lnTo>
                        <a:pt x="109105" y="44983"/>
                      </a:lnTo>
                      <a:lnTo>
                        <a:pt x="98666" y="41338"/>
                      </a:lnTo>
                      <a:lnTo>
                        <a:pt x="92367" y="38315"/>
                      </a:lnTo>
                      <a:lnTo>
                        <a:pt x="92367" y="21183"/>
                      </a:lnTo>
                      <a:lnTo>
                        <a:pt x="99034" y="14757"/>
                      </a:lnTo>
                      <a:lnTo>
                        <a:pt x="116801" y="14757"/>
                      </a:lnTo>
                      <a:lnTo>
                        <a:pt x="122974" y="17157"/>
                      </a:lnTo>
                      <a:lnTo>
                        <a:pt x="128892" y="21310"/>
                      </a:lnTo>
                      <a:lnTo>
                        <a:pt x="132422" y="7454"/>
                      </a:lnTo>
                      <a:lnTo>
                        <a:pt x="121081" y="1155"/>
                      </a:lnTo>
                      <a:lnTo>
                        <a:pt x="109105" y="1155"/>
                      </a:lnTo>
                      <a:lnTo>
                        <a:pt x="96393" y="3302"/>
                      </a:lnTo>
                      <a:lnTo>
                        <a:pt x="86347" y="9321"/>
                      </a:lnTo>
                      <a:lnTo>
                        <a:pt x="79743" y="18529"/>
                      </a:lnTo>
                      <a:lnTo>
                        <a:pt x="77368" y="30251"/>
                      </a:lnTo>
                      <a:lnTo>
                        <a:pt x="79082" y="40259"/>
                      </a:lnTo>
                      <a:lnTo>
                        <a:pt x="84124" y="47853"/>
                      </a:lnTo>
                      <a:lnTo>
                        <a:pt x="92303" y="53594"/>
                      </a:lnTo>
                      <a:lnTo>
                        <a:pt x="103454" y="58089"/>
                      </a:lnTo>
                      <a:lnTo>
                        <a:pt x="111429" y="61087"/>
                      </a:lnTo>
                      <a:lnTo>
                        <a:pt x="117538" y="64731"/>
                      </a:lnTo>
                      <a:lnTo>
                        <a:pt x="121462" y="69507"/>
                      </a:lnTo>
                      <a:lnTo>
                        <a:pt x="122847" y="75844"/>
                      </a:lnTo>
                      <a:lnTo>
                        <a:pt x="121081" y="82638"/>
                      </a:lnTo>
                      <a:lnTo>
                        <a:pt x="116370" y="87515"/>
                      </a:lnTo>
                      <a:lnTo>
                        <a:pt x="109613" y="90474"/>
                      </a:lnTo>
                      <a:lnTo>
                        <a:pt x="101676" y="91465"/>
                      </a:lnTo>
                      <a:lnTo>
                        <a:pt x="92989" y="91465"/>
                      </a:lnTo>
                      <a:lnTo>
                        <a:pt x="85051" y="88315"/>
                      </a:lnTo>
                      <a:lnTo>
                        <a:pt x="77762" y="83159"/>
                      </a:lnTo>
                      <a:lnTo>
                        <a:pt x="73469" y="96634"/>
                      </a:lnTo>
                      <a:lnTo>
                        <a:pt x="80289" y="100393"/>
                      </a:lnTo>
                      <a:lnTo>
                        <a:pt x="87376" y="103022"/>
                      </a:lnTo>
                      <a:lnTo>
                        <a:pt x="94818" y="104571"/>
                      </a:lnTo>
                      <a:lnTo>
                        <a:pt x="102692" y="105079"/>
                      </a:lnTo>
                      <a:lnTo>
                        <a:pt x="117170" y="102793"/>
                      </a:lnTo>
                      <a:lnTo>
                        <a:pt x="128244" y="96456"/>
                      </a:lnTo>
                      <a:lnTo>
                        <a:pt x="135331" y="86842"/>
                      </a:lnTo>
                      <a:lnTo>
                        <a:pt x="137833" y="74714"/>
                      </a:lnTo>
                      <a:close/>
                    </a:path>
                    <a:path w="616584" h="113665">
                      <a:moveTo>
                        <a:pt x="236118" y="10337"/>
                      </a:moveTo>
                      <a:lnTo>
                        <a:pt x="228815" y="6248"/>
                      </a:lnTo>
                      <a:lnTo>
                        <a:pt x="221259" y="3390"/>
                      </a:lnTo>
                      <a:lnTo>
                        <a:pt x="213347" y="1701"/>
                      </a:lnTo>
                      <a:lnTo>
                        <a:pt x="205003" y="1155"/>
                      </a:lnTo>
                      <a:lnTo>
                        <a:pt x="184302" y="4787"/>
                      </a:lnTo>
                      <a:lnTo>
                        <a:pt x="167411" y="15189"/>
                      </a:lnTo>
                      <a:lnTo>
                        <a:pt x="156006" y="31597"/>
                      </a:lnTo>
                      <a:lnTo>
                        <a:pt x="151841" y="53289"/>
                      </a:lnTo>
                      <a:lnTo>
                        <a:pt x="155257" y="73177"/>
                      </a:lnTo>
                      <a:lnTo>
                        <a:pt x="165417" y="89662"/>
                      </a:lnTo>
                      <a:lnTo>
                        <a:pt x="182130" y="100914"/>
                      </a:lnTo>
                      <a:lnTo>
                        <a:pt x="205244" y="105067"/>
                      </a:lnTo>
                      <a:lnTo>
                        <a:pt x="213245" y="104635"/>
                      </a:lnTo>
                      <a:lnTo>
                        <a:pt x="221145" y="103301"/>
                      </a:lnTo>
                      <a:lnTo>
                        <a:pt x="228803" y="101028"/>
                      </a:lnTo>
                      <a:lnTo>
                        <a:pt x="236118" y="97764"/>
                      </a:lnTo>
                      <a:lnTo>
                        <a:pt x="236118" y="81521"/>
                      </a:lnTo>
                      <a:lnTo>
                        <a:pt x="229755" y="85623"/>
                      </a:lnTo>
                      <a:lnTo>
                        <a:pt x="222719" y="88760"/>
                      </a:lnTo>
                      <a:lnTo>
                        <a:pt x="214884" y="90766"/>
                      </a:lnTo>
                      <a:lnTo>
                        <a:pt x="206133" y="91465"/>
                      </a:lnTo>
                      <a:lnTo>
                        <a:pt x="188353" y="88163"/>
                      </a:lnTo>
                      <a:lnTo>
                        <a:pt x="176136" y="79451"/>
                      </a:lnTo>
                      <a:lnTo>
                        <a:pt x="169100" y="67170"/>
                      </a:lnTo>
                      <a:lnTo>
                        <a:pt x="166839" y="53162"/>
                      </a:lnTo>
                      <a:lnTo>
                        <a:pt x="169341" y="38455"/>
                      </a:lnTo>
                      <a:lnTo>
                        <a:pt x="176682" y="26212"/>
                      </a:lnTo>
                      <a:lnTo>
                        <a:pt x="188607" y="17856"/>
                      </a:lnTo>
                      <a:lnTo>
                        <a:pt x="204863" y="14757"/>
                      </a:lnTo>
                      <a:lnTo>
                        <a:pt x="213296" y="15519"/>
                      </a:lnTo>
                      <a:lnTo>
                        <a:pt x="220484" y="17576"/>
                      </a:lnTo>
                      <a:lnTo>
                        <a:pt x="226441" y="20548"/>
                      </a:lnTo>
                      <a:lnTo>
                        <a:pt x="231203" y="24066"/>
                      </a:lnTo>
                      <a:lnTo>
                        <a:pt x="236118" y="10337"/>
                      </a:lnTo>
                      <a:close/>
                    </a:path>
                    <a:path w="616584" h="113665">
                      <a:moveTo>
                        <a:pt x="291058" y="54927"/>
                      </a:moveTo>
                      <a:lnTo>
                        <a:pt x="251764" y="54927"/>
                      </a:lnTo>
                      <a:lnTo>
                        <a:pt x="251764" y="66141"/>
                      </a:lnTo>
                      <a:lnTo>
                        <a:pt x="291058" y="66141"/>
                      </a:lnTo>
                      <a:lnTo>
                        <a:pt x="291058" y="54927"/>
                      </a:lnTo>
                      <a:close/>
                    </a:path>
                    <a:path w="616584" h="113665">
                      <a:moveTo>
                        <a:pt x="291058" y="36042"/>
                      </a:moveTo>
                      <a:lnTo>
                        <a:pt x="251764" y="36042"/>
                      </a:lnTo>
                      <a:lnTo>
                        <a:pt x="251764" y="47256"/>
                      </a:lnTo>
                      <a:lnTo>
                        <a:pt x="291058" y="47256"/>
                      </a:lnTo>
                      <a:lnTo>
                        <a:pt x="291058" y="36042"/>
                      </a:lnTo>
                      <a:close/>
                    </a:path>
                    <a:path w="616584" h="113665">
                      <a:moveTo>
                        <a:pt x="291058" y="279"/>
                      </a:moveTo>
                      <a:lnTo>
                        <a:pt x="251764" y="279"/>
                      </a:lnTo>
                      <a:lnTo>
                        <a:pt x="251764" y="11493"/>
                      </a:lnTo>
                      <a:lnTo>
                        <a:pt x="291058" y="11493"/>
                      </a:lnTo>
                      <a:lnTo>
                        <a:pt x="291058" y="279"/>
                      </a:lnTo>
                      <a:close/>
                    </a:path>
                    <a:path w="616584" h="113665">
                      <a:moveTo>
                        <a:pt x="295351" y="17907"/>
                      </a:moveTo>
                      <a:lnTo>
                        <a:pt x="247853" y="17907"/>
                      </a:lnTo>
                      <a:lnTo>
                        <a:pt x="247853" y="29375"/>
                      </a:lnTo>
                      <a:lnTo>
                        <a:pt x="295351" y="29375"/>
                      </a:lnTo>
                      <a:lnTo>
                        <a:pt x="295351" y="17907"/>
                      </a:lnTo>
                      <a:close/>
                    </a:path>
                    <a:path w="616584" h="113665">
                      <a:moveTo>
                        <a:pt x="309714" y="71691"/>
                      </a:moveTo>
                      <a:lnTo>
                        <a:pt x="298119" y="70802"/>
                      </a:lnTo>
                      <a:lnTo>
                        <a:pt x="296926" y="80200"/>
                      </a:lnTo>
                      <a:lnTo>
                        <a:pt x="295300" y="87680"/>
                      </a:lnTo>
                      <a:lnTo>
                        <a:pt x="293306" y="93649"/>
                      </a:lnTo>
                      <a:lnTo>
                        <a:pt x="291058" y="98513"/>
                      </a:lnTo>
                      <a:lnTo>
                        <a:pt x="291058" y="84416"/>
                      </a:lnTo>
                      <a:lnTo>
                        <a:pt x="291058" y="73583"/>
                      </a:lnTo>
                      <a:lnTo>
                        <a:pt x="279971" y="73583"/>
                      </a:lnTo>
                      <a:lnTo>
                        <a:pt x="279971" y="84416"/>
                      </a:lnTo>
                      <a:lnTo>
                        <a:pt x="279971" y="101168"/>
                      </a:lnTo>
                      <a:lnTo>
                        <a:pt x="262978" y="101168"/>
                      </a:lnTo>
                      <a:lnTo>
                        <a:pt x="262978" y="84416"/>
                      </a:lnTo>
                      <a:lnTo>
                        <a:pt x="279971" y="84416"/>
                      </a:lnTo>
                      <a:lnTo>
                        <a:pt x="279971" y="73583"/>
                      </a:lnTo>
                      <a:lnTo>
                        <a:pt x="251764" y="73583"/>
                      </a:lnTo>
                      <a:lnTo>
                        <a:pt x="251764" y="112001"/>
                      </a:lnTo>
                      <a:lnTo>
                        <a:pt x="291058" y="112001"/>
                      </a:lnTo>
                      <a:lnTo>
                        <a:pt x="291058" y="102298"/>
                      </a:lnTo>
                      <a:lnTo>
                        <a:pt x="299999" y="108089"/>
                      </a:lnTo>
                      <a:lnTo>
                        <a:pt x="302450" y="102298"/>
                      </a:lnTo>
                      <a:lnTo>
                        <a:pt x="302920" y="101168"/>
                      </a:lnTo>
                      <a:lnTo>
                        <a:pt x="304050" y="98513"/>
                      </a:lnTo>
                      <a:lnTo>
                        <a:pt x="304228" y="98094"/>
                      </a:lnTo>
                      <a:lnTo>
                        <a:pt x="307073" y="88036"/>
                      </a:lnTo>
                      <a:lnTo>
                        <a:pt x="308813" y="78917"/>
                      </a:lnTo>
                      <a:lnTo>
                        <a:pt x="309714" y="71691"/>
                      </a:lnTo>
                      <a:close/>
                    </a:path>
                    <a:path w="616584" h="113665">
                      <a:moveTo>
                        <a:pt x="342696" y="66408"/>
                      </a:moveTo>
                      <a:lnTo>
                        <a:pt x="337591" y="61709"/>
                      </a:lnTo>
                      <a:lnTo>
                        <a:pt x="332422" y="57581"/>
                      </a:lnTo>
                      <a:lnTo>
                        <a:pt x="327139" y="53924"/>
                      </a:lnTo>
                      <a:lnTo>
                        <a:pt x="321665" y="50660"/>
                      </a:lnTo>
                      <a:lnTo>
                        <a:pt x="314363" y="59601"/>
                      </a:lnTo>
                      <a:lnTo>
                        <a:pt x="321868" y="64223"/>
                      </a:lnTo>
                      <a:lnTo>
                        <a:pt x="328028" y="68668"/>
                      </a:lnTo>
                      <a:lnTo>
                        <a:pt x="332701" y="72478"/>
                      </a:lnTo>
                      <a:lnTo>
                        <a:pt x="336029" y="75476"/>
                      </a:lnTo>
                      <a:lnTo>
                        <a:pt x="342696" y="66408"/>
                      </a:lnTo>
                      <a:close/>
                    </a:path>
                    <a:path w="616584" h="113665">
                      <a:moveTo>
                        <a:pt x="349758" y="92595"/>
                      </a:moveTo>
                      <a:lnTo>
                        <a:pt x="338416" y="89077"/>
                      </a:lnTo>
                      <a:lnTo>
                        <a:pt x="337540" y="98780"/>
                      </a:lnTo>
                      <a:lnTo>
                        <a:pt x="337172" y="101930"/>
                      </a:lnTo>
                      <a:lnTo>
                        <a:pt x="326199" y="101930"/>
                      </a:lnTo>
                      <a:lnTo>
                        <a:pt x="325183" y="101168"/>
                      </a:lnTo>
                      <a:lnTo>
                        <a:pt x="325183" y="71691"/>
                      </a:lnTo>
                      <a:lnTo>
                        <a:pt x="313359" y="71691"/>
                      </a:lnTo>
                      <a:lnTo>
                        <a:pt x="313359" y="108597"/>
                      </a:lnTo>
                      <a:lnTo>
                        <a:pt x="316255" y="113258"/>
                      </a:lnTo>
                      <a:lnTo>
                        <a:pt x="346227" y="113258"/>
                      </a:lnTo>
                      <a:lnTo>
                        <a:pt x="348373" y="106578"/>
                      </a:lnTo>
                      <a:lnTo>
                        <a:pt x="348830" y="101930"/>
                      </a:lnTo>
                      <a:lnTo>
                        <a:pt x="349758" y="92595"/>
                      </a:lnTo>
                      <a:close/>
                    </a:path>
                    <a:path w="616584" h="113665">
                      <a:moveTo>
                        <a:pt x="361975" y="279"/>
                      </a:moveTo>
                      <a:lnTo>
                        <a:pt x="299364" y="279"/>
                      </a:lnTo>
                      <a:lnTo>
                        <a:pt x="299364" y="11099"/>
                      </a:lnTo>
                      <a:lnTo>
                        <a:pt x="319151" y="11099"/>
                      </a:lnTo>
                      <a:lnTo>
                        <a:pt x="318770" y="14008"/>
                      </a:lnTo>
                      <a:lnTo>
                        <a:pt x="318516" y="15760"/>
                      </a:lnTo>
                      <a:lnTo>
                        <a:pt x="317512" y="19672"/>
                      </a:lnTo>
                      <a:lnTo>
                        <a:pt x="310083" y="17399"/>
                      </a:lnTo>
                      <a:lnTo>
                        <a:pt x="307936" y="16903"/>
                      </a:lnTo>
                      <a:lnTo>
                        <a:pt x="303657" y="16014"/>
                      </a:lnTo>
                      <a:lnTo>
                        <a:pt x="299364" y="25717"/>
                      </a:lnTo>
                      <a:lnTo>
                        <a:pt x="306679" y="27863"/>
                      </a:lnTo>
                      <a:lnTo>
                        <a:pt x="308940" y="28613"/>
                      </a:lnTo>
                      <a:lnTo>
                        <a:pt x="292442" y="47256"/>
                      </a:lnTo>
                      <a:lnTo>
                        <a:pt x="300380" y="57708"/>
                      </a:lnTo>
                      <a:lnTo>
                        <a:pt x="309562" y="51320"/>
                      </a:lnTo>
                      <a:lnTo>
                        <a:pt x="316077" y="45262"/>
                      </a:lnTo>
                      <a:lnTo>
                        <a:pt x="320624" y="39636"/>
                      </a:lnTo>
                      <a:lnTo>
                        <a:pt x="323938" y="34531"/>
                      </a:lnTo>
                      <a:lnTo>
                        <a:pt x="330390" y="37566"/>
                      </a:lnTo>
                      <a:lnTo>
                        <a:pt x="332625" y="38950"/>
                      </a:lnTo>
                      <a:lnTo>
                        <a:pt x="336397" y="41338"/>
                      </a:lnTo>
                      <a:lnTo>
                        <a:pt x="339928" y="34531"/>
                      </a:lnTo>
                      <a:lnTo>
                        <a:pt x="341820" y="30886"/>
                      </a:lnTo>
                      <a:lnTo>
                        <a:pt x="338543" y="28613"/>
                      </a:lnTo>
                      <a:lnTo>
                        <a:pt x="336651" y="27470"/>
                      </a:lnTo>
                      <a:lnTo>
                        <a:pt x="328726" y="23952"/>
                      </a:lnTo>
                      <a:lnTo>
                        <a:pt x="330136" y="19672"/>
                      </a:lnTo>
                      <a:lnTo>
                        <a:pt x="330225" y="19418"/>
                      </a:lnTo>
                      <a:lnTo>
                        <a:pt x="330987" y="16522"/>
                      </a:lnTo>
                      <a:lnTo>
                        <a:pt x="331863" y="11099"/>
                      </a:lnTo>
                      <a:lnTo>
                        <a:pt x="350888" y="11099"/>
                      </a:lnTo>
                      <a:lnTo>
                        <a:pt x="344093" y="42976"/>
                      </a:lnTo>
                      <a:lnTo>
                        <a:pt x="332511" y="42976"/>
                      </a:lnTo>
                      <a:lnTo>
                        <a:pt x="334391" y="55321"/>
                      </a:lnTo>
                      <a:lnTo>
                        <a:pt x="352031" y="55321"/>
                      </a:lnTo>
                      <a:lnTo>
                        <a:pt x="355549" y="53809"/>
                      </a:lnTo>
                      <a:lnTo>
                        <a:pt x="361861" y="11493"/>
                      </a:lnTo>
                      <a:lnTo>
                        <a:pt x="361975" y="279"/>
                      </a:lnTo>
                      <a:close/>
                    </a:path>
                    <a:path w="616584" h="113665">
                      <a:moveTo>
                        <a:pt x="367512" y="104317"/>
                      </a:moveTo>
                      <a:lnTo>
                        <a:pt x="365760" y="94564"/>
                      </a:lnTo>
                      <a:lnTo>
                        <a:pt x="363385" y="85267"/>
                      </a:lnTo>
                      <a:lnTo>
                        <a:pt x="360502" y="76581"/>
                      </a:lnTo>
                      <a:lnTo>
                        <a:pt x="357187" y="68668"/>
                      </a:lnTo>
                      <a:lnTo>
                        <a:pt x="346100" y="71691"/>
                      </a:lnTo>
                      <a:lnTo>
                        <a:pt x="348983" y="79565"/>
                      </a:lnTo>
                      <a:lnTo>
                        <a:pt x="351548" y="88036"/>
                      </a:lnTo>
                      <a:lnTo>
                        <a:pt x="353733" y="97370"/>
                      </a:lnTo>
                      <a:lnTo>
                        <a:pt x="355549" y="108089"/>
                      </a:lnTo>
                      <a:lnTo>
                        <a:pt x="367512" y="104317"/>
                      </a:lnTo>
                      <a:close/>
                    </a:path>
                    <a:path w="616584" h="113665">
                      <a:moveTo>
                        <a:pt x="421970" y="72948"/>
                      </a:moveTo>
                      <a:lnTo>
                        <a:pt x="409244" y="72948"/>
                      </a:lnTo>
                      <a:lnTo>
                        <a:pt x="409244" y="84035"/>
                      </a:lnTo>
                      <a:lnTo>
                        <a:pt x="409244" y="100914"/>
                      </a:lnTo>
                      <a:lnTo>
                        <a:pt x="392874" y="100914"/>
                      </a:lnTo>
                      <a:lnTo>
                        <a:pt x="392874" y="84035"/>
                      </a:lnTo>
                      <a:lnTo>
                        <a:pt x="409244" y="84035"/>
                      </a:lnTo>
                      <a:lnTo>
                        <a:pt x="409244" y="72948"/>
                      </a:lnTo>
                      <a:lnTo>
                        <a:pt x="380403" y="72948"/>
                      </a:lnTo>
                      <a:lnTo>
                        <a:pt x="380403" y="111747"/>
                      </a:lnTo>
                      <a:lnTo>
                        <a:pt x="421970" y="111747"/>
                      </a:lnTo>
                      <a:lnTo>
                        <a:pt x="421970" y="100914"/>
                      </a:lnTo>
                      <a:lnTo>
                        <a:pt x="421970" y="84035"/>
                      </a:lnTo>
                      <a:lnTo>
                        <a:pt x="421970" y="72948"/>
                      </a:lnTo>
                      <a:close/>
                    </a:path>
                    <a:path w="616584" h="113665">
                      <a:moveTo>
                        <a:pt x="421970" y="54546"/>
                      </a:moveTo>
                      <a:lnTo>
                        <a:pt x="380403" y="54546"/>
                      </a:lnTo>
                      <a:lnTo>
                        <a:pt x="380403" y="65887"/>
                      </a:lnTo>
                      <a:lnTo>
                        <a:pt x="421970" y="65887"/>
                      </a:lnTo>
                      <a:lnTo>
                        <a:pt x="421970" y="54546"/>
                      </a:lnTo>
                      <a:close/>
                    </a:path>
                    <a:path w="616584" h="113665">
                      <a:moveTo>
                        <a:pt x="421970" y="35915"/>
                      </a:moveTo>
                      <a:lnTo>
                        <a:pt x="380403" y="35915"/>
                      </a:lnTo>
                      <a:lnTo>
                        <a:pt x="380403" y="47129"/>
                      </a:lnTo>
                      <a:lnTo>
                        <a:pt x="421970" y="47129"/>
                      </a:lnTo>
                      <a:lnTo>
                        <a:pt x="421970" y="35915"/>
                      </a:lnTo>
                      <a:close/>
                    </a:path>
                    <a:path w="616584" h="113665">
                      <a:moveTo>
                        <a:pt x="421970" y="0"/>
                      </a:moveTo>
                      <a:lnTo>
                        <a:pt x="380403" y="0"/>
                      </a:lnTo>
                      <a:lnTo>
                        <a:pt x="380403" y="11341"/>
                      </a:lnTo>
                      <a:lnTo>
                        <a:pt x="421970" y="11341"/>
                      </a:lnTo>
                      <a:lnTo>
                        <a:pt x="421970" y="0"/>
                      </a:lnTo>
                      <a:close/>
                    </a:path>
                    <a:path w="616584" h="113665">
                      <a:moveTo>
                        <a:pt x="426008" y="17894"/>
                      </a:moveTo>
                      <a:lnTo>
                        <a:pt x="376516" y="17894"/>
                      </a:lnTo>
                      <a:lnTo>
                        <a:pt x="376516" y="29362"/>
                      </a:lnTo>
                      <a:lnTo>
                        <a:pt x="426008" y="29362"/>
                      </a:lnTo>
                      <a:lnTo>
                        <a:pt x="426008" y="17894"/>
                      </a:lnTo>
                      <a:close/>
                    </a:path>
                    <a:path w="616584" h="113665">
                      <a:moveTo>
                        <a:pt x="496036" y="97891"/>
                      </a:moveTo>
                      <a:lnTo>
                        <a:pt x="472732" y="97891"/>
                      </a:lnTo>
                      <a:lnTo>
                        <a:pt x="472732" y="57581"/>
                      </a:lnTo>
                      <a:lnTo>
                        <a:pt x="491871" y="57581"/>
                      </a:lnTo>
                      <a:lnTo>
                        <a:pt x="491871" y="45224"/>
                      </a:lnTo>
                      <a:lnTo>
                        <a:pt x="472732" y="45224"/>
                      </a:lnTo>
                      <a:lnTo>
                        <a:pt x="472732" y="12357"/>
                      </a:lnTo>
                      <a:lnTo>
                        <a:pt x="494157" y="12357"/>
                      </a:lnTo>
                      <a:lnTo>
                        <a:pt x="494157" y="12"/>
                      </a:lnTo>
                      <a:lnTo>
                        <a:pt x="428269" y="12"/>
                      </a:lnTo>
                      <a:lnTo>
                        <a:pt x="428269" y="12357"/>
                      </a:lnTo>
                      <a:lnTo>
                        <a:pt x="459765" y="12357"/>
                      </a:lnTo>
                      <a:lnTo>
                        <a:pt x="459765" y="97891"/>
                      </a:lnTo>
                      <a:lnTo>
                        <a:pt x="445909" y="97891"/>
                      </a:lnTo>
                      <a:lnTo>
                        <a:pt x="445909" y="29997"/>
                      </a:lnTo>
                      <a:lnTo>
                        <a:pt x="433057" y="29997"/>
                      </a:lnTo>
                      <a:lnTo>
                        <a:pt x="433057" y="97891"/>
                      </a:lnTo>
                      <a:lnTo>
                        <a:pt x="426008" y="97891"/>
                      </a:lnTo>
                      <a:lnTo>
                        <a:pt x="426008" y="110109"/>
                      </a:lnTo>
                      <a:lnTo>
                        <a:pt x="496036" y="110109"/>
                      </a:lnTo>
                      <a:lnTo>
                        <a:pt x="496036" y="97891"/>
                      </a:lnTo>
                      <a:close/>
                    </a:path>
                    <a:path w="616584" h="113665">
                      <a:moveTo>
                        <a:pt x="616127" y="85534"/>
                      </a:moveTo>
                      <a:lnTo>
                        <a:pt x="570903" y="85534"/>
                      </a:lnTo>
                      <a:lnTo>
                        <a:pt x="570903" y="24574"/>
                      </a:lnTo>
                      <a:lnTo>
                        <a:pt x="609574" y="24574"/>
                      </a:lnTo>
                      <a:lnTo>
                        <a:pt x="609574" y="10604"/>
                      </a:lnTo>
                      <a:lnTo>
                        <a:pt x="517994" y="10604"/>
                      </a:lnTo>
                      <a:lnTo>
                        <a:pt x="517994" y="24574"/>
                      </a:lnTo>
                      <a:lnTo>
                        <a:pt x="556171" y="24574"/>
                      </a:lnTo>
                      <a:lnTo>
                        <a:pt x="556171" y="85534"/>
                      </a:lnTo>
                      <a:lnTo>
                        <a:pt x="511441" y="85534"/>
                      </a:lnTo>
                      <a:lnTo>
                        <a:pt x="511441" y="99504"/>
                      </a:lnTo>
                      <a:lnTo>
                        <a:pt x="616127" y="99504"/>
                      </a:lnTo>
                      <a:lnTo>
                        <a:pt x="616127" y="85534"/>
                      </a:lnTo>
                      <a:close/>
                    </a:path>
                  </a:pathLst>
                </a:custGeom>
                <a:solidFill>
                  <a:srgbClr val="00b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8" name="object 4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440280" y="12225960"/>
                  <a:ext cx="770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object 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542520" y="12229200"/>
                  <a:ext cx="104760" cy="102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4712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881360" indent="-376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2637000" indent="-3780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A19-205</cp:lastModifiedBy>
  <dcterms:modified xsi:type="dcterms:W3CDTF">2021-08-30T19:49:13Z</dcterms:modified>
  <cp:revision>20</cp:revision>
  <dc:subject/>
  <dc:title>スライド 1</dc:title>
</cp:coreProperties>
</file>